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dt" idx="4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ftr" idx="4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 type="sldNum" idx="4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50F7-C573-4B47-BAA2-DA0BB893FB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1E9-56CA-4A5A-8F48-F05439A0C84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CV- Mean corpuscular volu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lls average size of red blood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DW-RED CELL DISTRIBUTION WIDTH- measure volume and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0FCB-7109-4600-B86A-B71F4F3AB87F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l- fluid o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082B-8C5B-4F0C-BFCA-70F7538252B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ikilocytosis- abnl shaped R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84A0-1E40-4C6A-8169-AF6A408E112E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NISOCYTOSIS-UNEQUAL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1690-11C7-4EC3-91B2-34FE88308BDC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BNL SH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5DFB-C0AD-4ACF-B592-53E54A8D084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ERRITIN –PROTEIN THAT STORES 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0623-44CD-463E-A1DD-01BCC2462E1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93B4-B69F-47EC-AD47-C6DE6028E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A649D-D61A-427A-8BF8-D8F2D217D57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7B43D-9831-4971-ABE1-1127C3E7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CBA510-A140-439F-AB3D-4FBA92E8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1D25E1-5693-44C8-9D9E-56A470BE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93ED96-168B-4A5F-8670-3A794080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8AC98-A0A8-4A22-B2BD-E785DDAB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EE0436-4A59-4072-8E09-9BA6392E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0AA058-E9F5-426B-B556-79BE57E4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683DBD-81E6-4C51-BE9A-92E2E22D9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C8B5B5-5777-46BF-9C4F-BF7AC4653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D79D2A-CFEB-4901-A5ED-FA47BEE8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72333-1B2C-49F0-9B56-EC8463C58A7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471C51-1E12-46C1-A463-ABF64976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CCD622-E9ED-4C56-9A76-5A5B1E52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DAAFB0-40D0-48F2-B027-679E9429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92B335-44F9-4B2C-95DE-24082E1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11F979-DCE9-4B36-B493-1C2C53F0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F8481A-272C-4499-BF73-B7F27296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FFA6AE-5070-4591-B3DF-A4D20B12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9394FB-1D89-4CE0-8881-0F75475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FAC63A-9C8E-44F3-8B13-2A59398E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BEEEB-8199-426A-8E71-D03855395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14F05-4D8E-4E75-8FF6-D96733B9999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58AD9A-5F2B-4919-BEAE-26E828C2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3D79FB-4A99-4E8F-A958-44AA65BF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0040CC-2272-4A98-94EC-FA0DE7E2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86F589-2BAB-487F-86A5-FD20E522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79669E-795F-45AA-95B2-32C54400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BC0DBB-762A-454F-8CFD-B87D4D70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30E0B14-EAD5-4F58-AC0D-F6A3949A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14E530-5D4C-4493-8DE8-5DC398A2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2826A6-2F04-4A13-B74F-7F5DF579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359AF6-9929-43B0-B196-C5FDFA97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3B7DE-2F21-4E5E-996C-DCAB12D3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F275DA-FABD-4AC2-BA17-FED6D687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47474F-010E-46F9-AC51-25689391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24D95C-7721-4ADF-88AA-E9A03A15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A59CE62-0101-482B-A718-EDA636A59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28C694-6BA7-4762-992B-39DFD731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421A72-5F43-4D21-A960-2F784AD7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A9717D7-EAC8-4F2D-A2F3-C289C2B1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BE1C01-3E75-4223-87D4-066B3710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9377AA-6810-4ABD-8F96-7CE62F4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360B14C-BC1E-4153-A501-F535E4A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26E28-DA16-4C76-88BC-2ECA9F2A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BE8CCD-59B3-48E1-9B7D-E95F713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199FD26-2E07-4B1B-A66F-575AD675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5AD11A-0213-4117-8E96-3A3D2DC7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4FA614-D3BC-4362-B7AD-F1A8C318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270EFA-0CED-4358-8706-84D17B4B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A3593F-9ADB-4E44-919F-7C33F137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6E716D-8995-4849-B1CF-2B03854D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397BF69-404A-4BE4-A27D-ADE3809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FA7EF6-7B9C-4355-9DCB-E52CB0EC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EA3B32-5434-4F3D-9032-1C5D8D62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BD83A-6282-4487-AB5B-01B088B5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9D3C9C6-9B3C-461E-9D05-BA88EA8E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5C77404-D793-4AD8-8991-4275EBA7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40C393-AF4F-489D-9EA3-799E1EFC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CDFD4A-DD99-4932-85F5-3BBDA4B1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4517C3-0B97-425D-BAD6-82439F49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75B8B8-87AA-49D5-80D3-78F668F3C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72F689-A6E2-41A7-8985-FCB60CED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07A46A-B156-4258-B013-95043D271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446EC9-C740-4ED0-9AD2-FE1BCB4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181046-CAC1-487A-A6DC-7B1CC5CA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E101A-3CB3-4459-9C92-7D5CECCD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0F2F079-7267-46BC-813A-E34DE3E5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9B8301-5D72-4D11-927E-B932B7CF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F56CBD-01E0-449A-96AC-ADBF22A6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56B6F62-F4CF-4ABF-AADA-C05B834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C637B5-DF4E-4C5A-958D-671B0D7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2D0F95C-4A93-478A-A4F7-DB2FAD75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4CC4A9-665B-4C5C-9E11-652F0954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D1360D-073B-4283-BC35-E13B6E94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DE0F5F-7D5F-4249-B42F-4D70E7C94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468122-A9DB-4FBD-81A4-52B74FF850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FD583-9CDB-46E1-9071-2E42AFD3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118025-CDA5-4B53-8276-D82CB77A5A6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4A48B7-27E2-48BD-9EAA-D3970C1A8A1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EFAF80-0992-4C67-94CE-504848707AA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1D904F-5765-4EB2-BB20-7D24EDE4ADF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18CFE1-9C0A-4D33-A166-D3D854A1423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5F033B8-B9C3-4174-8773-B84879F6C3C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FF58719-E931-4B76-A5D1-7F0E53F202A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E22287-3645-4A47-B584-6A42896AD5F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031A8C-0179-46D3-BC58-0A78D60320D9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302049-9792-4065-B2DB-BAE5631726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DDBB4-B927-4358-9C17-28BB269C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40031A9-245E-42BD-AF8B-8AB5A1D6E8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7D800-3F73-47B3-B80E-5BFC9314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7A0C-21CC-44B8-9BB0-BEBFEB7431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5FFC4-F34B-4669-9BA7-B1F8C545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F3B53-BC64-46EE-A8AB-A3642FA2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516D3-281C-4612-9069-4E168088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06BEE-BBC2-427F-9710-456E8B20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933DA-AC27-4465-81E6-92CD1C5E9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C327E-2444-4DC4-8141-CA0AB8D643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325E3-EBCA-437C-83DE-19462F12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338699-54F9-4CBB-A7D5-A722FEAB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F60149-86DF-410D-B93C-A08968700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EF1E3-656A-419D-8477-3705169EA65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FCD94-5F19-4752-9D69-3CD6F1E9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7C054-EEB6-4F8D-B6D8-170C2C34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8B5739-0FF8-4D7A-A4DD-2730DEFA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5A7FE-371F-408D-A199-88ECD5B8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6DA064-6D16-4068-A3A4-D4E9C25F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F80699-F9F4-45B1-A363-C274CE71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58B6C-847E-4765-A302-4140BD00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102DE-F5B2-412B-9D2F-529E7444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21687C-519F-4E33-9F01-C0175227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20DDCD-1346-40E5-B9DF-F8C01F79C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C634-C6AA-4DC5-86C5-4BE0C2CD5F5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7FF7B-8AE4-4302-81CA-AF849BC5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FEC79-1E41-4A03-B9F4-49A82448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B7FE45-00FE-470B-AB8A-297111DB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79A6F3-DBFA-417D-BB6C-676FC424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46A6CB-105B-4324-8ACE-3DAE82F7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57B54-79E5-446E-A68D-F06CA8AD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1F2593-F7B1-4A6E-B50D-6FB73D05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63D150-8E11-4AA7-AA9C-7DE26420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69106-A0BB-4E6D-BAB9-4534778F8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D90F64-97F0-4F36-A4BC-9DF1E9C5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3E77-DD59-4753-8D93-D6C7BBF235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D96297-E7A1-4277-8798-ED567FDE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A9F5E7-F55C-44A5-9BE5-174D763A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46D8F-59E1-46F5-85EE-FC252A22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F4E669-625C-418F-A1CA-3FC8F8AF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F97BF-9B06-4F8A-9E41-B6B8630C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132C7-8A20-4521-ABF3-C60C69F2B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7E0BA-68CE-48E0-8F05-EB67D7F2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E1FC42-5A31-4133-9755-30321184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B94CA-D5B6-48A2-9107-4D11AB0C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7102B2-4BBE-4B2A-8C22-9F02E235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DB947-E2C2-4D2F-946B-943C5D45D9E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96CA4-937D-4D35-8453-B78F872F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63683-2965-41A4-AB22-002E3C74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B2F68-7C86-4840-AAAE-BAFE4CB8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EE3C47-17B1-48EC-A320-CBD48E1C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EA69C5-ED34-4E01-9C3D-01B181DA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547033-9166-467B-80B2-69742BAA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F1FBDC-EA1E-4109-B200-52AE581E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7A992-3C0A-4064-A51E-345F5896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F2F7A8-CD7B-4791-9B31-8C3431AC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575D81-79D4-4A4F-9648-ADFE1E90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35574-26FB-4F50-BBF1-4F5B0210518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43D5CD-B67C-435B-9B28-B7F6EA9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0BE46B-C4D0-415D-841B-1E3601F4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4678A-799C-42D1-956F-79654AC1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554697-AFBB-4C8A-9410-19498083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42B2E9-2D46-4DC9-BC0F-80C68CF2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F7640-0D1F-4146-ABED-6E39FB80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ABFD6-B593-4017-A7DE-F15D6CD8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47412B-071E-420B-90F6-032A90C9B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6F77B4-1388-41E4-9CDC-FF30A874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59A65D-D9C9-4180-9A3A-33853F09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AFDFB-BB4B-4EF4-B2E4-6A93603FC9E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B126B-1468-4533-845C-8B73685D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AAD34-5315-4D45-A1A9-AA596116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99DFC-EA40-48C4-BA92-F201F73D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840142-2856-440D-92C0-8143BD7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41822-267C-4970-B6F6-DAD597D2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15643B-D40D-4348-AFFD-0981FEAF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82F27-240B-4499-BE9D-2C31ADAB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00AC48-30FC-4CDC-BBFA-7EC178033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6F7720-A4F1-4FA4-82D9-9E2718A0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728493-E5C2-42A7-96CC-D0A2D492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6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ftr" idx="1"/>
          </p:nvPr>
        </p:nvSpPr>
        <p:spPr>
          <a:xfrm>
            <a:off x="76320" y="63244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Arial"/>
              </a:rPr>
              <a:t>www.drsarma.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ldNum" idx="2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D043-EA95-4AC9-838D-419B70F440A6}" type="slidenum">
              <a:rPr b="0" lang="ar-SA" sz="1400" spc="-1" strike="noStrike">
                <a:solidFill>
                  <a:srgbClr val="ffffcc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412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AF39-324F-4110-A063-18D7777E0E3C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458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C485-693E-4025-A40E-154DC15A9170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504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E7CC-7CBD-456A-81EA-21D2A0FA9DB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550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D347-8CFE-4AD0-B2F5-E39F7C174A45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596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C614-4B2A-4A53-A51A-D72759DA915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642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39"/>
          </p:nvPr>
        </p:nvSpPr>
        <p:spPr>
          <a:xfrm>
            <a:off x="76320" y="632448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40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3E36-159C-4192-816A-DB6E83B70CA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1C16-40CF-43B0-B8C4-56F4606BA1B8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54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95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36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FBC4-D959-422E-B572-92451B1CABF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82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D506-14D1-4063-9CB0-2D37EEDDAF07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228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14B3-ECFE-4D4B-B963-85A300521F6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274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4134-BB66-4742-B9D6-791D5D0FDBA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320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5E65-B85E-42C4-9F6E-707DC42D9BA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7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366" name="Arc 8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Arc 9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Arc 10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AutoShape 1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rsarma.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9701-3601-4502-AB63-24E6777E95A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0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ANAEMIAS IN CHILDR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10000"/>
              </a:lnSpc>
              <a:spcBef>
                <a:spcPts val="9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Also Anemia can be classified by using two basic approaches: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10000"/>
              </a:lnSpc>
              <a:spcBef>
                <a:spcPts val="9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Etiology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(mechanism): 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causes of erythrocyte and hemoglobin depletion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10000"/>
              </a:lnSpc>
              <a:spcBef>
                <a:spcPts val="92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Morphology</a:t>
            </a:r>
            <a:r>
              <a:rPr b="0" lang="en-US" sz="3700" spc="-1" strike="noStrike">
                <a:solidFill>
                  <a:srgbClr val="000000"/>
                </a:solidFill>
                <a:latin typeface="Calibri"/>
                <a:ea typeface="Times New Roman"/>
              </a:rPr>
              <a:t>: the characteristic changes (size, shape, and color) in the erythrocytes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8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 to Diagnosis of An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ailed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eful physical ex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ipheral blood sme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 cell morp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D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BC and platelet morp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e marrow 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te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amily histo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nvironmental exposures e.g le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mptoms (headache, exertional dyspnea, fatigue, dizziness, weakness, mood or sleep disturbances, tinnitus, loss of appetite, poor growth, irritability, constipatio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sical examin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Pallor- skin, mucous membranes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Jaundice,Purpura/bleeding, lymphanedopathy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achycardia + CCF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Tachypnea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thostatic hypo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enous h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ystolic ejection murmu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ipheral ed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pato-splenomegal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lossitis, mouth ulcers, pale brittle nai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ingival pigm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7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7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7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Morphological changes of RBCs and H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609480" y="1143000"/>
          <a:ext cx="7848720" cy="5562720"/>
        </p:xfrm>
        <a:graphic>
          <a:graphicData uri="http://schemas.openxmlformats.org/drawingml/2006/table">
            <a:tbl>
              <a:tblPr/>
              <a:tblGrid>
                <a:gridCol w="2398680"/>
                <a:gridCol w="5450040"/>
              </a:tblGrid>
              <a:tr h="514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l siz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ocytes- Normal size of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cytes- Smaller than normal size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crocytes- larger than normal size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isocytes- Various siz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l 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ikilocytes- Irregularly shaped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herocytes- Globular shaped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epanocytes- Sickle shaped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ll Col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refers to Hb amount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ochromic- Normal amounts of H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erchromic- high concentration of H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pochromic- low concentration of H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BC INDICES: Mean Cell Volume (MCV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BC size is measured indirectly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Mean Cell Volume (MCV) and RD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6" name="Group 30"/>
          <p:cNvGrpSpPr/>
          <p:nvPr/>
        </p:nvGrpSpPr>
        <p:grpSpPr>
          <a:xfrm>
            <a:off x="228600" y="1447920"/>
            <a:ext cx="8610480" cy="4711680"/>
            <a:chOff x="228600" y="1447920"/>
            <a:chExt cx="8610480" cy="4711680"/>
          </a:xfrm>
        </p:grpSpPr>
        <p:sp>
          <p:nvSpPr>
            <p:cNvPr id="727" name="Text Box 6"/>
            <p:cNvSpPr/>
            <p:nvPr/>
          </p:nvSpPr>
          <p:spPr>
            <a:xfrm>
              <a:off x="228600" y="2875680"/>
              <a:ext cx="2514600" cy="581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icrocyt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Text Box 10"/>
            <p:cNvSpPr/>
            <p:nvPr/>
          </p:nvSpPr>
          <p:spPr>
            <a:xfrm>
              <a:off x="609480" y="4280760"/>
              <a:ext cx="1676520" cy="581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&lt; 80 f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Text Box 12"/>
            <p:cNvSpPr/>
            <p:nvPr/>
          </p:nvSpPr>
          <p:spPr>
            <a:xfrm>
              <a:off x="3657600" y="1447920"/>
              <a:ext cx="2057400" cy="55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MC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Text Box 15"/>
            <p:cNvSpPr/>
            <p:nvPr/>
          </p:nvSpPr>
          <p:spPr>
            <a:xfrm>
              <a:off x="3429000" y="2875680"/>
              <a:ext cx="2514600" cy="5814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rmocyt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Text Box 16"/>
            <p:cNvSpPr/>
            <p:nvPr/>
          </p:nvSpPr>
          <p:spPr>
            <a:xfrm>
              <a:off x="6324480" y="2875680"/>
              <a:ext cx="251460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acrocyt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Text Box 17"/>
            <p:cNvSpPr/>
            <p:nvPr/>
          </p:nvSpPr>
          <p:spPr>
            <a:xfrm>
              <a:off x="3429000" y="4280760"/>
              <a:ext cx="2514600" cy="5814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0 -100 f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Text Box 19"/>
            <p:cNvSpPr/>
            <p:nvPr/>
          </p:nvSpPr>
          <p:spPr>
            <a:xfrm>
              <a:off x="6629400" y="4280760"/>
              <a:ext cx="190512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&gt; 100 f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Text Box 20"/>
            <p:cNvSpPr/>
            <p:nvPr/>
          </p:nvSpPr>
          <p:spPr>
            <a:xfrm>
              <a:off x="609480" y="5578200"/>
              <a:ext cx="1676520" cy="581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&lt; 6.5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µ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Text Box 21"/>
            <p:cNvSpPr/>
            <p:nvPr/>
          </p:nvSpPr>
          <p:spPr>
            <a:xfrm>
              <a:off x="3657600" y="5578200"/>
              <a:ext cx="1905120" cy="5814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.5 - 9 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µ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Text Box 22"/>
            <p:cNvSpPr/>
            <p:nvPr/>
          </p:nvSpPr>
          <p:spPr>
            <a:xfrm>
              <a:off x="6781680" y="5578200"/>
              <a:ext cx="167652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&gt; 9 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µ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7" name="AutoShape 23"/>
            <p:cNvCxnSpPr>
              <a:stCxn id="729" idx="1"/>
              <a:endCxn id="727" idx="0"/>
            </p:cNvCxnSpPr>
            <p:nvPr/>
          </p:nvCxnSpPr>
          <p:spPr>
            <a:xfrm flipV="1" rot="10800000">
              <a:off x="1486080" y="1837440"/>
              <a:ext cx="2171880" cy="1038600"/>
            </a:xfrm>
            <a:prstGeom prst="bentConnector2">
              <a:avLst/>
            </a:prstGeom>
            <a:ln w="28440">
              <a:solidFill>
                <a:srgbClr val="1f497d"/>
              </a:solidFill>
              <a:miter/>
              <a:tailEnd len="med" type="triangle" w="med"/>
            </a:ln>
          </p:spPr>
        </p:cxnSp>
        <p:cxnSp>
          <p:nvCxnSpPr>
            <p:cNvPr id="738" name="AutoShape 25"/>
            <p:cNvCxnSpPr>
              <a:stCxn id="729" idx="2"/>
              <a:endCxn id="730" idx="0"/>
            </p:cNvCxnSpPr>
            <p:nvPr/>
          </p:nvCxnSpPr>
          <p:spPr>
            <a:xfrm>
              <a:off x="4686120" y="2226960"/>
              <a:ext cx="1080" cy="649080"/>
            </a:xfrm>
            <a:prstGeom prst="straightConnector1">
              <a:avLst/>
            </a:prstGeom>
            <a:ln w="28440">
              <a:solidFill>
                <a:srgbClr val="1f497d"/>
              </a:solidFill>
              <a:miter/>
              <a:tailEnd len="med" type="triangle" w="med"/>
            </a:ln>
          </p:spPr>
        </p:cxnSp>
        <p:cxnSp>
          <p:nvCxnSpPr>
            <p:cNvPr id="739" name="AutoShape 27"/>
            <p:cNvCxnSpPr>
              <a:stCxn id="729" idx="3"/>
              <a:endCxn id="731" idx="0"/>
            </p:cNvCxnSpPr>
            <p:nvPr/>
          </p:nvCxnSpPr>
          <p:spPr>
            <a:xfrm>
              <a:off x="5715000" y="1837440"/>
              <a:ext cx="1867680" cy="1038600"/>
            </a:xfrm>
            <a:prstGeom prst="bentConnector2">
              <a:avLst/>
            </a:prstGeom>
            <a:ln w="28440">
              <a:solidFill>
                <a:srgbClr val="1f497d"/>
              </a:solidFill>
              <a:miter/>
              <a:tailEnd len="med" type="triangle" w="med"/>
            </a:ln>
          </p:spPr>
        </p:cxnSp>
      </p:grpSp>
    </p:spTree>
  </p:cSld>
  <p:transition spd="slow"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 Cell Volume (MCV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1" name="Group 24"/>
          <p:cNvGrpSpPr/>
          <p:nvPr/>
        </p:nvGrpSpPr>
        <p:grpSpPr>
          <a:xfrm>
            <a:off x="228600" y="1676520"/>
            <a:ext cx="8839080" cy="4689720"/>
            <a:chOff x="228600" y="1676520"/>
            <a:chExt cx="8839080" cy="4689720"/>
          </a:xfrm>
        </p:grpSpPr>
        <p:sp>
          <p:nvSpPr>
            <p:cNvPr id="742" name="Text Box 5"/>
            <p:cNvSpPr/>
            <p:nvPr/>
          </p:nvSpPr>
          <p:spPr>
            <a:xfrm>
              <a:off x="304920" y="2682720"/>
              <a:ext cx="2514600" cy="58140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icrocyt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Text Box 7"/>
            <p:cNvSpPr/>
            <p:nvPr/>
          </p:nvSpPr>
          <p:spPr>
            <a:xfrm>
              <a:off x="3733920" y="1676520"/>
              <a:ext cx="2057400" cy="550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MCV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Text Box 8"/>
            <p:cNvSpPr/>
            <p:nvPr/>
          </p:nvSpPr>
          <p:spPr>
            <a:xfrm>
              <a:off x="3505320" y="2682720"/>
              <a:ext cx="2514600" cy="5814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rmocyt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Text Box 9"/>
            <p:cNvSpPr/>
            <p:nvPr/>
          </p:nvSpPr>
          <p:spPr>
            <a:xfrm>
              <a:off x="6400800" y="2682720"/>
              <a:ext cx="251460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Macrocytic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AutoShape 15"/>
            <p:cNvCxnSpPr>
              <a:stCxn id="743" idx="1"/>
              <a:endCxn id="742" idx="0"/>
            </p:cNvCxnSpPr>
            <p:nvPr/>
          </p:nvCxnSpPr>
          <p:spPr>
            <a:xfrm flipV="1" rot="10800000">
              <a:off x="1561320" y="1950840"/>
              <a:ext cx="2172600" cy="732240"/>
            </a:xfrm>
            <a:prstGeom prst="bentConnector2">
              <a:avLst/>
            </a:prstGeom>
            <a:ln w="28440">
              <a:solidFill>
                <a:srgbClr val="1f497d"/>
              </a:solidFill>
              <a:miter/>
              <a:tailEnd len="med" type="triangle" w="med"/>
            </a:ln>
          </p:spPr>
        </p:cxnSp>
        <p:cxnSp>
          <p:nvCxnSpPr>
            <p:cNvPr id="747" name="AutoShape 17"/>
            <p:cNvCxnSpPr>
              <a:stCxn id="743" idx="2"/>
              <a:endCxn id="744" idx="0"/>
            </p:cNvCxnSpPr>
            <p:nvPr/>
          </p:nvCxnSpPr>
          <p:spPr>
            <a:xfrm>
              <a:off x="4762080" y="2225520"/>
              <a:ext cx="1080" cy="457920"/>
            </a:xfrm>
            <a:prstGeom prst="straightConnector1">
              <a:avLst/>
            </a:prstGeom>
            <a:ln w="28440">
              <a:solidFill>
                <a:srgbClr val="1f497d"/>
              </a:solidFill>
              <a:miter/>
              <a:tailEnd len="med" type="triangle" w="med"/>
            </a:ln>
          </p:spPr>
        </p:cxnSp>
        <p:sp>
          <p:nvSpPr>
            <p:cNvPr id="748" name="Rectangle 19"/>
            <p:cNvSpPr/>
            <p:nvPr/>
          </p:nvSpPr>
          <p:spPr>
            <a:xfrm>
              <a:off x="228600" y="3505320"/>
              <a:ext cx="2895480" cy="23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ron Deficiency (IDA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Chronic Infec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Thalassemi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emoglobinopath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Sideroblastic Anemi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Rectangle 20"/>
            <p:cNvSpPr/>
            <p:nvPr/>
          </p:nvSpPr>
          <p:spPr>
            <a:xfrm>
              <a:off x="3200400" y="3505320"/>
              <a:ext cx="3124080" cy="28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Chronic diseases, CK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Early I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emoglobinopath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Primary marrow disord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Combined deficienc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ncreased destr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Rectangle 21"/>
            <p:cNvSpPr/>
            <p:nvPr/>
          </p:nvSpPr>
          <p:spPr>
            <a:xfrm>
              <a:off x="6248520" y="3505320"/>
              <a:ext cx="2819160" cy="28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egaloblastic anemi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Liver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isease/alcoho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Hemoglobinopathi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etabolic disord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Marrow disord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ncreased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destru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1" name="AutoShape 22"/>
            <p:cNvCxnSpPr>
              <a:stCxn id="743" idx="3"/>
              <a:endCxn id="745" idx="0"/>
            </p:cNvCxnSpPr>
            <p:nvPr/>
          </p:nvCxnSpPr>
          <p:spPr>
            <a:xfrm>
              <a:off x="5791320" y="1951200"/>
              <a:ext cx="1867680" cy="732240"/>
            </a:xfrm>
            <a:prstGeom prst="bentConnector2">
              <a:avLst/>
            </a:prstGeom>
            <a:ln w="28440">
              <a:solidFill>
                <a:srgbClr val="1f497d"/>
              </a:solidFill>
              <a:miter/>
              <a:tailEnd len="med" type="triangle" w="med"/>
            </a:ln>
          </p:spPr>
        </p:cxnSp>
      </p:grpSp>
    </p:spTree>
  </p:cSld>
  <p:transition spd="slow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Morphological classification of an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acrocytic-normochrom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rythrocytes are large and abnormally shaped but hemoglobin is normal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(megaloblastic anem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icrocytic-hypochrom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erythrocytes are small and hemoglobin is reduced. results from irregular iron metabolism, porphryin, and globin synthesis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(iron-deficiency, sideroblastic, thalassemia, chronic disease anem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7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ormocytic-normochromic an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4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oth the erythrocytes size and the hemoglobin content are normal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aplastic, posthemorrhagic, hemolytic, chronic disease anemias, sickle cel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assification of an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vestigative t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lood smear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eatmen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6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6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crocytic Anem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Megaloblastic Macrocytic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1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Folate</a:t>
            </a:r>
            <a:r>
              <a:rPr b="0" lang="en-US" sz="3200" spc="-1" strike="noStrike">
                <a:solidFill>
                  <a:srgbClr val="000000"/>
                </a:solidFill>
                <a:latin typeface="SimSun"/>
                <a:ea typeface="SimSun"/>
              </a:rPr>
              <a:t>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B.  Non Megaloblastic Macrocy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lcohol ab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ver disease/alcoh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oglobinopath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pothyroid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ugs (cytotoxics, immuno suppressants, AZT, anticonvulsan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7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7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7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7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7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alibri"/>
              </a:rPr>
              <a:t>Megaloblastic an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aused by deficiencies of vitamin B12 and /or folate that lead to defective DNA synthesis and, consequently, ineffective erythropoiesis (cell formatio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unusually large stem cells (megaloblasts) in the bone marrow mature into abnormally large erythrocytes (macrocytes) in the circul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oduces large, abnormally shaped erythrocytes (MCV &gt; 100 fl) with normal Hb concentr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egaloblastic stem cells are larger at all maturational stages than normal stem cells (normoblas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nucleus of the megaloblast is unusually small in relation to the size of the cel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Other common causes of macrocytic anemia include alcohol abuse, liver disease, and hypothyroidis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galoblastic an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0" y="9903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Pathological features: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BC: macrocytic with anisocytosis (↑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  <a:ea typeface="SimSun"/>
              </a:rPr>
              <a:t>↑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RDW) and poikilocyto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Polymorphonuclear neutrophils (PMN): nuclear hypersegmen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Mild to moderate leucopenia and thrombocytopen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Bone marrow: hypercellularity with abnormality of the three major hematopoietic cell 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7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7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7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7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crocytic an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152280" y="4419720"/>
            <a:ext cx="8991720" cy="25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70000"/>
              </a:lnSpc>
              <a:buClr>
                <a:srgbClr val="4f81b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rocy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ompare the size of the RBC to the lymphocyte at the lower left c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70000"/>
              </a:lnSpc>
              <a:buClr>
                <a:srgbClr val="4f81b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segmented neutrophi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present along with macrocytes in megaloblastic anem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4" name="Group 9"/>
          <p:cNvGrpSpPr/>
          <p:nvPr/>
        </p:nvGrpSpPr>
        <p:grpSpPr>
          <a:xfrm>
            <a:off x="1600200" y="1066680"/>
            <a:ext cx="4781520" cy="3200040"/>
            <a:chOff x="1600200" y="1066680"/>
            <a:chExt cx="4781520" cy="3200040"/>
          </a:xfrm>
        </p:grpSpPr>
        <p:pic>
          <p:nvPicPr>
            <p:cNvPr id="765" name="Picture 5" descr=""/>
            <p:cNvPicPr/>
            <p:nvPr/>
          </p:nvPicPr>
          <p:blipFill>
            <a:blip r:embed="rId1"/>
            <a:stretch/>
          </p:blipFill>
          <p:spPr>
            <a:xfrm>
              <a:off x="1600200" y="1066680"/>
              <a:ext cx="4781520" cy="32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Text Box 7"/>
            <p:cNvSpPr/>
            <p:nvPr/>
          </p:nvSpPr>
          <p:spPr>
            <a:xfrm>
              <a:off x="3567960" y="3637800"/>
              <a:ext cx="1140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lymphocy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8"/>
            <p:cNvSpPr/>
            <p:nvPr/>
          </p:nvSpPr>
          <p:spPr>
            <a:xfrm flipH="1">
              <a:off x="3428640" y="3801600"/>
              <a:ext cx="152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split dir="in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isocytosis - Macrocytic Anemi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different sizes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3" descr="macro"/>
          <p:cNvPicPr/>
          <p:nvPr/>
        </p:nvPicPr>
        <p:blipFill>
          <a:blip r:embed="rId1"/>
          <a:stretch/>
        </p:blipFill>
        <p:spPr>
          <a:xfrm>
            <a:off x="1219320" y="1755720"/>
            <a:ext cx="6705360" cy="456876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p:transition spd="slow">
    <p:split dir="in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ikilocytosis - Macrocytic Anemia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ifferent shap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1" name="Picture 3" descr="poikilo"/>
          <p:cNvPicPr/>
          <p:nvPr/>
        </p:nvPicPr>
        <p:blipFill>
          <a:blip r:embed="rId1"/>
          <a:srcRect l="0" t="0" r="0" b="9447"/>
          <a:stretch/>
        </p:blipFill>
        <p:spPr>
          <a:xfrm>
            <a:off x="1114560" y="1905120"/>
            <a:ext cx="6886440" cy="4572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p:transition spd="slow">
    <p:split dir="in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egaloblastic an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066320" y="1143000"/>
            <a:ext cx="72392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nical presen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n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europsychatric disorders (B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emature gray hai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ld red beefy tongu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acrocytic anemias may be asymptomatic until the Hb is as low as 6 g/dl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icrocytic-hypochromic an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mall RBCs (MCV &lt; 80 fL) and low Hb content (low MCH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isorders of iron metab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isorders of heme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isorders of globin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ost common types 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ron 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alass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ideroblast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nemia of chronic diseases 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 poisoning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7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7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nicious Anemia - Tongu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7" name="Picture 3" descr="Pernicious"/>
          <p:cNvPicPr/>
          <p:nvPr/>
        </p:nvPicPr>
        <p:blipFill>
          <a:blip r:embed="rId1"/>
          <a:srcRect l="0" t="0" r="0" b="14286"/>
          <a:stretch/>
        </p:blipFill>
        <p:spPr>
          <a:xfrm>
            <a:off x="1060560" y="1828800"/>
            <a:ext cx="3359160" cy="457200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778" name="Text Box 4"/>
          <p:cNvSpPr/>
          <p:nvPr/>
        </p:nvSpPr>
        <p:spPr>
          <a:xfrm>
            <a:off x="4876920" y="3124080"/>
            <a:ext cx="3657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ld, smooth, lemon yellowish red tongu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cytic-hypochromic anemia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ial 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ron deficiency anemia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: low serum ferritin, elevated total iron binding capacity (TIBC, transferrin), and low serum ir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Alpha or beta thalassemia: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increased levels of Hb-A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Red blood cell disord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nemia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olycythemi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increase in the total number of red blood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rimary polycythemia (Ver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Often associated with excess white blood cells and platele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econdary polycyth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ancytop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combination of anemia, thrombocytopenia, and neutrope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Anemia of chronic disea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 low serum iron, low TIBC, and increased serum ferritin concent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ideroblastic anemia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The diagnosis is established by the demonstration of ringed sideroblasts on Prussian Blue stain of the bone marro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crocytic Anemi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4" name=""/>
          <p:cNvGraphicFramePr/>
          <p:nvPr/>
        </p:nvGraphicFramePr>
        <p:xfrm>
          <a:off x="1066680" y="1219320"/>
          <a:ext cx="6629400" cy="4209840"/>
        </p:xfrm>
        <a:graphic>
          <a:graphicData uri="http://schemas.openxmlformats.org/drawingml/2006/table">
            <a:tbl>
              <a:tblPr/>
              <a:tblGrid>
                <a:gridCol w="2743200"/>
                <a:gridCol w="2514600"/>
                <a:gridCol w="1371600"/>
              </a:tblGrid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CV &lt; 80 fl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rum Ferritin*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on Def. Anemi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↓↓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↑↑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onic Infection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↑↑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↓↓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alassemi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↑↑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eroblastic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SimSun"/>
                          <a:ea typeface="SimSun"/>
                        </a:rPr>
                        <a:t>↑↑</a:t>
                      </a:r>
                      <a:endParaRPr b="0" lang="en-US" sz="3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ad poisoning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Text Box 72"/>
          <p:cNvSpPr/>
          <p:nvPr/>
        </p:nvSpPr>
        <p:spPr>
          <a:xfrm>
            <a:off x="1080000" y="5562720"/>
            <a:ext cx="5550840" cy="6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BC: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tal iron binding capacity (transferrin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globulin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*Reflects total body iron sto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rocytic Hypochrom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 Deficiency Anem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7" name="Picture 3" descr="iron def"/>
          <p:cNvPicPr/>
          <p:nvPr/>
        </p:nvPicPr>
        <p:blipFill>
          <a:blip r:embed="rId1"/>
          <a:stretch/>
        </p:blipFill>
        <p:spPr>
          <a:xfrm>
            <a:off x="228600" y="1447920"/>
            <a:ext cx="8229600" cy="350496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sp>
        <p:nvSpPr>
          <p:cNvPr id="788" name="Text Box 4"/>
          <p:cNvSpPr/>
          <p:nvPr/>
        </p:nvSpPr>
        <p:spPr>
          <a:xfrm>
            <a:off x="685800" y="5029200"/>
            <a:ext cx="81532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40000"/>
              </a:lnSpc>
              <a:buClr>
                <a:srgbClr val="c050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BCs are smaller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cyt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han normal and have an increased zone of central pallor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chromic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76040" indent="-176040">
              <a:lnSpc>
                <a:spcPct val="140000"/>
              </a:lnSpc>
              <a:buClr>
                <a:srgbClr val="c050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lso increase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isocyto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riation in size)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kilocytosi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variation in shap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7720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tary 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7720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demand (growt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7720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ired absor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1920" indent="-277200"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ronic Blood l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3040" indent="-221400">
              <a:spcBef>
                <a:spcPts val="7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3040" indent="-221400">
              <a:spcBef>
                <a:spcPts val="7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3040" indent="-221400">
              <a:spcBef>
                <a:spcPts val="7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3040" indent="-221400">
              <a:spcBef>
                <a:spcPts val="7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3040" indent="-221400">
              <a:spcBef>
                <a:spcPts val="7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3880" indent="-247680"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7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7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7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7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7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7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7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ditional diagnostic tes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ree erythrocyte protoporphyrin (elevat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rum ferritin (decreas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rum iron (decreas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ron binding capacity (increas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ron saturation (decreas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al iron supplementation: 6mg/kg/day of elemental ir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or at least 3 month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eck retic count after 2 wee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de effects (educate famil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oal: to replace iron stores, not just circulating Hg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 cont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ailure to respond to therap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n-compli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adequate do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effective prepa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nrecognized blood lo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mpaired GI absorp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existence of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6206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correct diagn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7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7" dur="500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arenteral therap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dic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or complian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evere bowel disea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olerance of oral ir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hemorrh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diarrhoeal disor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7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2" dur="500"/>
                                        <p:tgtEl>
                                          <p:spTgt spid="7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5" dur="500"/>
                                        <p:tgtEl>
                                          <p:spTgt spid="7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7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s for parentral 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ron Dextr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odium ferrous glucon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pochromi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2" name="Picture 3" descr="hypo micro"/>
          <p:cNvPicPr/>
          <p:nvPr/>
        </p:nvPicPr>
        <p:blipFill>
          <a:blip r:embed="rId1"/>
          <a:stretch/>
        </p:blipFill>
        <p:spPr>
          <a:xfrm>
            <a:off x="1143000" y="1828800"/>
            <a:ext cx="6858000" cy="45529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nition of Ana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Anemia is a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eduction in the number or volume of erythrocyte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with a corresponding decrease in th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hemoglobi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and thereby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↓ O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arrying capacit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There are a number of different types of anemia (~ 400</a:t>
            </a:r>
            <a:r>
              <a:rPr b="0" lang="sv-SE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deroblastic an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4" name="Picture 3" descr="V-37Ring"/>
          <p:cNvPicPr/>
          <p:nvPr/>
        </p:nvPicPr>
        <p:blipFill>
          <a:blip r:embed="rId1"/>
          <a:stretch/>
        </p:blipFill>
        <p:spPr>
          <a:xfrm>
            <a:off x="1447920" y="1676520"/>
            <a:ext cx="6400800" cy="4238640"/>
          </a:xfrm>
          <a:prstGeom prst="rect">
            <a:avLst/>
          </a:prstGeom>
          <a:ln w="28440">
            <a:solidFill>
              <a:srgbClr val="4f81bd"/>
            </a:solidFill>
            <a:miter/>
          </a:ln>
        </p:spPr>
      </p:pic>
      <p:sp>
        <p:nvSpPr>
          <p:cNvPr id="805" name="Text Box 5"/>
          <p:cNvSpPr/>
          <p:nvPr/>
        </p:nvSpPr>
        <p:spPr>
          <a:xfrm>
            <a:off x="907920" y="6019920"/>
            <a:ext cx="7854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ed sideroblasts on Prussian Blue stain of the bone marr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Normocytic-normochromic an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c050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aracterized by destruction or depletion of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normal or mature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ythrocyt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901"/>
              </a:spcBef>
              <a:buClr>
                <a:srgbClr val="c0504d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es not share any common cause, pathologic mechanism, or morphologic characteristic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 types ar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lastic anemi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epressed stem cell proliferation resulting in bone marrow aplasi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sthemorrhagic anem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ny blood los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emia of chronic dise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emolytic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ckle cell a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8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8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emolytic Anem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4479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Anemia of increased RBC destr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ormochromic, normocytic anem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Shortened RBC surviv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64960" indent="0">
              <a:lnSpc>
                <a:spcPct val="12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eticulocytosis – due to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↑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RBC destr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0" dur="500"/>
                                        <p:tgtEl>
                                          <p:spTgt spid="8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Classification of Hemolytic anemi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d cell abnormality (Intracorpuscular factors)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.  Hereditary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 Membrane </a:t>
            </a:r>
            <a:r>
              <a:rPr b="1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herocytosis, elliptocytosis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 Metabolic def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lucoze-6-Phosphate-Dehydrogenaze deficiency,  Pyruvate kinase (PK)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cienc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 Hemoglobinopathies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unstable hemoglobins, thalassemias, sickle cell anemia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.  Acquired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embrane abnorm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aroxysmal nocturnal hemoglobinuria (PNH</a:t>
            </a:r>
            <a:r>
              <a:rPr b="0" lang="sv-SE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Classification of Hemolytic anem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6840" y="1341000"/>
            <a:ext cx="83818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Extracorpuscular factors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Immune hemolytic anemia</a:t>
            </a:r>
            <a:r>
              <a:rPr b="1" lang="sv-SE" sz="36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  1.  Autoimmune hemolytic anemia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         - caused by warm-reactive antibodies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         - caused by cold-reactive antibodies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   2.  Transfusion of incompatible blood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B. Nonimmune hemolytic anemia</a:t>
            </a:r>
            <a:r>
              <a:rPr b="1" lang="sv-SE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  1.  Chemicals 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  2.  Bacterial infections, parasitic infections (malaria), veno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s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  3.  Hemolysis due to 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physical 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trauma  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         - hemolytic -uremic syndrome (HUS)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         - thrombotic thrombocytopenic purpura (TTP)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         - prosthetic heart valves</a:t>
            </a:r>
            <a:br>
              <a:rPr sz="3000"/>
            </a:b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  4.  Hypersplen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8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Hemolytic anemi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Calibri"/>
              </a:rPr>
              <a:t>Mechanisms of  hemolysis:</a:t>
            </a:r>
            <a:br>
              <a:rPr sz="3600"/>
            </a:br>
            <a:br>
              <a:rPr sz="36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ntravascular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xtravasc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Calibri"/>
              </a:rPr>
              <a:t>Diagnosis of hemolytic syndrome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l-P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nemia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2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eticulocytosis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   3.   Indirect bilirubinem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sts Used to Diagnose Hemolysis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iculocyte cou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bined with serial H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oglobin electrophot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um LD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um biliru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ptoglob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ine hemosider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oglobinu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5" dur="500"/>
                                        <p:tgtEl>
                                          <p:spTgt spid="8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8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8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8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8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rmal erythrocy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4800600" y="1523880"/>
            <a:ext cx="3962520" cy="29163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 Narrow"/>
              </a:rPr>
              <a:t>No nucleu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 Narrow"/>
              </a:rPr>
              <a:t>Biconcave disc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 Narrow"/>
              </a:rPr>
              <a:t>pallor center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Arial Narrow"/>
              </a:rPr>
              <a:t>Pink cytoplasm (Hb fille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Arial Narrow"/>
              </a:rPr>
              <a:t>Cell size 7- 8 </a:t>
            </a:r>
            <a:r>
              <a:rPr b="0" lang="en-US" sz="2600" spc="-1" strike="noStrike">
                <a:solidFill>
                  <a:srgbClr val="1f497d"/>
                </a:solidFill>
                <a:latin typeface="Arial Narrow"/>
                <a:ea typeface="Arial Unicode MS"/>
              </a:rPr>
              <a:t>µ - capill. 2 </a:t>
            </a:r>
            <a:r>
              <a:rPr b="0" lang="en-US" sz="2800" spc="-1" strike="noStrike">
                <a:solidFill>
                  <a:srgbClr val="1f497d"/>
                </a:solidFill>
                <a:latin typeface="Arial"/>
              </a:rPr>
              <a:t>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Arial Narrow"/>
                <a:ea typeface="Arial Unicode MS"/>
              </a:rPr>
              <a:t>Negative charg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Arial Narrow"/>
                <a:ea typeface="Arial Unicode MS"/>
              </a:rPr>
              <a:t>Na less, K more insid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f497d"/>
                </a:solidFill>
                <a:latin typeface="Arial Narrow"/>
                <a:ea typeface="Arial Unicode MS"/>
              </a:rPr>
              <a:t>120 days life spa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2" name="Picture 5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4572000" cy="3600720"/>
          </a:xfrm>
          <a:prstGeom prst="rect">
            <a:avLst/>
          </a:prstGeom>
          <a:ln w="0">
            <a:noFill/>
          </a:ln>
        </p:spPr>
      </p:pic>
      <p:sp>
        <p:nvSpPr>
          <p:cNvPr id="703" name="Text Box 6"/>
          <p:cNvSpPr/>
          <p:nvPr/>
        </p:nvSpPr>
        <p:spPr>
          <a:xfrm>
            <a:off x="304920" y="51055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RBC is abou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/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size of a normal lymphocy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rmal mature lymphocyte on the left and a segmented PMN on the righ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 laboratory findings in Hemolytic Anem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914400" y="1295280"/>
          <a:ext cx="7315200" cy="4876920"/>
        </p:xfrm>
        <a:graphic>
          <a:graphicData uri="http://schemas.openxmlformats.org/drawingml/2006/table">
            <a:tbl>
              <a:tblPr/>
              <a:tblGrid>
                <a:gridCol w="4830840"/>
                <a:gridCol w="2484360"/>
              </a:tblGrid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ticulocyte count and RP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um Unconjugated Bilirub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um lactate dehydrogenase (LDH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rum Haptoglob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rea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e Hemoglob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e Hemosider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s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ine Urobilinog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plit dir="in" orient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Calibri"/>
              </a:rPr>
              <a:t>Hereditary spherocyto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1. Pathophysiology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- red cell membrane protein defects (spectrin deficiency)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  resulting cytoskeleton instability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2. Familly history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3. Clinical features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- 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anemia, </a:t>
            </a: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splenomegaly</a:t>
            </a:r>
            <a:r>
              <a:rPr b="0" lang="sv-SE" sz="2600" spc="-1" strike="noStrike">
                <a:solidFill>
                  <a:srgbClr val="000000"/>
                </a:solidFill>
                <a:latin typeface="Calibri"/>
              </a:rPr>
              <a:t> and jaundice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4. Laboratory features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- hemolytic anemia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- blood smear-spherocytes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- abnormal osmotic fragility test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5. Treatment    </a:t>
            </a:r>
            <a:br>
              <a:rPr sz="2600"/>
            </a:br>
            <a:r>
              <a:rPr b="0" lang="pl-PL" sz="2600" spc="-1" strike="noStrike">
                <a:solidFill>
                  <a:srgbClr val="000000"/>
                </a:solidFill>
                <a:latin typeface="Calibri"/>
              </a:rPr>
              <a:t>   - splenectom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Hereditary spherocyt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9" name="Picture 3" descr="spherecytosis"/>
          <p:cNvPicPr/>
          <p:nvPr/>
        </p:nvPicPr>
        <p:blipFill>
          <a:blip r:embed="rId1"/>
          <a:stretch/>
        </p:blipFill>
        <p:spPr>
          <a:xfrm>
            <a:off x="1143000" y="1974960"/>
            <a:ext cx="6858000" cy="45781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p:transition spd="slow">
    <p:split dir="in" orient="horz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An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Anemia can be caused by one or more of three mechanisms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Decreased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production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 of Red Cell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- Hypo proliferative, marrow failure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Increased </a:t>
            </a: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estruction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 of Red Cell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- Hemolysis (decreased survival of RBC)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Loss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 of Red Cells due to bleeding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Calibri"/>
                <a:ea typeface="Times New Roman"/>
              </a:rPr>
              <a:t>- Acute / chronic blood loss (hemorrhagic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An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 algn="just">
              <a:spcBef>
                <a:spcPts val="700"/>
              </a:spcBef>
              <a:buClr>
                <a:srgbClr val="ff0000"/>
              </a:buClr>
              <a:buSzPct val="120000"/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Decreased production of Red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isturbance of proliferation and differentiation of stem cells (aplastic anemia, tumor infilt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isturbance of proliferation and maturation of erythrobla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523880" indent="-609480" algn="just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fective DNA synthesis (megaloblastic ane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523880" indent="-609480" algn="just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fective hemoglobin synthe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879560" indent="-507960" algn="just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Calibri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cient in heme synthesis (iron deficency ane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879560" indent="-507960" algn="just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Calibri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ficient in globin synthesis (thalasim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Bone marrow suppression (drugs, chemotherapy, irradiation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168560" indent="-71136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ow levels of trophic hormones which stimulate RBC production, such a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erythropoeiti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anemia due to renal failu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uses of An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120000"/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81bd"/>
                </a:solidFill>
                <a:latin typeface="Calibri"/>
                <a:ea typeface="Times New Roman"/>
              </a:rPr>
              <a:t>Increased RBC de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herited hemolytic anemias (eg, hereditary spherocytosis, sickle cell disease, thalassemia major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cquired hemolytic anemias (autoimmune hemolytic anemia, thrombotic thrombocytopenic purpura, hemolytic uremic syndrome, mala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120000"/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81bd"/>
                </a:solidFill>
                <a:latin typeface="Calibri"/>
                <a:ea typeface="Times New Roman"/>
              </a:rPr>
              <a:t>Blood lo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cute / chronic blood loss (hemorrhag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bvious bleeding (trauma, melena, hematemesis, menometrorrhag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ccult bleeding (slowly bleeding ulcer or carcinoma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duced bleeding (repeated diagnostic testing, hemodialysis losses, excessive blood don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Classification of anem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Anemia can be classified a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utritiona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: iron, vitamin B12, or folic aci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65040" indent="-2556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Non-nutritional: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due to decreased development of RBC precursors, blood loss, decreased formation, or increased destruction of RBC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3T04:15:21Z</dcterms:created>
  <dc:creator>Chris Amulo</dc:creator>
  <dc:description/>
  <dc:language>en-US</dc:language>
  <cp:lastModifiedBy>eddykates@outlook.com</cp:lastModifiedBy>
  <dcterms:modified xsi:type="dcterms:W3CDTF">2021-01-26T04:44:14Z</dcterms:modified>
  <cp:revision>438</cp:revision>
  <dc:subject/>
  <dc:title>Practical Approach to Anaemia</dc:title>
</cp:coreProperties>
</file>