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 id="331" r:id="rId85"/>
    <p:sldId id="332" r:id="rId86"/>
    <p:sldId id="333" r:id="rId87"/>
    <p:sldId id="334" r:id="rId88"/>
    <p:sldId id="335" r:id="rId89"/>
    <p:sldId id="336" r:id="rId90"/>
    <p:sldId id="337" r:id="rId91"/>
    <p:sldId id="338" r:id="rId92"/>
    <p:sldId id="339" r:id="rId93"/>
    <p:sldId id="340" r:id="rId94"/>
    <p:sldId id="341" r:id="rId95"/>
    <p:sldId id="342" r:id="rId96"/>
    <p:sldId id="343" r:id="rId97"/>
    <p:sldId id="344" r:id="rId9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slide" Target="slides/slide76.xml"/><Relationship Id="rId86" Type="http://schemas.openxmlformats.org/officeDocument/2006/relationships/slide" Target="slides/slide77.xml"/><Relationship Id="rId87" Type="http://schemas.openxmlformats.org/officeDocument/2006/relationships/slide" Target="slides/slide78.xml"/><Relationship Id="rId88" Type="http://schemas.openxmlformats.org/officeDocument/2006/relationships/slide" Target="slides/slide79.xml"/><Relationship Id="rId89" Type="http://schemas.openxmlformats.org/officeDocument/2006/relationships/slide" Target="slides/slide80.xml"/><Relationship Id="rId90" Type="http://schemas.openxmlformats.org/officeDocument/2006/relationships/slide" Target="slides/slide81.xml"/><Relationship Id="rId91" Type="http://schemas.openxmlformats.org/officeDocument/2006/relationships/slide" Target="slides/slide82.xml"/><Relationship Id="rId92" Type="http://schemas.openxmlformats.org/officeDocument/2006/relationships/slide" Target="slides/slide83.xml"/><Relationship Id="rId93" Type="http://schemas.openxmlformats.org/officeDocument/2006/relationships/slide" Target="slides/slide84.xml"/><Relationship Id="rId94" Type="http://schemas.openxmlformats.org/officeDocument/2006/relationships/slide" Target="slides/slide85.xml"/><Relationship Id="rId95" Type="http://schemas.openxmlformats.org/officeDocument/2006/relationships/slide" Target="slides/slide86.xml"/><Relationship Id="rId96" Type="http://schemas.openxmlformats.org/officeDocument/2006/relationships/slide" Target="slides/slide87.xml"/><Relationship Id="rId97" Type="http://schemas.openxmlformats.org/officeDocument/2006/relationships/slide" Target="slides/slide88.xml"/><Relationship Id="rId98" Type="http://schemas.openxmlformats.org/officeDocument/2006/relationships/slide" Target="slides/slide89.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06C76-993F-4430-A37A-5CA448EB219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400" cy="3086280"/>
          </a:xfrm>
          <a:prstGeom prst="rect">
            <a:avLst/>
          </a:prstGeom>
          <a:ln w="0">
            <a:noFill/>
          </a:ln>
        </p:spPr>
      </p:sp>
      <p:sp>
        <p:nvSpPr>
          <p:cNvPr id="5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57E435-594C-4B2F-8C04-7D669A3335C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85800" y="1143000"/>
            <a:ext cx="5486400" cy="3086280"/>
          </a:xfrm>
          <a:prstGeom prst="rect">
            <a:avLst/>
          </a:prstGeom>
          <a:ln w="0">
            <a:noFill/>
          </a:ln>
        </p:spPr>
      </p:sp>
      <p:sp>
        <p:nvSpPr>
          <p:cNvPr id="5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1AAABD-91AB-4505-B100-4AE8CDE5622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CB1044-D77F-426F-A76A-E63692DA2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74B60-83C8-448C-9B9D-3496CE71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1B99E2-3457-49F4-95BD-A305CC191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642D9-0A5E-4CE4-A3CF-7540CB9F7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664823-4F62-4CD7-B0E2-B2D5B03FF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18F96-2740-4EE9-9B35-827150B9F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D6985-476D-46C3-9FDD-123CB05FED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3FF43-AB2D-413A-9B9C-742D62A50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CD6AAA-72DF-493C-AD5B-820D12230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DF1A9-E0EE-41D0-9D6A-D337FACAD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DECE5-F535-4BA1-BB2A-9AAFB614F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E9259-7F9F-43E5-939F-213D18A98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915CF-F20F-493C-B572-10E603071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86644-3EFD-4853-9EB7-67AEB03E3B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0330E-D666-4B5C-AB9D-298C82CC0C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B8B3A1-46AE-49CE-B1E5-11CE24A8A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D8F3B-A88A-4F18-97C4-671D6229D8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838E44-82DD-48FE-A636-49BA8CEA26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D2707-89B8-43A9-AA73-B0F25E4749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57898C-8102-4013-9304-0A8C58181D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DDAE0E-21BC-45CA-84E4-29CE843B73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107D39-E07D-4F99-A503-F134572A3A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64B2-B89D-4083-AE4C-B2A5691D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650F0-4AD7-4D8F-B6B0-B80CDA4F9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FCF6F4-3567-4B95-8694-F890B63224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3E13D-0A20-4300-85B7-C3F4CC95A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D7C8B-AC67-441D-BD16-FD2DDF5FFE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EC54A-FE52-45BA-86A1-A34142E937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384FE7-8AB7-4B50-BE67-F7D344EFD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D0245-4525-4818-9A3B-12532239AC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9147A6-AE1A-4CD4-A714-CE2BA3EFEB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698FFA-560C-43E8-93D1-7F1296F49A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661913-2285-4BAA-8C53-EA07DC08CA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4D418-EB61-442C-A621-5B7C30EE2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A4E3BD-BD3D-46E6-B8A5-D647561B53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D58272-719B-4CE9-A205-2565FBAED8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07715A-55B0-44C4-812C-581A7F7113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8C7456-B0A0-4D27-91BD-267AD44F66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2B154-93EC-4F17-BAF4-EDA7F0AFB4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C78A52-218F-4133-9729-08610309F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B8275E-5234-40A9-A21C-933127D2D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92C44B-942E-4726-A022-6929F87869D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26DF3D-F480-43F3-9623-EBE1EEE3BD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819471-4EA3-4FC9-9895-EDE35F3740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A7ED4-CAEC-4A4F-9E3C-06A39E85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8A3E33-E830-498A-BADB-7B0F6E303B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7AE01-223D-44C7-B6B3-B732C13A1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F0D6C-C650-47CD-A04D-5BF79FB2F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2D5166-7B90-482F-BC12-445BE65253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7FC8F3-D95C-4967-BAC4-FF67CB589B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1D8D1D-4573-4DAD-B68B-7B916033B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41EAB2-56BA-40F6-8F29-7A4C761642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9B71B-7271-446C-8F67-C2D658A71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B717C7-ADC2-4F7D-8403-C610C0361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846C3-53B5-43F0-B39A-842067DAC3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6820E-B80F-4DF9-B9D2-4E53EE09B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839033-3188-4597-B4DF-6C9B2F06CA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BD718D-FFED-4E7D-A283-BFF639484C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BD5C35-DC47-4493-AB57-4E3EA855D2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9C989-E917-4650-A2BD-5951EEAC9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DDB17B-A070-4691-A18D-DAEFFD5277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0C5F24-57DF-4506-B9A5-492CB4895F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5FB313-A44B-416E-B04E-DA512DCE6A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89DE49-C177-4773-9025-793ED5F022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E5874-4C40-4226-8728-9AC3F29345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8C9771-3BDB-4A97-B0FE-BB6F3C75D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7E6B1-8FC2-4188-AD81-E9B02880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1A3BA4-0CBF-44CD-B8AD-D530C32720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09E040-8F4D-4FBE-BAC5-1C38238F5F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2A4830-8F3A-4C2C-9E48-54C9B14D31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DBD969-8D90-48F8-999F-5B31F5DD25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914480" y="1447560"/>
            <a:ext cx="999648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0B66FC-69AE-481D-89E7-EB5B98C254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914480" y="1447560"/>
            <a:ext cx="999648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1A5078-3990-424B-8DCA-82641D9D32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8A2581-B4C3-4159-BF15-573C0FBDD6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E34C27-C5E7-4E3D-969A-BA4BAF32B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914480" y="274320"/>
            <a:ext cx="999648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AF0676-C82F-45F2-9E9F-C55B50AE6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703692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5CA52-8F36-447C-ABB8-A0F1A45605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A102-8051-44BA-9B55-74A60FAD41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914480" y="1447560"/>
            <a:ext cx="487800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4F948C-A87D-49DA-9FB7-518A488CD8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38CAE-B6E5-4DDC-ABF2-90504FE263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914480" y="14475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F9E155-1CE1-495B-8E96-1773246CE2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91448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7036920" y="39549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4D343-7A75-45E0-B289-D44E838240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91448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529452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8674560" y="14475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91448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529452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8674560" y="3954960"/>
            <a:ext cx="3218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822D75-673C-4787-9824-43791018D7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91448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7036920" y="1447560"/>
            <a:ext cx="487800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914480" y="3954960"/>
            <a:ext cx="999648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2A43-AA6B-44B5-96DF-C76387B4EB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2" name="Donut 10"/>
          <p:cNvGrpSpPr/>
          <p:nvPr/>
        </p:nvGrpSpPr>
        <p:grpSpPr>
          <a:xfrm>
            <a:off x="298440" y="963720"/>
            <a:ext cx="1397160" cy="1309680"/>
            <a:chOff x="298440" y="963720"/>
            <a:chExt cx="1397160" cy="1309680"/>
          </a:xfrm>
        </p:grpSpPr>
        <p:pic>
          <p:nvPicPr>
            <p:cNvPr id="3" name="Donut 10" descr=""/>
            <p:cNvPicPr/>
            <p:nvPr/>
          </p:nvPicPr>
          <p:blipFill>
            <a:blip r:embed="rId3"/>
            <a:stretch/>
          </p:blipFill>
          <p:spPr>
            <a:xfrm>
              <a:off x="298440" y="963720"/>
              <a:ext cx="1397160" cy="1309680"/>
            </a:xfrm>
            <a:prstGeom prst="rect">
              <a:avLst/>
            </a:prstGeom>
            <a:ln w="0">
              <a:noFill/>
            </a:ln>
          </p:spPr>
        </p:pic>
        <p:sp>
          <p:nvSpPr>
            <p:cNvPr id="4"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F8207-519D-418A-92A2-BC14CF533A9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1087560" y="-816120"/>
            <a:ext cx="2184480" cy="1638360"/>
          </a:xfrm>
          <a:custGeom>
            <a:avLst/>
            <a:gdLst/>
            <a:ahLst/>
            <a:rect l="l" t="t" r="r" b="b"/>
            <a:pathLst>
              <a:path w="2184401" h="1638300">
                <a:moveTo>
                  <a:pt x="2184401" y="819150"/>
                </a:moveTo>
                <a:cubicBezTo>
                  <a:pt x="2184401" y="1077069"/>
                  <a:pt x="2022436" y="1319925"/>
                  <a:pt x="1747262" y="1474616"/>
                </a:cubicBezTo>
                <a:cubicBezTo>
                  <a:pt x="1558115" y="1580946"/>
                  <a:pt x="1328077" y="1638382"/>
                  <a:pt x="1091695" y="1638300"/>
                </a:cubicBezTo>
                <a:cubicBezTo>
                  <a:pt x="1091864" y="1365250"/>
                  <a:pt x="1092032" y="1092200"/>
                  <a:pt x="1092201" y="819150"/>
                </a:cubicBezTo>
                <a:lnTo>
                  <a:pt x="2184401"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225360" y="20520"/>
            <a:ext cx="22687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0" name="Donut 10"/>
          <p:cNvGrpSpPr/>
          <p:nvPr/>
        </p:nvGrpSpPr>
        <p:grpSpPr>
          <a:xfrm>
            <a:off x="298440" y="963720"/>
            <a:ext cx="1397160" cy="1309680"/>
            <a:chOff x="298440" y="963720"/>
            <a:chExt cx="1397160" cy="1309680"/>
          </a:xfrm>
        </p:grpSpPr>
        <p:pic>
          <p:nvPicPr>
            <p:cNvPr id="51" name="Donut 10" descr=""/>
            <p:cNvPicPr/>
            <p:nvPr/>
          </p:nvPicPr>
          <p:blipFill>
            <a:blip r:embed="rId3"/>
            <a:stretch/>
          </p:blipFill>
          <p:spPr>
            <a:xfrm>
              <a:off x="298440" y="963720"/>
              <a:ext cx="1397160" cy="1309680"/>
            </a:xfrm>
            <a:prstGeom prst="rect">
              <a:avLst/>
            </a:prstGeom>
            <a:ln w="0">
              <a:noFill/>
            </a:ln>
          </p:spPr>
        </p:pic>
        <p:sp>
          <p:nvSpPr>
            <p:cNvPr id="52" name=""/>
            <p:cNvSpPr/>
            <p:nvPr/>
          </p:nvSpPr>
          <p:spPr>
            <a:xfrm rot="2315400">
              <a:off x="463320" y="1215720"/>
              <a:ext cx="106200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3" name="Rectangle 11"/>
          <p:cNvSpPr/>
          <p:nvPr/>
        </p:nvSpPr>
        <p:spPr>
          <a:xfrm>
            <a:off x="1351080" y="0"/>
            <a:ext cx="1084104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Rectangle 14"/>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5" name="Oval 12"/>
          <p:cNvGrpSpPr/>
          <p:nvPr/>
        </p:nvGrpSpPr>
        <p:grpSpPr>
          <a:xfrm>
            <a:off x="1231920" y="1414440"/>
            <a:ext cx="285840" cy="212760"/>
            <a:chOff x="1231920" y="1414440"/>
            <a:chExt cx="285840" cy="212760"/>
          </a:xfrm>
        </p:grpSpPr>
        <p:pic>
          <p:nvPicPr>
            <p:cNvPr id="56" name="Oval 12" descr=""/>
            <p:cNvPicPr/>
            <p:nvPr/>
          </p:nvPicPr>
          <p:blipFill>
            <a:blip r:embed="rId4"/>
            <a:stretch/>
          </p:blipFill>
          <p:spPr>
            <a:xfrm>
              <a:off x="1231920" y="1414440"/>
              <a:ext cx="285840" cy="212760"/>
            </a:xfrm>
            <a:prstGeom prst="rect">
              <a:avLst/>
            </a:prstGeom>
            <a:ln w="0">
              <a:noFill/>
            </a:ln>
          </p:spPr>
        </p:pic>
        <p:sp>
          <p:nvSpPr>
            <p:cNvPr id="57" name=""/>
            <p:cNvSpPr/>
            <p:nvPr/>
          </p:nvSpPr>
          <p:spPr>
            <a:xfrm>
              <a:off x="1270080" y="1444680"/>
              <a:ext cx="19836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58" name="Oval 13"/>
          <p:cNvSpPr/>
          <p:nvPr/>
        </p:nvSpPr>
        <p:spPr>
          <a:xfrm>
            <a:off x="1542960" y="1344600"/>
            <a:ext cx="8568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F40F29-B619-4F5F-8432-B7D7E926CAF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304308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Rectangle 13"/>
          <p:cNvSpPr/>
          <p:nvPr/>
        </p:nvSpPr>
        <p:spPr>
          <a:xfrm>
            <a:off x="3048120" y="0"/>
            <a:ext cx="1015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02" name="Oval 15"/>
          <p:cNvGrpSpPr/>
          <p:nvPr/>
        </p:nvGrpSpPr>
        <p:grpSpPr>
          <a:xfrm>
            <a:off x="2895480" y="2816280"/>
            <a:ext cx="285840" cy="212760"/>
            <a:chOff x="2895480" y="2816280"/>
            <a:chExt cx="285840" cy="212760"/>
          </a:xfrm>
        </p:grpSpPr>
        <p:pic>
          <p:nvPicPr>
            <p:cNvPr id="103" name="Oval 15" descr=""/>
            <p:cNvPicPr/>
            <p:nvPr/>
          </p:nvPicPr>
          <p:blipFill>
            <a:blip r:embed="rId3"/>
            <a:stretch/>
          </p:blipFill>
          <p:spPr>
            <a:xfrm>
              <a:off x="2895480" y="2816280"/>
              <a:ext cx="285840" cy="212760"/>
            </a:xfrm>
            <a:prstGeom prst="rect">
              <a:avLst/>
            </a:prstGeom>
            <a:ln w="0">
              <a:noFill/>
            </a:ln>
          </p:spPr>
        </p:pic>
        <p:sp>
          <p:nvSpPr>
            <p:cNvPr id="104" name=""/>
            <p:cNvSpPr/>
            <p:nvPr/>
          </p:nvSpPr>
          <p:spPr>
            <a:xfrm>
              <a:off x="2936880" y="2844720"/>
              <a:ext cx="19836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05" name="Oval 16"/>
          <p:cNvSpPr/>
          <p:nvPr/>
        </p:nvSpPr>
        <p:spPr>
          <a:xfrm>
            <a:off x="3211560" y="2746440"/>
            <a:ext cx="8424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17638-A2F0-495A-94FF-CF1A4ABA25AC}"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F41B14-C134-475B-BFFA-29B2A94BC89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352520" y="0"/>
            <a:ext cx="108396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Rectangle 13"/>
          <p:cNvSpPr/>
          <p:nvPr/>
        </p:nvSpPr>
        <p:spPr>
          <a:xfrm>
            <a:off x="1352520" y="0"/>
            <a:ext cx="982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61BD00-16D6-46A7-A1EB-96E113D1F42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55D866-4B59-49EF-9F31-2029AF4436F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907920" y="974880"/>
            <a:ext cx="6321600" cy="4797360"/>
            <a:chOff x="907920" y="974880"/>
            <a:chExt cx="6321600" cy="4797360"/>
          </a:xfrm>
        </p:grpSpPr>
        <p:pic>
          <p:nvPicPr>
            <p:cNvPr id="273" name="Rectangle 12" descr=""/>
            <p:cNvPicPr/>
            <p:nvPr/>
          </p:nvPicPr>
          <p:blipFill>
            <a:blip r:embed="rId3"/>
            <a:stretch/>
          </p:blipFill>
          <p:spPr>
            <a:xfrm>
              <a:off x="907920" y="974880"/>
              <a:ext cx="6321600" cy="4797360"/>
            </a:xfrm>
            <a:prstGeom prst="rect">
              <a:avLst/>
            </a:prstGeom>
            <a:ln w="0">
              <a:noFill/>
            </a:ln>
          </p:spPr>
        </p:pic>
        <p:sp>
          <p:nvSpPr>
            <p:cNvPr id="274" name=""/>
            <p:cNvSpPr/>
            <p:nvPr/>
          </p:nvSpPr>
          <p:spPr>
            <a:xfrm>
              <a:off x="1015920" y="1066680"/>
              <a:ext cx="609624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75" name="Flowchart: Process 13"/>
          <p:cNvSpPr/>
          <p:nvPr/>
        </p:nvSpPr>
        <p:spPr>
          <a:xfrm rot="19468200">
            <a:off x="528120" y="953640"/>
            <a:ext cx="9144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Flowchart: Process 15"/>
          <p:cNvSpPr/>
          <p:nvPr/>
        </p:nvSpPr>
        <p:spPr>
          <a:xfrm flipH="1" rot="2103600">
            <a:off x="6672240" y="936360"/>
            <a:ext cx="86508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914480" y="1447560"/>
            <a:ext cx="999648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4774680" y="6305040"/>
            <a:ext cx="2845080" cy="4762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7620120" y="6305040"/>
            <a:ext cx="3860640" cy="4762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11485440" y="6305040"/>
            <a:ext cx="609840" cy="47628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b5a788"/>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4242C3-6373-4E8C-A041-730CC112838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909440" y="360360"/>
            <a:ext cx="987588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EDIATRICS – 2</a:t>
            </a:r>
            <a:r>
              <a:rPr b="0" lang="en-US" sz="4300" spc="-1" strike="noStrike" baseline="30000">
                <a:solidFill>
                  <a:srgbClr val="572314"/>
                </a:solidFill>
                <a:latin typeface="Gill Sans MT"/>
              </a:rPr>
              <a:t>ND</a:t>
            </a:r>
            <a:r>
              <a:rPr b="0" lang="en-US" sz="4300" spc="-1" strike="noStrike">
                <a:solidFill>
                  <a:srgbClr val="572314"/>
                </a:solidFill>
                <a:latin typeface="Gill Sans MT"/>
              </a:rPr>
              <a:t> YEAR </a:t>
            </a:r>
            <a:endParaRPr b="0" lang="en-US" sz="4300" spc="-1" strike="noStrike">
              <a:solidFill>
                <a:srgbClr val="572314"/>
              </a:solidFill>
              <a:latin typeface="Gill Sans MT"/>
            </a:endParaRPr>
          </a:p>
        </p:txBody>
      </p:sp>
      <p:sp>
        <p:nvSpPr>
          <p:cNvPr id="326" name="PlaceHolder 2"/>
          <p:cNvSpPr>
            <a:spLocks noGrp="1"/>
          </p:cNvSpPr>
          <p:nvPr>
            <p:ph type="subTitle"/>
          </p:nvPr>
        </p:nvSpPr>
        <p:spPr>
          <a:xfrm>
            <a:off x="1895040" y="3963960"/>
            <a:ext cx="9875880" cy="233208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HISTORY TAKING AND EXAMINA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History of the Presenting Symptoms</a:t>
            </a:r>
            <a:endParaRPr b="0" lang="en-US" sz="4300" spc="-1" strike="noStrike">
              <a:solidFill>
                <a:srgbClr val="572314"/>
              </a:solidFill>
              <a:latin typeface="Gill Sans MT"/>
            </a:endParaRPr>
          </a:p>
        </p:txBody>
      </p:sp>
      <p:sp>
        <p:nvSpPr>
          <p:cNvPr id="344"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story must be adapted to the age e.g. the age when a child first walks is relevant when taking history of a toddler but irrelevant to a teenager with headache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ll details of presenting problems are required</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t the parent and child recount the presenting problems in their own words and at their own pac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the parents words verbatim about the presenting complaint</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nsure that you ask about the </a:t>
            </a:r>
            <a:endParaRPr b="0" lang="en-US" sz="3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set of the complaint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346" name=""/>
          <p:cNvSpPr txBox="1"/>
          <p:nvPr/>
        </p:nvSpPr>
        <p:spPr>
          <a:xfrm>
            <a:off x="1914480" y="1447560"/>
            <a:ext cx="9996480" cy="4800600"/>
          </a:xfrm>
          <a:prstGeom prst="rect">
            <a:avLst/>
          </a:prstGeom>
          <a:noFill/>
          <a:ln w="0">
            <a:noFill/>
          </a:ln>
        </p:spPr>
        <p:txBody>
          <a:bodyPr anchor="t">
            <a:normAutofit fontScale="91000"/>
          </a:bodyPr>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uration and previous episode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relieves/aggravates symptom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the time course of the problem</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the problem getting worse and are there any associated symptom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as the child’s or family lifestyle been affected? If so what has the family done about it</a:t>
            </a: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nd out:</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prompted referral to a doctor</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at is the fear the parents have, this is an important facto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ast Medical History</a:t>
            </a:r>
            <a:endParaRPr b="0" lang="en-US" sz="4300" spc="-1" strike="noStrike">
              <a:solidFill>
                <a:srgbClr val="572314"/>
              </a:solidFill>
              <a:latin typeface="Gill Sans MT"/>
            </a:endParaRPr>
          </a:p>
        </p:txBody>
      </p:sp>
      <p:sp>
        <p:nvSpPr>
          <p:cNvPr id="348"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past illnesses has the child suffered fro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hospitalizations and operations (what was the reason, what age, what was the nature and were there any complication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e there any allergi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e there any bleeding tendenci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history of accidents and injuri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past and present medication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te-natal History</a:t>
            </a:r>
            <a:endParaRPr b="0" lang="en-US" sz="4300" spc="-1" strike="noStrike">
              <a:solidFill>
                <a:srgbClr val="572314"/>
              </a:solidFill>
              <a:latin typeface="Gill Sans MT"/>
            </a:endParaRPr>
          </a:p>
        </p:txBody>
      </p:sp>
      <p:sp>
        <p:nvSpPr>
          <p:cNvPr id="350"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was the health of the mother during the pregnancy of this chil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relevant genetic history of par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history of infection during pregnanc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abnormality detected in antenatal u/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story of amniocentens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tenatal profile and resul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immunization e.g. T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atal History</a:t>
            </a:r>
            <a:endParaRPr b="0" lang="en-US" sz="4300" spc="-1" strike="noStrike">
              <a:solidFill>
                <a:srgbClr val="572314"/>
              </a:solidFill>
              <a:latin typeface="Gill Sans MT"/>
            </a:endParaRPr>
          </a:p>
        </p:txBody>
      </p:sp>
      <p:sp>
        <p:nvSpPr>
          <p:cNvPr id="352" name=""/>
          <p:cNvSpPr txBox="1"/>
          <p:nvPr/>
        </p:nvSpPr>
        <p:spPr>
          <a:xfrm>
            <a:off x="1914480" y="1447560"/>
            <a:ext cx="999648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was the kind of labor</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ype of delivery</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irth weight</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uration of labor</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was first cry</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ate of infant at birth</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onatal: apgar score, color, respiratory distress, excessive salivation, abdominal distension, meconium passed or not</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Nutrition/Diet</a:t>
            </a:r>
            <a:endParaRPr b="0" lang="en-US" sz="4300" spc="-1" strike="noStrike">
              <a:solidFill>
                <a:srgbClr val="572314"/>
              </a:solidFill>
              <a:latin typeface="Gill Sans MT"/>
            </a:endParaRPr>
          </a:p>
        </p:txBody>
      </p:sp>
      <p:sp>
        <p:nvSpPr>
          <p:cNvPr id="354" name=""/>
          <p:cNvSpPr txBox="1"/>
          <p:nvPr/>
        </p:nvSpPr>
        <p:spPr>
          <a:xfrm>
            <a:off x="1914480" y="1447560"/>
            <a:ext cx="9996480" cy="4800600"/>
          </a:xfrm>
          <a:prstGeom prst="rect">
            <a:avLst/>
          </a:prstGeom>
          <a:noFill/>
          <a:ln w="0">
            <a:noFill/>
          </a:ln>
        </p:spPr>
        <p:txBody>
          <a:bodyPr anchor="t">
            <a:normAutofit fontScale="94000"/>
          </a:bodyPr>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ating pattern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istory of vomiting after feed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fficulty in swallowing</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velopment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ilestones (key developmental milestone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rinary continence</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trol of defeacation</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usual growth</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hool grad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mmunization </a:t>
            </a:r>
            <a:endParaRPr b="0" lang="en-US" sz="4300" spc="-1" strike="noStrike">
              <a:solidFill>
                <a:srgbClr val="572314"/>
              </a:solidFill>
              <a:latin typeface="Gill Sans MT"/>
            </a:endParaRPr>
          </a:p>
        </p:txBody>
      </p:sp>
      <p:sp>
        <p:nvSpPr>
          <p:cNvPr id="356" name=""/>
          <p:cNvSpPr txBox="1"/>
          <p:nvPr/>
        </p:nvSpPr>
        <p:spPr>
          <a:xfrm>
            <a:off x="1914480" y="1447560"/>
            <a:ext cx="999648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EPI schedule</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mment on either up to date; fully immunized or defaulter</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355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cial History</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levant information about the family and the community-parental occupation, economic status, housing, relationships, parental smoking, marital stresses</a:t>
            </a:r>
            <a:endParaRPr b="0" lang="en-US" sz="28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the child happy at home</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ocial History…</a:t>
            </a:r>
            <a:endParaRPr b="0" lang="en-US" sz="4300" spc="-1" strike="noStrike">
              <a:solidFill>
                <a:srgbClr val="572314"/>
              </a:solidFill>
              <a:latin typeface="Gill Sans MT"/>
            </a:endParaRPr>
          </a:p>
        </p:txBody>
      </p:sp>
      <p:sp>
        <p:nvSpPr>
          <p:cNvPr id="358" name=""/>
          <p:cNvSpPr txBox="1"/>
          <p:nvPr/>
        </p:nvSpPr>
        <p:spPr>
          <a:xfrm>
            <a:off x="1914480" y="1447560"/>
            <a:ext cx="9996480" cy="4800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the child happy at school</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snapshots” is crucial since many childhood illnesses or conditions are permeated by adult problems e.g.</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lcohol and drug abus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ng term unemployment/poverty</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or, damp and crammed housing</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rental psychiatric disorder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nstable partnership</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Family History</a:t>
            </a:r>
            <a:endParaRPr b="0" lang="en-US" sz="4300" spc="-1" strike="noStrike">
              <a:solidFill>
                <a:srgbClr val="572314"/>
              </a:solidFill>
              <a:latin typeface="Gill Sans MT"/>
            </a:endParaRPr>
          </a:p>
        </p:txBody>
      </p:sp>
      <p:sp>
        <p:nvSpPr>
          <p:cNvPr id="360"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hould include information about illnesses in the family e.g. parents and grandpare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use of death of close relativ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ence of any serious illnesses in the famil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ystemic Review</a:t>
            </a:r>
            <a:endParaRPr b="0" lang="en-US" sz="4300" spc="-1" strike="noStrike">
              <a:solidFill>
                <a:srgbClr val="572314"/>
              </a:solidFill>
              <a:latin typeface="Gill Sans MT"/>
            </a:endParaRPr>
          </a:p>
        </p:txBody>
      </p:sp>
      <p:sp>
        <p:nvSpPr>
          <p:cNvPr id="36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lected as appropriate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spiratory system </a:t>
            </a:r>
            <a:r>
              <a:rPr b="0" lang="en-GB" sz="2800" spc="-1" strike="noStrike">
                <a:solidFill>
                  <a:srgbClr val="000000"/>
                </a:solidFill>
                <a:latin typeface="Gill Sans MT"/>
              </a:rPr>
              <a:t>– cough wheeze, breathing problems, throat infections, stridor (noisy breathing), snoring</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VS – heart murmur, cyanosis, exercise intoleranc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IT – vomitting, diarrhea/constipation, abdominal pai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UT – dysuria, frequency, wetting, toilet traine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NS – seizures, headaches, abnormal movement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Introduction </a:t>
            </a:r>
            <a:endParaRPr b="0" lang="en-US" sz="4300" spc="-1" strike="noStrike">
              <a:solidFill>
                <a:srgbClr val="572314"/>
              </a:solidFill>
              <a:latin typeface="Gill Sans MT"/>
            </a:endParaRPr>
          </a:p>
        </p:txBody>
      </p:sp>
      <p:sp>
        <p:nvSpPr>
          <p:cNvPr id="328" name=""/>
          <p:cNvSpPr txBox="1"/>
          <p:nvPr/>
        </p:nvSpPr>
        <p:spPr>
          <a:xfrm>
            <a:off x="1914480" y="1447560"/>
            <a:ext cx="999648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istory taking is the corner stone of clinical practice</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e needs to have the ability to distill the important information from history</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builds up clinical skills, attitude towards patients knowledge about diseases and disorders</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rents are acutely interested in and anxious about their children</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rents usually can recognize clinicians who are empathic, demonstrate interest and concern</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rents seek out clinicians who possess appropriate skills and attitudes towards their childre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a:t>
            </a:r>
            <a:endParaRPr b="0" lang="en-US" sz="4300" spc="-1" strike="noStrike">
              <a:solidFill>
                <a:srgbClr val="572314"/>
              </a:solidFill>
              <a:latin typeface="Gill Sans MT"/>
            </a:endParaRPr>
          </a:p>
        </p:txBody>
      </p:sp>
      <p:sp>
        <p:nvSpPr>
          <p:cNvPr id="364" name=""/>
          <p:cNvSpPr txBox="1"/>
          <p:nvPr/>
        </p:nvSpPr>
        <p:spPr>
          <a:xfrm>
            <a:off x="1914480" y="1447560"/>
            <a:ext cx="9996480" cy="480060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pproach</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tain child’s cooperation</a:t>
            </a:r>
            <a:endParaRPr b="0" lang="en-US" sz="3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ke friends with the child</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e confident but gentle</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void dominating the child</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o short mock examinations e.g. on the mother or teddy bear – this may allay a young child’s fears</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tart examination from non threatening areas e.g. hand or knee</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plain to the child what you are about to do, what you want him/her to do, in a language they can understand</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a:t>
            </a:r>
            <a:endParaRPr b="0" lang="en-US" sz="4300" spc="-1" strike="noStrike">
              <a:solidFill>
                <a:srgbClr val="572314"/>
              </a:solidFill>
              <a:latin typeface="Gill Sans MT"/>
            </a:endParaRPr>
          </a:p>
        </p:txBody>
      </p:sp>
      <p:sp>
        <p:nvSpPr>
          <p:cNvPr id="366" name=""/>
          <p:cNvSpPr txBox="1"/>
          <p:nvPr/>
        </p:nvSpPr>
        <p:spPr>
          <a:xfrm>
            <a:off x="1914480" y="1447560"/>
            <a:ext cx="9996480" cy="4800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smiling talking doctor appears less threatening, but this should not be overdone as it can interfere with ones relationship with the parent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ave unpleasant procedures until las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abies in the first few months are best examined on the couch with the parent next to them</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toddler is best examined initially on the mother’s lap, or occasionally on the parents shoulder. Parents are reassuring to the child and can facilitate good examination if guided on what to do</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a:t>
            </a:r>
            <a:endParaRPr b="0" lang="en-US" sz="4300" spc="-1" strike="noStrike">
              <a:solidFill>
                <a:srgbClr val="572314"/>
              </a:solidFill>
              <a:latin typeface="Gill Sans MT"/>
            </a:endParaRPr>
          </a:p>
        </p:txBody>
      </p:sp>
      <p:sp>
        <p:nvSpPr>
          <p:cNvPr id="368" name=""/>
          <p:cNvSpPr txBox="1"/>
          <p:nvPr/>
        </p:nvSpPr>
        <p:spPr>
          <a:xfrm>
            <a:off x="1914480" y="1447560"/>
            <a:ext cx="9996480" cy="4800600"/>
          </a:xfrm>
          <a:prstGeom prst="rect">
            <a:avLst/>
          </a:prstGeom>
          <a:noFill/>
          <a:ln w="0">
            <a:noFill/>
          </a:ln>
        </p:spPr>
        <p:txBody>
          <a:bodyPr anchor="t">
            <a:normAutofit fontScale="87000"/>
          </a:bodyPr>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reschool children can in the beginning be examined as they play</a:t>
            </a:r>
            <a:endParaRPr b="0" lang="en-US" sz="2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lder teenagers are often concerned of their privacy. A teenage girl should be examined in the presence of their mother, nurse or chaperone. Be aware of cultural sensitivities from different ethnic groups</a:t>
            </a:r>
            <a:endParaRPr b="0" lang="en-US" sz="2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dressing Children</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 sensitive on children’s modesty</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easiest and kind to ask the parent to do the undress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a:t>
            </a:r>
            <a:endParaRPr b="0" lang="en-US" sz="4300" spc="-1" strike="noStrike">
              <a:solidFill>
                <a:srgbClr val="572314"/>
              </a:solidFill>
              <a:latin typeface="Gill Sans MT"/>
            </a:endParaRPr>
          </a:p>
        </p:txBody>
      </p:sp>
      <p:sp>
        <p:nvSpPr>
          <p:cNvPr id="370" name=""/>
          <p:cNvSpPr txBox="1"/>
          <p:nvPr/>
        </p:nvSpPr>
        <p:spPr>
          <a:xfrm>
            <a:off x="1914480" y="1447560"/>
            <a:ext cx="9996480" cy="4800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area to be examined should be inspected fully, but done in stages, redressing the child when each stage has been completed</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Warm clean hands</a:t>
            </a:r>
            <a:r>
              <a:rPr b="0" lang="en-US" sz="3200" spc="-1" strike="noStrike">
                <a:solidFill>
                  <a:srgbClr val="000000"/>
                </a:solidFill>
                <a:latin typeface="Gill Sans MT"/>
              </a:rPr>
              <a:t>:  hands must be washed before and after examining a child. Warm smile, warm hands and warm stethoscope all hel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a:t>
            </a:r>
            <a:endParaRPr b="0" lang="en-US" sz="4300" spc="-1" strike="noStrike">
              <a:solidFill>
                <a:srgbClr val="572314"/>
              </a:solidFill>
              <a:latin typeface="Gill Sans MT"/>
            </a:endParaRPr>
          </a:p>
        </p:txBody>
      </p:sp>
      <p:sp>
        <p:nvSpPr>
          <p:cNvPr id="37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velopmental Skill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good overview of developmental skills can be obtained by watching the child pla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few simple toys, such as some bricks, a car, a doll, ball, pencil and paper are all that is requir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development assessment is the focus of the examination, then it should be done before the physical examination, as cooperation may be los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Physical Examination</a:t>
            </a:r>
            <a:endParaRPr b="0" lang="en-US" sz="4300" spc="-1" strike="noStrike">
              <a:solidFill>
                <a:srgbClr val="572314"/>
              </a:solidFill>
              <a:latin typeface="Gill Sans MT"/>
            </a:endParaRPr>
          </a:p>
        </p:txBody>
      </p:sp>
      <p:sp>
        <p:nvSpPr>
          <p:cNvPr id="374" name=""/>
          <p:cNvSpPr txBox="1"/>
          <p:nvPr/>
        </p:nvSpPr>
        <p:spPr>
          <a:xfrm>
            <a:off x="1914480" y="1447560"/>
            <a:ext cx="999648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itial Observation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eful observation is key to success in examining children. Look before touching the child</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 will provide</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rity of illnes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rowth and nutrition</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haviour and social responsiveness</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evel of hygiene</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Severity of Illness</a:t>
            </a:r>
            <a:endParaRPr b="0" lang="en-US" sz="4300" spc="-1" strike="noStrike">
              <a:solidFill>
                <a:srgbClr val="572314"/>
              </a:solidFill>
              <a:latin typeface="Gill Sans MT"/>
            </a:endParaRPr>
          </a:p>
        </p:txBody>
      </p:sp>
      <p:sp>
        <p:nvSpPr>
          <p:cNvPr id="376"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the child sick or well?</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sick, how sick. For the acutely ill infant or child, perform the 60 sec rapid assessment</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irway and breathing – respiration rate and effort, presence of stridor, wheeze, cyanosis etc</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irculation – heart rate, pulse volume, peripheral temperature, pallor</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isability – level of consciousnes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Measurements </a:t>
            </a:r>
            <a:endParaRPr b="0" lang="en-US" sz="4300" spc="-1" strike="noStrike">
              <a:solidFill>
                <a:srgbClr val="572314"/>
              </a:solidFill>
              <a:latin typeface="Gill Sans MT"/>
            </a:endParaRPr>
          </a:p>
        </p:txBody>
      </p:sp>
      <p:sp>
        <p:nvSpPr>
          <p:cNvPr id="378" name=""/>
          <p:cNvSpPr txBox="1"/>
          <p:nvPr/>
        </p:nvSpPr>
        <p:spPr>
          <a:xfrm>
            <a:off x="1914480" y="1447560"/>
            <a:ext cx="9996480" cy="4800600"/>
          </a:xfrm>
          <a:prstGeom prst="rect">
            <a:avLst/>
          </a:prstGeom>
          <a:noFill/>
          <a:ln w="0">
            <a:noFill/>
          </a:ln>
        </p:spPr>
        <p:txBody>
          <a:bodyPr anchor="t">
            <a:normAutofit fontScale="87000"/>
          </a:bodyPr>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 abnormal growth maybe the first manifestation of illness, always measure and plot growth on centile charts</a:t>
            </a:r>
            <a:endParaRPr b="0" lang="en-US" sz="32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te previous measurements from personal child’s health card</a:t>
            </a:r>
            <a:endParaRPr b="0" lang="en-US" sz="2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ngth  (infants if indicated in card) or height</a:t>
            </a:r>
            <a:endParaRPr b="0" lang="en-US" sz="2800" spc="-1" strike="noStrike">
              <a:solidFill>
                <a:srgbClr val="000000"/>
              </a:solidFill>
              <a:latin typeface="Gill Sans MT"/>
            </a:endParaRPr>
          </a:p>
          <a:p>
            <a:pPr lvl="1" marL="556200" indent="-2055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ad circumference in infants</a:t>
            </a:r>
            <a:endParaRPr b="0" lang="en-US" sz="28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 appropriate: temperature, blood pressure, peak expiratory flow rate</a:t>
            </a:r>
            <a:endParaRPr b="0" lang="en-US" sz="3200" spc="-1" strike="noStrike">
              <a:solidFill>
                <a:srgbClr val="000000"/>
              </a:solidFill>
              <a:latin typeface="Gill Sans MT"/>
            </a:endParaRPr>
          </a:p>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eneral appearance </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face, head and neck and hands should be examin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ATION…General Appearance.</a:t>
            </a:r>
            <a:endParaRPr b="0" lang="en-US" sz="4300" spc="-1" strike="noStrike">
              <a:solidFill>
                <a:srgbClr val="572314"/>
              </a:solidFill>
              <a:latin typeface="Gill Sans MT"/>
            </a:endParaRPr>
          </a:p>
        </p:txBody>
      </p:sp>
      <p:sp>
        <p:nvSpPr>
          <p:cNvPr id="380" name=""/>
          <p:cNvSpPr txBox="1"/>
          <p:nvPr/>
        </p:nvSpPr>
        <p:spPr>
          <a:xfrm>
            <a:off x="1914480" y="1447560"/>
            <a:ext cx="999648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general morphological appearance may suggest chromosomal or dysmorphic syndrome</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infants palpate the fontanelles and sutures</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the skin, head, face, eyes, nose and mouth</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piratory System Examination</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se: is there any discharge, abnormality of the nose, flaring of alae nasae</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uth: cyanosis (central cyanosi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82" name=""/>
          <p:cNvSpPr txBox="1"/>
          <p:nvPr/>
        </p:nvSpPr>
        <p:spPr>
          <a:xfrm>
            <a:off x="1914480" y="1447560"/>
            <a:ext cx="999648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ck: use of the accessory muscle of respiration (sternocleidomastoid muscles), position of the trachea, suprasternal indrawing</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yanosis: central cyanosis is best observed on the tongue</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ubbing of the fingers is usually associated with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ronic suppurative lung disease e.g. cystic fibrosis or </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yanotic congenital heart disease</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ccasionally inflammatory bowel disease</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irrhosis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ommon Clinical Scenarios</a:t>
            </a:r>
            <a:endParaRPr b="0" lang="en-US" sz="4300" spc="-1" strike="noStrike">
              <a:solidFill>
                <a:srgbClr val="572314"/>
              </a:solidFill>
              <a:latin typeface="Gill Sans MT"/>
            </a:endParaRPr>
          </a:p>
        </p:txBody>
      </p:sp>
      <p:sp>
        <p:nvSpPr>
          <p:cNvPr id="330"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ildren can present with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ute problems such as upper respiratory infections, diarrhea, vomiting etc</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ronic problems e.g. failure to thrive, chronic cough</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newborn infant with congenital malformation or abnormality e.g.  CHD, down’s syndrom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spect delay in development e.g. slow to walk,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haviour problem e.g. temper tantrums, hyperactivity, eating disorde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84"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chypnea: rate of respiration is usually age related</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yspnea: labored breathing. This is judged by nasal flaring, expiratory granting,  use of accessory muscles of respiration, retraction of the chest wall from use of suprasternal, intercostal, and subcostal muscle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fficulty in speaking or feeding</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st shape, hyper-extension or barrel shape e.g. in asthma</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ctus excavatum (hollow chest) or pectus carinatum (pegion shap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86" name=""/>
          <p:cNvSpPr txBox="1"/>
          <p:nvPr/>
        </p:nvSpPr>
        <p:spPr>
          <a:xfrm>
            <a:off x="1914480" y="1447560"/>
            <a:ext cx="999648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rrison sulcus (from diaphragmatic tug), this occurs from poorly controlled asthma</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ymetry of chest movements</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piratory Rates in Children</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ge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normal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tarchypnea</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onate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30-50</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gt;60</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an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20-30</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gt;50</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ng child </a:t>
            </a:r>
            <a:r>
              <a:rPr b="0" lang="en-US" sz="3200" spc="-1" strike="noStrike">
                <a:solidFill>
                  <a:srgbClr val="000000"/>
                </a:solidFill>
                <a:latin typeface="Gill Sans MT"/>
              </a:rPr>
              <a:t>	</a:t>
            </a:r>
            <a:r>
              <a:rPr b="0" lang="en-US" sz="3200" spc="-1" strike="noStrike">
                <a:solidFill>
                  <a:srgbClr val="000000"/>
                </a:solidFill>
                <a:latin typeface="Gill Sans MT"/>
              </a:rPr>
              <a:t>20-30</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gt;50</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lder child</a:t>
            </a:r>
            <a:r>
              <a:rPr b="0" lang="en-US" sz="3200" spc="-1" strike="noStrike">
                <a:solidFill>
                  <a:srgbClr val="000000"/>
                </a:solidFill>
                <a:latin typeface="Gill Sans MT"/>
              </a:rPr>
              <a:t>	</a:t>
            </a:r>
            <a:r>
              <a:rPr b="0" lang="en-US" sz="3200" spc="-1" strike="noStrike">
                <a:solidFill>
                  <a:srgbClr val="000000"/>
                </a:solidFill>
                <a:latin typeface="Gill Sans MT"/>
              </a:rPr>
              <a:t>15-20</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gt;40</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88"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ion </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st expansion: it’s 3-5cm in school aged children. Measure maximum chest expansion with tape measure. Check for symetry</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rachea: check if centrally located (this is seldom helpful as it not liked by childre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cation of apex beat to detect mediastinal shift</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rcussio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 gentle, compare the different sites, use middle finger</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90"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rcussio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any localized dullness – dullness suggests lung collapse,  consolidation or fluid</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uscultation (use ears and stethoscop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the quality and symmetry of breath sounds and added sound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rsh breath sounds from the upper airway are transmitted to the upper chest in infant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hoarse void – refers to abnormality of the vocal cord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EXAMINATION…Respiratory System Exam..</a:t>
            </a:r>
            <a:endParaRPr b="0" lang="en-US" sz="3900" spc="-1" strike="noStrike">
              <a:solidFill>
                <a:srgbClr val="572314"/>
              </a:solidFill>
              <a:latin typeface="Gill Sans MT"/>
            </a:endParaRPr>
          </a:p>
        </p:txBody>
      </p:sp>
      <p:sp>
        <p:nvSpPr>
          <p:cNvPr id="392" name=""/>
          <p:cNvSpPr txBox="1"/>
          <p:nvPr/>
        </p:nvSpPr>
        <p:spPr>
          <a:xfrm>
            <a:off x="1914480" y="1447560"/>
            <a:ext cx="999648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ridor – is a harsh, low pitched, mainly inspiratory sound from upper airways obstruction</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e the breath sounds – normal breath sounds are vesicular, </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ronchial breathing is high pitched and the lengths of inspiration and expiration are equal</a:t>
            </a:r>
            <a:endParaRPr b="0" lang="en-US" sz="28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eeze is high pitched, expiratory sound from distal airway obstruction</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ackles – discontinuous moist sounds from the opening of bronchial</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Chest Signs of some common Chest Disorders in Children</a:t>
            </a:r>
            <a:endParaRPr b="0" lang="en-US" sz="3900" spc="-1" strike="noStrike">
              <a:solidFill>
                <a:srgbClr val="572314"/>
              </a:solidFill>
              <a:latin typeface="Gill Sans MT"/>
            </a:endParaRPr>
          </a:p>
        </p:txBody>
      </p:sp>
      <p:sp>
        <p:nvSpPr>
          <p:cNvPr id="39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ronchiolitis – labored breathing,  hyperinflated chest, chest reccession, hyper-resonant, fine crackles in all zones, wheeze may or may not be present</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neumonia – reduced breath sounds on the affected side on chest movement, rapid, shallow breaths, bronchial breathing on auscultation, crackl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396" name=""/>
          <p:cNvSpPr txBox="1"/>
          <p:nvPr/>
        </p:nvSpPr>
        <p:spPr>
          <a:xfrm>
            <a:off x="1914480" y="1447560"/>
            <a:ext cx="999648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yanosis – observe the tongue for central cyanosis</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ubbing of fingers and toes – check if present</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lse- check for the rate, rhythm – sinus arrhythmia (variation of pulse rate with respiration) is normal</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eck volume of pulse – is feeble in circulatory failure/insufficiency or aortic stenosis. It is increased in high output states e.g. stress, anemia. It is collapsing in patent ductus arteriosus</a:t>
            </a:r>
            <a:endParaRPr b="0" lang="en-US" sz="2800" spc="-1" strike="noStrike">
              <a:solidFill>
                <a:srgbClr val="000000"/>
              </a:solidFill>
              <a:latin typeface="Gill Sans MT"/>
            </a:endParaRPr>
          </a:p>
          <a:p>
            <a:pPr marL="339480" indent="-262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 – check for</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spiratory distres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398" name=""/>
          <p:cNvSpPr txBox="1"/>
          <p:nvPr/>
        </p:nvSpPr>
        <p:spPr>
          <a:xfrm>
            <a:off x="1914480" y="1447560"/>
            <a:ext cx="9996480" cy="4800600"/>
          </a:xfrm>
          <a:prstGeom prst="rect">
            <a:avLst/>
          </a:prstGeom>
          <a:noFill/>
          <a:ln w="0">
            <a:noFill/>
          </a:ln>
        </p:spPr>
        <p:txBody>
          <a:bodyPr anchor="t">
            <a:normAutofit fontScale="87000"/>
          </a:bodyPr>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check for..</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cordium bulge – it appears in cardiac enlargement</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Ventricular impulse – happens in ventricular hypertrophy</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perative scars – mostly it would be due to sternotomy, or left lateral thoracotomy</a:t>
            </a:r>
            <a:endParaRPr b="0" lang="en-US" sz="3200" spc="-1" strike="noStrike">
              <a:solidFill>
                <a:srgbClr val="000000"/>
              </a:solidFill>
              <a:latin typeface="Gill Sans MT"/>
            </a:endParaRPr>
          </a:p>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ion </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rill – palpable murmur</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for apex beat – 4</a:t>
            </a:r>
            <a:r>
              <a:rPr b="0" lang="en-US" sz="3200" spc="-1" strike="noStrike" baseline="30000">
                <a:solidFill>
                  <a:srgbClr val="000000"/>
                </a:solidFill>
                <a:latin typeface="Gill Sans MT"/>
              </a:rPr>
              <a:t>th</a:t>
            </a:r>
            <a:r>
              <a:rPr b="0" lang="en-US" sz="3200" spc="-1" strike="noStrike">
                <a:solidFill>
                  <a:srgbClr val="000000"/>
                </a:solidFill>
                <a:latin typeface="Gill Sans MT"/>
              </a:rPr>
              <a:t>-5</a:t>
            </a:r>
            <a:r>
              <a:rPr b="0" lang="en-US" sz="3200" spc="-1" strike="noStrike" baseline="30000">
                <a:solidFill>
                  <a:srgbClr val="000000"/>
                </a:solidFill>
                <a:latin typeface="Gill Sans MT"/>
              </a:rPr>
              <a:t>th</a:t>
            </a:r>
            <a:r>
              <a:rPr b="0" lang="en-US" sz="3200" spc="-1" strike="noStrike">
                <a:solidFill>
                  <a:srgbClr val="000000"/>
                </a:solidFill>
                <a:latin typeface="Gill Sans MT"/>
              </a:rPr>
              <a:t> intercostal space mid clavicular line (it’s not palpable in some normal children – if they are plump or have dextrocardi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00"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io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ave – usually noted in left ventricular hypertrophy (LVH)</a:t>
            </a:r>
            <a:endParaRPr b="0" lang="en-US" sz="32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rcussion and Auscultatio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diac border percussion is rarely helpful in children</a:t>
            </a:r>
            <a:endParaRPr b="0" lang="en-US" sz="32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uscultatio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sten for heart sounds and murmurs</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art sounds – splitting of second heart sound is usually easily heard and is norma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02" name=""/>
          <p:cNvSpPr txBox="1"/>
          <p:nvPr/>
        </p:nvSpPr>
        <p:spPr>
          <a:xfrm>
            <a:off x="1914480" y="1447560"/>
            <a:ext cx="999648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xed splitting of second heart sound is heard in atrial septal defect</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heart sound in mitral area is normal in young children</a:t>
            </a:r>
            <a:endParaRPr b="0" lang="en-US" sz="32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rmurs – when you ausculate a murmur, check for </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iming – is it systolic, diastolic or continuous</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hat is the duration – mid systolic (ejection), pansystolic</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 loud is it – systolic murmurs are graded</a:t>
            </a:r>
            <a:endParaRPr b="0" lang="en-US" sz="32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de 1 – 2: soft, difficult to hear</a:t>
            </a:r>
            <a:endParaRPr b="0" lang="en-US" sz="2800" spc="-1" strike="noStrike">
              <a:solidFill>
                <a:srgbClr val="000000"/>
              </a:solidFill>
              <a:latin typeface="Gill Sans MT"/>
            </a:endParaRPr>
          </a:p>
          <a:p>
            <a:pPr lvl="1" marL="562680" indent="-208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de 3: audible, no thrill</a:t>
            </a:r>
            <a:endParaRPr b="0" lang="en-US" sz="28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Aims and Objectives of History Taking and Examination</a:t>
            </a:r>
            <a:endParaRPr b="0" lang="en-US" sz="3900" spc="-1" strike="noStrike">
              <a:solidFill>
                <a:srgbClr val="572314"/>
              </a:solidFill>
              <a:latin typeface="Gill Sans MT"/>
            </a:endParaRPr>
          </a:p>
        </p:txBody>
      </p:sp>
      <p:sp>
        <p:nvSpPr>
          <p:cNvPr id="332" name=""/>
          <p:cNvSpPr txBox="1"/>
          <p:nvPr/>
        </p:nvSpPr>
        <p:spPr>
          <a:xfrm>
            <a:off x="1914480" y="1447560"/>
            <a:ext cx="999648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helps establish relevant facts of the history; it is a source of diagnostic information</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helps elicit all relevant clinical findings</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helps collate the findings from the history and examination</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helps formulate a working diagnosis or differential diagnosis on the basis of logical deduction</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helps to assemble a problem list and management plan</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04"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rmurs…</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rade 4-6: loud with thrill</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for the area of maximum intensity – mitral, pulmonary, aortic or tricuspid area</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where the murmur radiates to – to neck (aortic stenosis), to the back (coarctation of the aorta or pulmonary stenosis)</a:t>
            </a:r>
            <a:endParaRPr b="0" lang="en-US" sz="32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patomegally</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s a sign of heart failure in infants. An infants liver is palpable 1-2cm below the costal margi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06"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moral puls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coarctation of the aorta, there will be decreased volume or may be impalpable in infants, there will be brachiafemoral delay in older childr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B: heart diseases are common in children with other congenital abnormalities or syndromes e.g. downs syndrome or turners syndrom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08"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rmal resting pulse rate in childr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ge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beats/mi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t;1 year</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110-16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5 years</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95-14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12 years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80-12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t;12 years</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	</a:t>
            </a:r>
            <a:r>
              <a:rPr b="0" lang="en-US" sz="3200" spc="-1" strike="noStrike">
                <a:solidFill>
                  <a:srgbClr val="000000"/>
                </a:solidFill>
                <a:latin typeface="Gill Sans MT"/>
              </a:rPr>
              <a:t>60-100</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ulse rate increases in children when there is stress, fever, arrhythmia, exercis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Exam..</a:t>
            </a:r>
            <a:endParaRPr b="0" lang="en-US" sz="3900" spc="-1" strike="noStrike">
              <a:solidFill>
                <a:srgbClr val="572314"/>
              </a:solidFill>
              <a:latin typeface="Gill Sans MT"/>
            </a:endParaRPr>
          </a:p>
        </p:txBody>
      </p:sp>
      <p:sp>
        <p:nvSpPr>
          <p:cNvPr id="410" name=""/>
          <p:cNvSpPr txBox="1"/>
          <p:nvPr/>
        </p:nvSpPr>
        <p:spPr>
          <a:xfrm>
            <a:off x="1914480" y="1447560"/>
            <a:ext cx="9996480" cy="480060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atures suggesting a murmur is significant</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conducted all over the precordium</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loud</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re is a thrill (grade 4-6)</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ny diastolic murmur</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accompanied by other cardiac signs</a:t>
            </a:r>
            <a:endParaRPr b="0" lang="en-US" sz="3200" spc="-1" strike="noStrike">
              <a:solidFill>
                <a:srgbClr val="000000"/>
              </a:solidFill>
              <a:latin typeface="Gill Sans MT"/>
            </a:endParaRPr>
          </a:p>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atures of heart failure in infants</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oor feeding</a:t>
            </a:r>
            <a:r>
              <a:rPr b="0" lang="en-GB" sz="3200" spc="-1" strike="noStrike">
                <a:solidFill>
                  <a:srgbClr val="000000"/>
                </a:solidFill>
                <a:latin typeface="Gill Sans MT"/>
              </a:rPr>
              <a:t>, failure to thrive</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eat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ardio-vascular System ..</a:t>
            </a:r>
            <a:endParaRPr b="0" lang="en-US" sz="3900" spc="-1" strike="noStrike">
              <a:solidFill>
                <a:srgbClr val="572314"/>
              </a:solidFill>
              <a:latin typeface="Gill Sans MT"/>
            </a:endParaRPr>
          </a:p>
        </p:txBody>
      </p:sp>
      <p:sp>
        <p:nvSpPr>
          <p:cNvPr id="41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eatures of heart failure in infant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rchypnoe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rchycardia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allop rhythm</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diomegall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patomegall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Per Abdominal Exam</a:t>
            </a:r>
            <a:endParaRPr b="0" lang="en-US" sz="4300" spc="-1" strike="noStrike">
              <a:solidFill>
                <a:srgbClr val="572314"/>
              </a:solidFill>
              <a:latin typeface="Gill Sans MT"/>
            </a:endParaRPr>
          </a:p>
        </p:txBody>
      </p:sp>
      <p:sp>
        <p:nvSpPr>
          <p:cNvPr id="41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is performed in 3 major clinical setting</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uring routine examina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n there is an acute abdome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n there is abdominal distension or mass</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ociated signs in abdominal examination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amine eyes for jaundic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amine tongue for coating and color</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xamine fingers for finger clubbing</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16"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bdomen is protuberant in normal toddlers and young childre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eneralised abdominal distension is explained by the five f’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at</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uid (ascites – uncommon in children, commonly nephrotic syndrome)</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aeces (constipatio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18" name=""/>
          <p:cNvSpPr txBox="1"/>
          <p:nvPr/>
        </p:nvSpPr>
        <p:spPr>
          <a:xfrm>
            <a:off x="1914480" y="1447560"/>
            <a:ext cx="9996480" cy="4800600"/>
          </a:xfrm>
          <a:prstGeom prst="rect">
            <a:avLst/>
          </a:prstGeom>
          <a:noFill/>
          <a:ln w="0">
            <a:noFill/>
          </a:ln>
        </p:spPr>
        <p:txBody>
          <a:bodyPr anchor="t">
            <a:normAutofit fontScale="86000"/>
          </a:bodyPr>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latus (malabsorption, intestinal obstruction)</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etus (remember this when female child is in puberty)</a:t>
            </a:r>
            <a:endParaRPr b="0" lang="en-US" sz="2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ccassionally abdominal distension is caused by a grossly enlarged liver and or spleen or muscle hypotonia)</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uses of localized abdominal distension are</a:t>
            </a:r>
            <a:endParaRPr b="0" lang="en-US" sz="3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pper abdomen: gastric dilatation from pyloric stenosis, hepatospleenomegally</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ower abdomen: distended bladder or masses</a:t>
            </a:r>
            <a:endParaRPr b="0" lang="en-US" sz="2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ther signs to be inspected are dilated veins and abdominal striae</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20" name=""/>
          <p:cNvSpPr txBox="1"/>
          <p:nvPr/>
        </p:nvSpPr>
        <p:spPr>
          <a:xfrm>
            <a:off x="1914480" y="1447560"/>
            <a:ext cx="999648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 for operative scars</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 for peristalsis – from pyloric stenosis, intestinal obstruction</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 buttocks if well rounded or wasted as in malabsorption as in coeliac disease or malnutrition</a:t>
            </a:r>
            <a:endParaRPr b="0" lang="en-US" sz="32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ion</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warm hands, explain, relax the child and keep the parent close at hand. Ask if it hurts</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e in systematic fashion – liver, spleen, kidneys, bladder through the four abdominal quadrant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22"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k about any tenderness. Watch the child’s face for any grimacing as you palpate</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B: a young child may be cooperative if you first start palpating with his hand or putting your hand on top of his</a:t>
            </a:r>
            <a:endParaRPr b="0" lang="en-US" sz="3200" spc="-1" strike="noStrike">
              <a:solidFill>
                <a:srgbClr val="000000"/>
              </a:solidFill>
              <a:latin typeface="Gill Sans MT"/>
            </a:endParaRPr>
          </a:p>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nderness </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localized in appendicitis, hepatitis, pyelonephritis, generalized mesenteric adenitis, peritonitis</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uarding: often not impressive on direct palpation in childre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Key Points and in Pediatric History and Examination</a:t>
            </a:r>
            <a:endParaRPr b="0" lang="en-US" sz="3900" spc="-1" strike="noStrike">
              <a:solidFill>
                <a:srgbClr val="572314"/>
              </a:solidFill>
              <a:latin typeface="Gill Sans MT"/>
            </a:endParaRPr>
          </a:p>
        </p:txBody>
      </p:sp>
      <p:sp>
        <p:nvSpPr>
          <p:cNvPr id="33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ild age is always a key feature, it determine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nature and presentation of illness, development or behavioral problem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way in which the history taking and examination are conducted</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way in which any subsequent management is organized</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ver ignore parents, these are astute observers of their childre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24" name=""/>
          <p:cNvSpPr txBox="1"/>
          <p:nvPr/>
        </p:nvSpPr>
        <p:spPr>
          <a:xfrm>
            <a:off x="1914480" y="1447560"/>
            <a:ext cx="9996480" cy="4800600"/>
          </a:xfrm>
          <a:prstGeom prst="rect">
            <a:avLst/>
          </a:prstGeom>
          <a:noFill/>
          <a:ln w="0">
            <a:noFill/>
          </a:ln>
        </p:spPr>
        <p:txBody>
          <a:bodyPr anchor="t">
            <a:normAutofit fontScale="85000"/>
          </a:bodyPr>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Guarding…</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owever pain on coughing, on moving about, on walking, bumps during a car journey suggests peritoneal irritation.</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ack bent on walking maybe be from psoas inflammation in appendicitis</a:t>
            </a:r>
            <a:endParaRPr b="0" lang="en-US" sz="3200" spc="-1" strike="noStrike">
              <a:solidFill>
                <a:srgbClr val="000000"/>
              </a:solidFill>
              <a:latin typeface="Gill Sans MT"/>
            </a:endParaRPr>
          </a:p>
          <a:p>
            <a:pPr marL="309960" indent="-240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patomegally</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e from right illiac fossa</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cate edge with tips or side of finger</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ge maybe soft or firm</a:t>
            </a:r>
            <a:endParaRPr b="0" lang="en-US" sz="3200" spc="-1" strike="noStrike">
              <a:solidFill>
                <a:srgbClr val="000000"/>
              </a:solidFill>
              <a:latin typeface="Gill Sans MT"/>
            </a:endParaRPr>
          </a:p>
          <a:p>
            <a:pPr marL="309960" indent="-2401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e is unable to get above i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26" name=""/>
          <p:cNvSpPr txBox="1"/>
          <p:nvPr/>
        </p:nvSpPr>
        <p:spPr>
          <a:xfrm>
            <a:off x="1914480" y="1447560"/>
            <a:ext cx="9996480" cy="4800600"/>
          </a:xfrm>
          <a:prstGeom prst="rect">
            <a:avLst/>
          </a:prstGeom>
          <a:noFill/>
          <a:ln w="0">
            <a:noFill/>
          </a:ln>
        </p:spPr>
        <p:txBody>
          <a:bodyPr anchor="t">
            <a:normAutofit fontScale="97000"/>
          </a:bodyPr>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patomegally…</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s with respiration</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sure (in cm) extension below costal margin in mid clavicular line. Liver tenderness is likely to be inflammation from hepatitis</a:t>
            </a:r>
            <a:endParaRPr b="0" lang="en-US" sz="32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leenomegally</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e from left illiac fossa</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dge is usually soft</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able to get above it</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914480" y="-360"/>
            <a:ext cx="9996480" cy="122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28" name=""/>
          <p:cNvSpPr txBox="1"/>
          <p:nvPr/>
        </p:nvSpPr>
        <p:spPr>
          <a:xfrm>
            <a:off x="1914480" y="1019160"/>
            <a:ext cx="9996480" cy="522936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leenomegally..</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moves with respiratio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sure size below costal margin (in cm) in mid clavicular line</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uncertain whether it palpable or not</a:t>
            </a:r>
            <a:endParaRPr b="0" lang="en-US" sz="32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Use bimanual approach</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urn child onto right side</a:t>
            </a:r>
            <a:endParaRPr b="0" lang="en-US" sz="2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 palpable spleen is at least twice its normal size</a:t>
            </a:r>
            <a:endParaRPr b="0" lang="en-US" sz="28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hyperextended chest in bronchiolitis or asthma may displace liver and spleen downwards mimicking hepatospleenomegall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30" name=""/>
          <p:cNvSpPr txBox="1"/>
          <p:nvPr/>
        </p:nvSpPr>
        <p:spPr>
          <a:xfrm>
            <a:off x="1914480" y="1447560"/>
            <a:ext cx="9996480" cy="4800600"/>
          </a:xfrm>
          <a:prstGeom prst="rect">
            <a:avLst/>
          </a:prstGeom>
          <a:noFill/>
          <a:ln w="0">
            <a:noFill/>
          </a:ln>
        </p:spPr>
        <p:txBody>
          <a:bodyPr anchor="t">
            <a:normAutofit fontScale="91000"/>
          </a:bodyPr>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uses of Spleenomegally</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genital </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ections</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fectious mononucleosis</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patitis </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laria</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rasitic infections</a:t>
            </a: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ematological </a:t>
            </a: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ckle cell anemia</a:t>
            </a: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allasemia </a:t>
            </a: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3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uses of Hepatomegall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ver diseas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ronic active hepatiti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rtal hypertens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lycystic disease</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lignancy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eukemia </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Lymphoma</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euroblastoma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34" name=""/>
          <p:cNvSpPr txBox="1"/>
          <p:nvPr/>
        </p:nvSpPr>
        <p:spPr>
          <a:xfrm>
            <a:off x="1914480" y="1447560"/>
            <a:ext cx="9996480" cy="4800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ilms tumor</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patocellular carcinoma</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tabolic </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Glycogen and lipid storage disorders</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ucopolysaccharidosi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ardiovascular</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Heart failure </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36"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Kidney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 usually palpable beyond neonatal period unless enlarged or the abdominal muscles are hypotonic</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n exam</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alapate by balloting bimanually</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y move on respiration</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One can get above them</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nderness implies inflamm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38"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bdominal masses – these could be:</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ilms tumor – these are renal masses, sometimes are visible and does not cross the midline</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uroblastoma – these are irregular firm masses, may cross the midline, the child is usually very unwell</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aecal mass – these are mobile, non tender, indentable</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ussusception – child becomes acutely unwell, mass may be palpable and most often in the right quandrant.</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40" name=""/>
          <p:cNvSpPr txBox="1"/>
          <p:nvPr/>
        </p:nvSpPr>
        <p:spPr>
          <a:xfrm>
            <a:off x="1914480" y="1447560"/>
            <a:ext cx="999648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rcussion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ver – dullness delineate upper and lower border, record the span</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pleen – dullness delineate the lower border</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cites – shifting dullness. Percus from most resonant spot to most dull point</a:t>
            </a:r>
            <a:endParaRPr b="0" lang="en-US" sz="3200" spc="-1" strike="noStrike">
              <a:solidFill>
                <a:srgbClr val="000000"/>
              </a:solidFill>
              <a:latin typeface="Gill Sans MT"/>
            </a:endParaRPr>
          </a:p>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uscultation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t very useful in routine examination, but important in acute abdome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Per Abdominal Exam..</a:t>
            </a:r>
            <a:endParaRPr b="0" lang="en-US" sz="3900" spc="-1" strike="noStrike">
              <a:solidFill>
                <a:srgbClr val="572314"/>
              </a:solidFill>
              <a:latin typeface="Gill Sans MT"/>
            </a:endParaRPr>
          </a:p>
        </p:txBody>
      </p:sp>
      <p:sp>
        <p:nvSpPr>
          <p:cNvPr id="44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uscultation..</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creased bowel sounds – intestinal obstruction, acute diarrhe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educed or absent bowel sounds – paralytic ileus, peritoniti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History</a:t>
            </a:r>
            <a:endParaRPr b="0" lang="en-US" sz="4300" spc="-1" strike="noStrike">
              <a:solidFill>
                <a:srgbClr val="572314"/>
              </a:solidFill>
              <a:latin typeface="Gill Sans MT"/>
            </a:endParaRPr>
          </a:p>
        </p:txBody>
      </p:sp>
      <p:sp>
        <p:nvSpPr>
          <p:cNvPr id="336"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ake sure you have read any referral letter and scanned the notes before start of the interview</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elcome child and parents and address them by nam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troduce yourself</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termine relationship of adult to child</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stablish eye contact and rapport with the family. Infants and toddlers are most secure in a parents arms or lap.</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ng children may need some time to know you, don’t rush the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Genital Exam</a:t>
            </a:r>
            <a:endParaRPr b="0" lang="en-US" sz="4300" spc="-1" strike="noStrike">
              <a:solidFill>
                <a:srgbClr val="572314"/>
              </a:solidFill>
              <a:latin typeface="Gill Sans MT"/>
            </a:endParaRPr>
          </a:p>
        </p:txBody>
      </p:sp>
      <p:sp>
        <p:nvSpPr>
          <p:cNvPr id="444" name=""/>
          <p:cNvSpPr txBox="1"/>
          <p:nvPr/>
        </p:nvSpPr>
        <p:spPr>
          <a:xfrm>
            <a:off x="1914480" y="1447560"/>
            <a:ext cx="999648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is examined routinely in young children, but in older children and teenagers it’s only done if relevant e.g. a teenager with vaginal discharge</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for inguinal hernia or perineal rash</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males check for:</a:t>
            </a:r>
            <a:endParaRPr b="0" lang="en-US" sz="32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size of the penis</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Development of scrotum</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re the testes palpable? Place one hand on the inguinal area, palpate with the other hand. Record if the testes is descended, retractile or impalpable</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Genital Exam..</a:t>
            </a:r>
            <a:endParaRPr b="0" lang="en-US" sz="4300" spc="-1" strike="noStrike">
              <a:solidFill>
                <a:srgbClr val="572314"/>
              </a:solidFill>
              <a:latin typeface="Gill Sans MT"/>
            </a:endParaRPr>
          </a:p>
        </p:txBody>
      </p:sp>
      <p:sp>
        <p:nvSpPr>
          <p:cNvPr id="446"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males…</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there any scrotal swelling (it could either be hernia or hydrocele)</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female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ine the external genitalia, comment whether it looks normal. Does the anus look normal? Any evidence of fissur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Rectal Exam..</a:t>
            </a:r>
            <a:endParaRPr b="0" lang="en-US" sz="4300" spc="-1" strike="noStrike">
              <a:solidFill>
                <a:srgbClr val="572314"/>
              </a:solidFill>
              <a:latin typeface="Gill Sans MT"/>
            </a:endParaRPr>
          </a:p>
        </p:txBody>
      </p:sp>
      <p:sp>
        <p:nvSpPr>
          <p:cNvPr id="448" name=""/>
          <p:cNvSpPr txBox="1"/>
          <p:nvPr/>
        </p:nvSpPr>
        <p:spPr>
          <a:xfrm>
            <a:off x="1914480" y="1447560"/>
            <a:ext cx="9996480" cy="480060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s is not part of routine exam</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unpleasant and disliked by childre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s usefulness in acute abdomen (e.g. appendicitis) is debatable in children as they have a thin abdominal wall and so tenderness and masses can be identified on palpation of the abdome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intussusception is suspected, the mass maybe palpable and stools looking like redcurrent jam maybe revealed on rectal exa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50"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urological scree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duct a quick neurological and development overview</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void unnecessary examinatio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dapt it to the child’s ag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ake into account the parents account of the developmental milestone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atch child draw or write, assess manipulative skills, language, speech, social interactions as appropriate, vision and hearing (are they normal)</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52" name=""/>
          <p:cNvSpPr txBox="1"/>
          <p:nvPr/>
        </p:nvSpPr>
        <p:spPr>
          <a:xfrm>
            <a:off x="1914480" y="1447560"/>
            <a:ext cx="9996480" cy="4800600"/>
          </a:xfrm>
          <a:prstGeom prst="rect">
            <a:avLst/>
          </a:prstGeom>
          <a:noFill/>
          <a:ln w="0">
            <a:noFill/>
          </a:ln>
        </p:spPr>
        <p:txBody>
          <a:bodyPr anchor="t">
            <a:normAutofit fontScale="86000"/>
          </a:bodyPr>
          <a:p>
            <a:pPr marL="313920" indent="-243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infants </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ess first by observation…what does one assess?</a:t>
            </a:r>
            <a:endParaRPr b="0" lang="en-US" sz="32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sture and movement of limbs</a:t>
            </a:r>
            <a:endParaRPr b="0" lang="en-US" sz="2800" spc="-1" strike="noStrike">
              <a:solidFill>
                <a:srgbClr val="000000"/>
              </a:solidFill>
              <a:latin typeface="Gill Sans MT"/>
            </a:endParaRPr>
          </a:p>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n picking child note the muscle tone. The body or limbs may feel normal or floppy or stiff. Head control maybe poor, with abnormal head lag on pulling to sitting</a:t>
            </a:r>
            <a:endParaRPr b="0" lang="en-US" sz="2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B: Most children are neurologically intact and do not require formal neurological examination of reflexes, tone etc.</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tailed neurological exam is performed only if indicat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54" name=""/>
          <p:cNvSpPr txBox="1"/>
          <p:nvPr/>
        </p:nvSpPr>
        <p:spPr>
          <a:xfrm>
            <a:off x="1914480" y="1447560"/>
            <a:ext cx="9996480" cy="4800600"/>
          </a:xfrm>
          <a:prstGeom prst="rect">
            <a:avLst/>
          </a:prstGeom>
          <a:noFill/>
          <a:ln w="0">
            <a:noFill/>
          </a:ln>
        </p:spPr>
        <p:txBody>
          <a:bodyPr anchor="t">
            <a:normAutofit fontScale="88000"/>
          </a:bodyPr>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etailed Neurological Exam</a:t>
            </a:r>
            <a:endParaRPr b="0" lang="en-US" sz="3200" spc="-1" strike="noStrike">
              <a:solidFill>
                <a:srgbClr val="000000"/>
              </a:solidFill>
              <a:latin typeface="Gill Sans MT"/>
            </a:endParaRPr>
          </a:p>
          <a:p>
            <a:pPr marL="321120" indent="-248400">
              <a:spcBef>
                <a:spcPts val="601"/>
              </a:spcBef>
              <a:buClr>
                <a:srgbClr val="3891a7"/>
              </a:buClr>
              <a:buSzPct val="80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terns of movement</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bserve walking or running</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rmal walking heel – toe: a toe – heal walking suggests pyramidal tracts (cortico-spinal) dysfunction particularly hemiplagia or diplagia</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foot drop – suggests superficial peroneal nerve lesion </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tight tendo achilles as in muscular disorder</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 broad based gait – immature gait or secondary to cerebellar disorde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56" name=""/>
          <p:cNvSpPr txBox="1"/>
          <p:nvPr/>
        </p:nvSpPr>
        <p:spPr>
          <a:xfrm>
            <a:off x="1914480" y="1447560"/>
            <a:ext cx="9996480" cy="480060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tterns of Movemen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tanding from lying down supine – observe children from 36 months of age will turn prone in order to stand because of poor pelvic muscle fixation. But if beyond this age it suggests neuromuscular weakness (duchennes muscular dystrophy)</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2. Coordination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sess this by </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king child to build one brick upon another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58" name=""/>
          <p:cNvSpPr txBox="1"/>
          <p:nvPr/>
        </p:nvSpPr>
        <p:spPr>
          <a:xfrm>
            <a:off x="1914480" y="1447560"/>
            <a:ext cx="9996480" cy="4800600"/>
          </a:xfrm>
          <a:prstGeom prst="rect">
            <a:avLst/>
          </a:prstGeom>
          <a:noFill/>
          <a:ln w="0">
            <a:noFill/>
          </a:ln>
        </p:spPr>
        <p:txBody>
          <a:bodyPr anchor="t">
            <a:normAutofit fontScale="98000"/>
          </a:bodyPr>
          <a:p>
            <a:pPr marL="357480" indent="-276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ordination…</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k child to stretch his arms out straight, close their eyes and observe for tremors or drift</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nger nose testing (use teddy’s nose to reach out and touch if necessary)</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Rapid alternating movements of hands and fingers </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uching tip of each finger in turn with thumb</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sk the child to walk heel-toe, jump and hop</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60"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3. Inspection of Limb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scle bulk</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asting maybe secondary to cerebral palsy, meningomyelocele, or a muscle disorder or from previous poliomyeliti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creased bulk of calf muscles may indicate duchennes muscular dystrophy</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4. Muscle Tone</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est assessed by taking the weight of a whole limb and then bending and extending it around a single join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62" name=""/>
          <p:cNvSpPr txBox="1"/>
          <p:nvPr/>
        </p:nvSpPr>
        <p:spPr>
          <a:xfrm>
            <a:off x="1914480" y="1447560"/>
            <a:ext cx="9996480" cy="4800600"/>
          </a:xfrm>
          <a:prstGeom prst="rect">
            <a:avLst/>
          </a:prstGeom>
          <a:noFill/>
          <a:ln w="0">
            <a:noFill/>
          </a:ln>
        </p:spPr>
        <p:txBody>
          <a:bodyPr anchor="t">
            <a:normAutofit fontScale="86000"/>
          </a:bodyPr>
          <a:p>
            <a:pPr lvl="1" marL="550080" indent="-2034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sting is easiest at the knee and ankle joints. Assess for the range of movement as well as the general feel of it</a:t>
            </a:r>
            <a:endParaRPr b="0" lang="en-US" sz="28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creased tone at adductors and internal rotators of the hips, clonus at the ankles or increased tone on pronation of forearms at rest is due to pyramidal dysfunction</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issors of legs in posture of limbs with pronated forearms result from increased tone</a:t>
            </a:r>
            <a:endParaRPr b="0" lang="en-US" sz="3200" spc="-1" strike="noStrike">
              <a:solidFill>
                <a:srgbClr val="000000"/>
              </a:solidFill>
              <a:latin typeface="Gill Sans MT"/>
            </a:endParaRPr>
          </a:p>
          <a:p>
            <a:pPr marL="313920" indent="-243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5.  Truncal Tone</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pyramidal tract disorders, the trunk and head tend to arch backwards (extensor postur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History…</a:t>
            </a:r>
            <a:endParaRPr b="0" lang="en-US" sz="4300" spc="-1" strike="noStrike">
              <a:solidFill>
                <a:srgbClr val="572314"/>
              </a:solidFill>
              <a:latin typeface="Gill Sans MT"/>
            </a:endParaRPr>
          </a:p>
        </p:txBody>
      </p:sp>
      <p:sp>
        <p:nvSpPr>
          <p:cNvPr id="338" name=""/>
          <p:cNvSpPr txBox="1"/>
          <p:nvPr/>
        </p:nvSpPr>
        <p:spPr>
          <a:xfrm>
            <a:off x="1914480" y="1447560"/>
            <a:ext cx="9996480" cy="4800600"/>
          </a:xfrm>
          <a:prstGeom prst="rect">
            <a:avLst/>
          </a:prstGeom>
          <a:noFill/>
          <a:ln w="0">
            <a:noFill/>
          </a:ln>
        </p:spPr>
        <p:txBody>
          <a:bodyPr anchor="t">
            <a:normAutofit fontScale="92000"/>
          </a:bodyPr>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nsure that the interview room is as welcoming and unthreatening as possible</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ave toys available. Observe how the child separates, plays and interacts with other sibling available</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o not forget to address questions to the child when appropriate</a:t>
            </a:r>
            <a:endParaRPr b="0" lang="en-US" sz="3200" spc="-1" strike="noStrike">
              <a:solidFill>
                <a:srgbClr val="000000"/>
              </a:solidFill>
              <a:latin typeface="Gill Sans MT"/>
            </a:endParaRPr>
          </a:p>
          <a:p>
            <a:pPr marL="335520" indent="-25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ome occasions the parents would not like to be with the child or when the child should be seen alone</a:t>
            </a:r>
            <a:endParaRPr b="0" lang="en-US" sz="3200" spc="-1" strike="noStrike">
              <a:solidFill>
                <a:srgbClr val="000000"/>
              </a:solidFill>
              <a:latin typeface="Gill Sans MT"/>
            </a:endParaRPr>
          </a:p>
          <a:p>
            <a:pPr lvl="1" marL="588240" indent="-2174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s is to avoid any embarrassment to the child e.g. teenage children</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6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muscle disease and some central brain disorders, trunk maybe hypotonic. Child feels floppy to handle and cannot support the trunk</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Head lag: best tested by pulling the child up by the arms from a supine position</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 Powe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fficult to test in babi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Watch for anti-gravity movements and note motor func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66" name=""/>
          <p:cNvSpPr txBox="1"/>
          <p:nvPr/>
        </p:nvSpPr>
        <p:spPr>
          <a:xfrm>
            <a:off x="1914480" y="1447560"/>
            <a:ext cx="999648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rom 6 months onwards; watch pattern of mobility and gait</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rom age 4 years, power can be tested formally</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6. Reflexes</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st with the child in a relaxed position</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Brisk reflexes may reflect anxiety in the child or due to pyramidal disorder</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bsent reflexes may be due to neuromuscular lesion or within spinal cord or may be due to poor techniqu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68" name=""/>
          <p:cNvSpPr txBox="1"/>
          <p:nvPr/>
        </p:nvSpPr>
        <p:spPr>
          <a:xfrm>
            <a:off x="1914480" y="1447560"/>
            <a:ext cx="999648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lantar responses: equivocal. With over reaction. Its unpopular in children as it is unpleasant</a:t>
            </a:r>
            <a:endParaRPr b="0" lang="en-US" sz="3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ts unreliable in children under 1 year, however upgoing plantar responses provides additional evidence of pyramidal dysfunction</a:t>
            </a:r>
            <a:endParaRPr b="0" lang="en-US" sz="2800" spc="-1" strike="noStrike">
              <a:solidFill>
                <a:srgbClr val="000000"/>
              </a:solidFill>
              <a:latin typeface="Gill Sans MT"/>
            </a:endParaRPr>
          </a:p>
          <a:p>
            <a:pPr marL="353880" indent="-273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8. Sensation</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You test the ability to tickle</a:t>
            </a:r>
            <a:endParaRPr b="0" lang="en-US" sz="32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ss of sensation is likely in meningomyelocele. In this instance do a more detailed sensory testing</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70" name=""/>
          <p:cNvSpPr txBox="1"/>
          <p:nvPr/>
        </p:nvSpPr>
        <p:spPr>
          <a:xfrm>
            <a:off x="1914480" y="1447560"/>
            <a:ext cx="9996480" cy="4800600"/>
          </a:xfrm>
          <a:prstGeom prst="rect">
            <a:avLst/>
          </a:prstGeom>
          <a:noFill/>
          <a:ln w="0">
            <a:noFill/>
          </a:ln>
        </p:spPr>
        <p:txBody>
          <a:bodyPr anchor="t">
            <a:normAutofit fontScale="96000"/>
          </a:bodyPr>
          <a:p>
            <a:pPr marL="350280" indent="-271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9. Cranial Nerves</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1-These can usually be tested formally from 4 years of age</a:t>
            </a: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No need to test during routine practice. Can be done by recognizing smell of a hidden mint sweet</a:t>
            </a:r>
            <a:endParaRPr b="0" lang="en-US" sz="28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2- Visual acuity: determined according to age. It refers to clarity of vision, determine smallest letter they can read. Direct and consensual pupillary response tested to light and accommodation</a:t>
            </a:r>
            <a:endParaRPr b="0" lang="en-US" sz="32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72" name=""/>
          <p:cNvSpPr txBox="1"/>
          <p:nvPr/>
        </p:nvSpPr>
        <p:spPr>
          <a:xfrm>
            <a:off x="1914480" y="1447560"/>
            <a:ext cx="999648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3,4,5 – full eye movement through horizontal and vertical planes. </a:t>
            </a:r>
            <a:endParaRPr b="0" lang="en-US" sz="32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eck the presence of squint</a:t>
            </a:r>
            <a:endParaRPr b="0" lang="en-US" sz="28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eck presence of nystagmus – avoid extreme lateral gaze as it can induce nystagmus in normal children</a:t>
            </a: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6 – clench teeth and waggle jaw from side to side against resistance</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7 – close eyes tight, smile and show teeth</a:t>
            </a:r>
            <a:endParaRPr b="0" lang="en-US" sz="32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8 – hearing: ask parents, although unilateral deafness may be missed this wa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7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9 – levator palate…let them say aagh</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10 – Recurrent laryngeal nerve – listen for hoarseness or stridor</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11 – Trapezius and sternomastoid muscles are responsible for power – shrug shoulders and turn head against resistan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N 12 – let them put out tongue and waggle it from side to sid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Bones and Joints Exam</a:t>
            </a:r>
            <a:endParaRPr b="0" lang="en-US" sz="3900" spc="-1" strike="noStrike">
              <a:solidFill>
                <a:srgbClr val="572314"/>
              </a:solidFill>
              <a:latin typeface="Gill Sans MT"/>
            </a:endParaRPr>
          </a:p>
        </p:txBody>
      </p:sp>
      <p:sp>
        <p:nvSpPr>
          <p:cNvPr id="476" name=""/>
          <p:cNvSpPr txBox="1"/>
          <p:nvPr/>
        </p:nvSpPr>
        <p:spPr>
          <a:xfrm>
            <a:off x="1914480" y="1447560"/>
            <a:ext cx="9996480" cy="4800600"/>
          </a:xfrm>
          <a:prstGeom prst="rect">
            <a:avLst/>
          </a:prstGeom>
          <a:noFill/>
          <a:ln w="0">
            <a:noFill/>
          </a:ln>
        </p:spPr>
        <p:txBody>
          <a:bodyPr anchor="t">
            <a:normAutofit fontScale="95000"/>
          </a:bodyPr>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entation of bone and joint disorders include</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mb pai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nwillingness to use limb</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mb, joint or muscle pai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Joint swelling</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scle wasting</a:t>
            </a:r>
            <a:endParaRPr b="0" lang="en-US" sz="3200" spc="-1" strike="noStrike">
              <a:solidFill>
                <a:srgbClr val="000000"/>
              </a:solidFill>
              <a:latin typeface="Gill Sans MT"/>
            </a:endParaRPr>
          </a:p>
          <a:p>
            <a:pPr marL="34668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elling could be due to joint effusion (there will be loss of joint outline)</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Bones and Joints Exam..</a:t>
            </a:r>
            <a:endParaRPr b="0" lang="en-US" sz="3900" spc="-1" strike="noStrike">
              <a:solidFill>
                <a:srgbClr val="572314"/>
              </a:solidFill>
              <a:latin typeface="Gill Sans MT"/>
            </a:endParaRPr>
          </a:p>
        </p:txBody>
      </p:sp>
      <p:sp>
        <p:nvSpPr>
          <p:cNvPr id="478" name=""/>
          <p:cNvSpPr txBox="1"/>
          <p:nvPr/>
        </p:nvSpPr>
        <p:spPr>
          <a:xfrm>
            <a:off x="1914480" y="1447560"/>
            <a:ext cx="9996480" cy="4800600"/>
          </a:xfrm>
          <a:prstGeom prst="rect">
            <a:avLst/>
          </a:prstGeom>
          <a:noFill/>
          <a:ln w="0">
            <a:noFill/>
          </a:ln>
        </p:spPr>
        <p:txBody>
          <a:bodyPr anchor="t">
            <a:normAutofit fontScale="89000"/>
          </a:bodyPr>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ion…</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welling may also be due to synovial thickening (there will be redness, pain on movement)</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ion </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e for heat, comparing both joints, tenderness, fluctuation or effusion</a:t>
            </a:r>
            <a:endParaRPr b="0" lang="en-US" sz="32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ovements – passive before active in order not to hurt the child. Explain movements in child friendly words. If necessary show with your own limbs the movements you want to test. Record joint movement in degrees</a:t>
            </a:r>
            <a:endParaRPr b="0" lang="en-US" sz="32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Physical Examination…Central Nervous System..</a:t>
            </a:r>
            <a:endParaRPr b="0" lang="en-US" sz="3900" spc="-1" strike="noStrike">
              <a:solidFill>
                <a:srgbClr val="572314"/>
              </a:solidFill>
              <a:latin typeface="Gill Sans MT"/>
            </a:endParaRPr>
          </a:p>
        </p:txBody>
      </p:sp>
      <p:sp>
        <p:nvSpPr>
          <p:cNvPr id="480" name=""/>
          <p:cNvSpPr txBox="1"/>
          <p:nvPr/>
        </p:nvSpPr>
        <p:spPr>
          <a:xfrm>
            <a:off x="1914480" y="1447560"/>
            <a:ext cx="9996480" cy="48006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oliosis – inspect spine especially in older children/adolescents. Ask them to stand straight as a soldier and note the shape of spine </a:t>
            </a:r>
            <a:endParaRPr b="0" lang="en-US" sz="32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eck Examination</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yroid </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 for swelling, it is uncommon in childhood, occasionally at puberty</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alpate behind and front for swelling, nodule or thrill</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uscultate if enlarged</a:t>
            </a:r>
            <a:endParaRPr b="0" lang="en-US" sz="3200" spc="-1" strike="noStrike">
              <a:solidFill>
                <a:srgbClr val="000000"/>
              </a:solidFill>
              <a:latin typeface="Gill Sans MT"/>
            </a:endParaRPr>
          </a:p>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 for sign of hypo/hyper thyroidism</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Lymph Nodes Exam..</a:t>
            </a:r>
            <a:endParaRPr b="0" lang="en-US" sz="4300" spc="-1" strike="noStrike">
              <a:solidFill>
                <a:srgbClr val="572314"/>
              </a:solidFill>
              <a:latin typeface="Gill Sans MT"/>
            </a:endParaRPr>
          </a:p>
        </p:txBody>
      </p:sp>
      <p:sp>
        <p:nvSpPr>
          <p:cNvPr id="482" name=""/>
          <p:cNvSpPr txBox="1"/>
          <p:nvPr/>
        </p:nvSpPr>
        <p:spPr>
          <a:xfrm>
            <a:off x="1914480" y="1447560"/>
            <a:ext cx="999648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ine symmetrically – check the occiput, cervical, inguinal, axillary. Note the size, number and consistency of the nodes felt</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des can be small, discrete, pea sized, mobile in the neck, groin and axilla. This is common in normal children especially if thin</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des can be small, multiple nodes in the neck. This is common in URTI which is either viral/bacterial</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ultiple lymph nodes of variable size in child with extensive eczema</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History…</a:t>
            </a:r>
            <a:endParaRPr b="0" lang="en-US" sz="4300" spc="-1" strike="noStrike">
              <a:solidFill>
                <a:srgbClr val="572314"/>
              </a:solidFill>
              <a:latin typeface="Gill Sans MT"/>
            </a:endParaRPr>
          </a:p>
        </p:txBody>
      </p:sp>
      <p:sp>
        <p:nvSpPr>
          <p:cNvPr id="340" name=""/>
          <p:cNvSpPr txBox="1"/>
          <p:nvPr/>
        </p:nvSpPr>
        <p:spPr>
          <a:xfrm>
            <a:off x="1914480" y="1447560"/>
            <a:ext cx="9996480" cy="4800600"/>
          </a:xfrm>
          <a:prstGeom prst="rect">
            <a:avLst/>
          </a:prstGeom>
          <a:noFill/>
          <a:ln w="0">
            <a:noFill/>
          </a:ln>
        </p:spPr>
        <p:txBody>
          <a:bodyPr anchor="t">
            <a:normAutofit fontScale="91000"/>
          </a:bodyPr>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to note that</a:t>
            </a:r>
            <a:endParaRPr b="0" lang="en-US" sz="32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Gill Sans MT"/>
              </a:rPr>
              <a:t>Pediatrics is a specialty governed by age, the illnesses and the problems children encounter are highly age dependent.  The child’s age will determine the questions to be asked on history taking, how to conduct the examination, the diagnosis and ddx and the management plan</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ediatric stretch from newborn infants to adolescent</a:t>
            </a:r>
            <a:endParaRPr b="0" lang="en-US" sz="32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fant: - Neonate: baby less than 4 weeks of age; Infant:  baby less than 1 year</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Physical Examination…Lymph Nodes Exam..</a:t>
            </a:r>
            <a:endParaRPr b="0" lang="en-US" sz="4300" spc="-1" strike="noStrike">
              <a:solidFill>
                <a:srgbClr val="572314"/>
              </a:solidFill>
              <a:latin typeface="Gill Sans MT"/>
            </a:endParaRPr>
          </a:p>
        </p:txBody>
      </p:sp>
      <p:sp>
        <p:nvSpPr>
          <p:cNvPr id="48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ymph nodes can be large, hot, tender sometimes fluctuant usually on the neck. This can be due to infection or absces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des can be of variable size and shap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des can be caused by</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fections e.g. viral (infectious mononucleosis), or bacterial (TB)</a:t>
            </a: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are causes e.g. malignancy (usually non tender), kawaski disease, cat scratch</a:t>
            </a: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e for Blood Pressure</a:t>
            </a:r>
            <a:endParaRPr b="0" lang="en-US" sz="4300" spc="-1" strike="noStrike">
              <a:solidFill>
                <a:srgbClr val="572314"/>
              </a:solidFill>
              <a:latin typeface="Gill Sans MT"/>
            </a:endParaRPr>
          </a:p>
        </p:txBody>
      </p:sp>
      <p:sp>
        <p:nvSpPr>
          <p:cNvPr id="486" name=""/>
          <p:cNvSpPr txBox="1"/>
          <p:nvPr/>
        </p:nvSpPr>
        <p:spPr>
          <a:xfrm>
            <a:off x="1914480" y="1447560"/>
            <a:ext cx="9996480" cy="4800600"/>
          </a:xfrm>
          <a:prstGeom prst="rect">
            <a:avLst/>
          </a:prstGeom>
          <a:noFill/>
          <a:ln w="0">
            <a:noFill/>
          </a:ln>
        </p:spPr>
        <p:txBody>
          <a:bodyPr anchor="t">
            <a:normAutofit fontScale="87000"/>
          </a:bodyPr>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dications for taking a blood pressure</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ritically ill child</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ild with renal or cardiac disease</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abetes mellitus</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receiving drugs such as cortico-steroids causing hypertension</a:t>
            </a:r>
            <a:endParaRPr b="0" lang="en-US" sz="3200" spc="-1" strike="noStrike">
              <a:solidFill>
                <a:srgbClr val="000000"/>
              </a:solidFill>
              <a:latin typeface="Gill Sans MT"/>
            </a:endParaRPr>
          </a:p>
          <a:p>
            <a:pPr marL="317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chnique </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Measured by use of sphygmomanometer</a:t>
            </a:r>
            <a:endParaRPr b="0" lang="en-US" sz="3200" spc="-1" strike="noStrike">
              <a:solidFill>
                <a:srgbClr val="000000"/>
              </a:solidFill>
              <a:latin typeface="Gill Sans MT"/>
            </a:endParaRPr>
          </a:p>
          <a:p>
            <a:pPr marL="317520" indent="-2455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how child the ballon in the cuff and demonstrate how it is blown up</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xamine for Blood Pressure</a:t>
            </a:r>
            <a:endParaRPr b="0" lang="en-US" sz="4300" spc="-1" strike="noStrike">
              <a:solidFill>
                <a:srgbClr val="572314"/>
              </a:solidFill>
              <a:latin typeface="Gill Sans MT"/>
            </a:endParaRPr>
          </a:p>
        </p:txBody>
      </p:sp>
      <p:sp>
        <p:nvSpPr>
          <p:cNvPr id="488"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Use a cuff that fits comfortably, covering atleast 2/3rds of the upper arm</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e child must be calm, relaxed and not crying</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ystolic pressure is easiest to determine in young children and clinically the most useful</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iastolic pressure is when the sounds become muffled</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Normal: use the available charts related to age. An abnormally hig reading must be repeated, with the child relax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ye Examination</a:t>
            </a:r>
            <a:endParaRPr b="0" lang="en-US" sz="4300" spc="-1" strike="noStrike">
              <a:solidFill>
                <a:srgbClr val="572314"/>
              </a:solidFill>
              <a:latin typeface="Gill Sans MT"/>
            </a:endParaRPr>
          </a:p>
        </p:txBody>
      </p:sp>
      <p:sp>
        <p:nvSpPr>
          <p:cNvPr id="490"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spect eyes, pupil, iris and scler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e eye movements full and symmetrical? Is nystagmus detectable? If present, may have cerebellar or occular caus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e pupils equal and central? Is there a squint?</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phthalmoscop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infants the red reflex is seen from a distance of 20-30cm, absence of red reflex occurs in corneal clouding, cataract or retinoblastoma</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ye Examination…</a:t>
            </a:r>
            <a:endParaRPr b="0" lang="en-US" sz="4300" spc="-1" strike="noStrike">
              <a:solidFill>
                <a:srgbClr val="572314"/>
              </a:solidFill>
              <a:latin typeface="Gill Sans MT"/>
            </a:endParaRPr>
          </a:p>
        </p:txBody>
      </p:sp>
      <p:sp>
        <p:nvSpPr>
          <p:cNvPr id="492" name=""/>
          <p:cNvSpPr txBox="1"/>
          <p:nvPr/>
        </p:nvSpPr>
        <p:spPr>
          <a:xfrm>
            <a:off x="1914480" y="1447560"/>
            <a:ext cx="9996480" cy="4800600"/>
          </a:xfrm>
          <a:prstGeom prst="rect">
            <a:avLst/>
          </a:prstGeom>
          <a:noFill/>
          <a:ln w="0">
            <a:noFill/>
          </a:ln>
        </p:spPr>
        <p:txBody>
          <a:bodyPr anchor="t">
            <a:normAutofit fontScale="94000"/>
          </a:bodyPr>
          <a:p>
            <a:pPr marL="343080" indent="-265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undoscopy </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s difficult to conduct, it requires experience and cooperation from the child. Myriadrics are needed in young children</a:t>
            </a:r>
            <a:endParaRPr b="0" lang="en-US" sz="32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heck for the condition of fundi of the eye</a:t>
            </a:r>
            <a:endParaRPr b="0" lang="en-US" sz="32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tinopathy of prematurity</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tinopathy of congenital infections</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horiodo-retinal haemorrhages</a:t>
            </a:r>
            <a:endParaRPr b="0" lang="en-US" sz="2800" spc="-1" strike="noStrike">
              <a:solidFill>
                <a:srgbClr val="000000"/>
              </a:solidFill>
              <a:latin typeface="Gill Sans MT"/>
            </a:endParaRPr>
          </a:p>
          <a:p>
            <a:pPr lvl="1" marL="601200" indent="-2221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Retinal haemorrhages maybe seen in the shaken baby syndrome (non accidental injury)</a:t>
            </a:r>
            <a:endParaRPr b="0" lang="en-US" sz="2800" spc="-1" strike="noStrike">
              <a:solidFill>
                <a:srgbClr val="000000"/>
              </a:solidFill>
              <a:latin typeface="Gill Sans MT"/>
            </a:endParaRPr>
          </a:p>
          <a:p>
            <a:pPr marL="343080" indent="-2653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ye Examination…</a:t>
            </a:r>
            <a:endParaRPr b="0" lang="en-US" sz="4300" spc="-1" strike="noStrike">
              <a:solidFill>
                <a:srgbClr val="572314"/>
              </a:solidFill>
              <a:latin typeface="Gill Sans MT"/>
            </a:endParaRPr>
          </a:p>
        </p:txBody>
      </p:sp>
      <p:sp>
        <p:nvSpPr>
          <p:cNvPr id="494"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n older children with headaches, diabetes mellitus or hypertension, optic fundi should be examin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ars and Throat Examination</a:t>
            </a:r>
            <a:endParaRPr b="0" lang="en-US" sz="4300" spc="-1" strike="noStrike">
              <a:solidFill>
                <a:srgbClr val="572314"/>
              </a:solidFill>
              <a:latin typeface="Gill Sans MT"/>
            </a:endParaRPr>
          </a:p>
        </p:txBody>
      </p:sp>
      <p:sp>
        <p:nvSpPr>
          <p:cNvPr id="496" name=""/>
          <p:cNvSpPr txBox="1"/>
          <p:nvPr/>
        </p:nvSpPr>
        <p:spPr>
          <a:xfrm>
            <a:off x="1914480" y="1447560"/>
            <a:ext cx="9996480" cy="4800600"/>
          </a:xfrm>
          <a:prstGeom prst="rect">
            <a:avLst/>
          </a:prstGeom>
          <a:noFill/>
          <a:ln w="0">
            <a:noFill/>
          </a:ln>
        </p:spPr>
        <p:txBody>
          <a:bodyPr anchor="t">
            <a:normAutofit fontScale="86000"/>
          </a:bodyPr>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 usually left till last, as it can be unpleasant</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plain the procedure</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how the parent how to hold and gently restrain a younger child to ensure success and avoid possible injury</a:t>
            </a:r>
            <a:endParaRPr b="0" lang="en-US" sz="3200" spc="-1" strike="noStrike">
              <a:solidFill>
                <a:srgbClr val="000000"/>
              </a:solidFill>
              <a:latin typeface="Gill Sans MT"/>
            </a:endParaRPr>
          </a:p>
          <a:p>
            <a:pPr marL="313920" indent="-243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roat:</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 at the uvula, tonsils, pharynx, and posterior palate</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Older children, 5 years plus will open their mouths wide open as possible to avoid spatula</a:t>
            </a:r>
            <a:endParaRPr b="0" lang="en-US" sz="3200" spc="-1" strike="noStrike">
              <a:solidFill>
                <a:srgbClr val="000000"/>
              </a:solidFill>
              <a:latin typeface="Gill Sans MT"/>
            </a:endParaRPr>
          </a:p>
          <a:p>
            <a:pPr marL="313920" indent="-2430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 for redness, swelling pus or palatal petechiae, teeth, dental caries and gross abnormality</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ars and Throat Examination..</a:t>
            </a:r>
            <a:endParaRPr b="0" lang="en-US" sz="4300" spc="-1" strike="noStrike">
              <a:solidFill>
                <a:srgbClr val="572314"/>
              </a:solidFill>
              <a:latin typeface="Gill Sans MT"/>
            </a:endParaRPr>
          </a:p>
        </p:txBody>
      </p:sp>
      <p:sp>
        <p:nvSpPr>
          <p:cNvPr id="498"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a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xamine the ear canals and drums gently, trying not to hurt the chil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ook for anatomical landmarks on the ear drum and for swelling, redness, perforation, dullness and flui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mary and Management Plan</a:t>
            </a:r>
            <a:endParaRPr b="0" lang="en-US" sz="4300" spc="-1" strike="noStrike">
              <a:solidFill>
                <a:srgbClr val="572314"/>
              </a:solidFill>
              <a:latin typeface="Gill Sans MT"/>
            </a:endParaRPr>
          </a:p>
        </p:txBody>
      </p:sp>
      <p:sp>
        <p:nvSpPr>
          <p:cNvPr id="500" name=""/>
          <p:cNvSpPr txBox="1"/>
          <p:nvPr/>
        </p:nvSpPr>
        <p:spPr>
          <a:xfrm>
            <a:off x="1914480" y="1447560"/>
            <a:ext cx="9996480" cy="4800600"/>
          </a:xfrm>
          <a:prstGeom prst="rect">
            <a:avLst/>
          </a:prstGeom>
          <a:noFill/>
          <a:ln w="0">
            <a:noFill/>
          </a:ln>
        </p:spPr>
        <p:txBody>
          <a:bodyPr anchor="t">
            <a:normAutofit fontScale="90000"/>
          </a:bodyPr>
          <a:p>
            <a:pPr marL="32832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the end of history and examination:</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ummarize the key problems (in physical, emotional, social and family terms if relevant)</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List the diagnosis and differential diagnoses</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Draw up a management plan to address the problem, both short and long term. This could be reassurance, period of observation, performing investigations or therapeutic interventions</a:t>
            </a:r>
            <a:endParaRPr b="0" lang="en-US" sz="3200" spc="-1" strike="noStrike">
              <a:solidFill>
                <a:srgbClr val="000000"/>
              </a:solidFill>
              <a:latin typeface="Gill Sans MT"/>
            </a:endParaRPr>
          </a:p>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ovide explanation to the parent and child, if old enough provide further written information</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Summary and Management Plan</a:t>
            </a:r>
            <a:endParaRPr b="0" lang="en-US" sz="4300" spc="-1" strike="noStrike">
              <a:solidFill>
                <a:srgbClr val="572314"/>
              </a:solidFill>
              <a:latin typeface="Gill Sans MT"/>
            </a:endParaRPr>
          </a:p>
        </p:txBody>
      </p:sp>
      <p:sp>
        <p:nvSpPr>
          <p:cNvPr id="50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f relevant discuss what to tell other family member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onsider if other professionals should be informed</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Ensure your notes are dated and signed</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914480" y="274320"/>
            <a:ext cx="999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Taking a History…</a:t>
            </a:r>
            <a:endParaRPr b="0" lang="en-US" sz="4300" spc="-1" strike="noStrike">
              <a:solidFill>
                <a:srgbClr val="572314"/>
              </a:solidFill>
              <a:latin typeface="Gill Sans MT"/>
            </a:endParaRPr>
          </a:p>
        </p:txBody>
      </p:sp>
      <p:sp>
        <p:nvSpPr>
          <p:cNvPr id="342" name=""/>
          <p:cNvSpPr txBox="1"/>
          <p:nvPr/>
        </p:nvSpPr>
        <p:spPr>
          <a:xfrm>
            <a:off x="1914480" y="1447560"/>
            <a:ext cx="999648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oddler: 1-2 year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Pre-school: young child (2-5 year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chool age: older child – (5-12 year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eenager: More than 12 years</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2T02:18:09Z</dcterms:created>
  <dc:creator>adm</dc:creator>
  <dc:description/>
  <dc:language>en-US</dc:language>
  <cp:lastModifiedBy>Kate</cp:lastModifiedBy>
  <dcterms:modified xsi:type="dcterms:W3CDTF">2021-11-12T17:03:41Z</dcterms:modified>
  <cp:revision>258</cp:revision>
  <dc:subject/>
  <dc:title>PowerPoint Presentation</dc:title>
</cp:coreProperties>
</file>