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68DC-3369-4C8F-878E-81044542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6E1-9D00-439A-99B3-968F7DA5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307-DBC7-4C31-8062-64FFDDC4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0524-C6ED-47A5-ACAD-C267D742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727A-7D07-42CC-96B9-BABF2D34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454-B497-40D5-BF20-F8E44C81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3ABA-DAA8-4F65-9253-6D14B274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6A44-5A08-46A5-BC83-6CB253D2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7B50-52F4-45F3-B2B6-14361523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28B1-4A84-4639-B453-74F44488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33AD-497B-4F4D-AAD0-FD822040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73A-79FD-42A0-A669-0277D3B1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485D-9120-4D18-BA12-84890964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02D8-82F3-4C17-8703-B83E4670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580B-0CA8-485D-A142-03A57742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E2E91-5461-48CA-BD6C-970F2AEE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79A9-95CE-47EA-9598-6D427D5E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4DCA7-4D18-4929-AE80-88CB0D4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E8B70-A0D5-412E-9B7C-20A67F9F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00C2C-A495-48D8-8817-A97265BF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643D-F45F-4A7A-8720-C701C33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B556-79C9-4D4F-9966-38B145CC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F1E6-0A52-4597-B105-8B0D04A8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46E5B-ACA0-48C6-BF9A-DF61B90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871EB-F69C-428D-B21B-CCEBBCC4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4EBE2-93BF-444F-A9EC-D3DE0891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119C8-AD82-4699-95A9-45477A9B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85F43-C7C7-46A5-91FF-292E761B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8FFDA-295A-4750-BF24-7F424042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F79B-BED6-49C5-B5C8-DF64364C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C1585-C5C3-4EFF-9CC4-CE2CACC9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C3C03-92BE-4195-8B19-CE4332D5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C753-8AF3-42E9-B610-D662486D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825-AB5D-47CF-83FB-4F742100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FC8F3-6906-4389-A55E-944D970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F14E-CC48-4108-9691-CC404BD6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7EEA9-08EB-4932-A359-50B538A3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5B626-D096-4BB5-9A37-6B8ED61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85D3F-5606-4850-9022-74D515D6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58B3-A06B-4FDC-9887-1F4F765A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3D775-9D7F-4190-BA54-41096E2E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8A158-B1BD-4EE9-A35B-50C6998E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D1266-40C8-45A0-9618-9E59F3A4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985A5-7CD9-4ACA-9669-DAB25651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D564-876F-4687-882E-4980FBB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29FFC-4A07-4D5C-8D90-8F5ECBEB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20BA-BA98-4DD0-BBDD-B4BB7A30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351AD-7F23-4783-BE5D-9D9119E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49C92-C5D5-45E2-8DC6-4B0BDAB3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9310F-2297-42DF-BBAA-246CA4C5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55C94-3B8A-4F3F-99F8-F1D8300A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27E3E-6ED2-4A21-9430-80FD96A8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81900-0A02-45C1-8E91-C5F7B7A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2AAAB-F7C9-4190-8B0D-5CCC9E0A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4DCDE-6DF5-446D-B1A9-809853BB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06E-A0EE-45F3-9DD1-EE017AEE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6C999-E5ED-492D-B48C-80ACD8A8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C90EC-4CFD-423A-9376-283B4BF5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FDE02-A735-4ED6-BF9C-D6074F7F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A8F64-173F-494B-9013-254E6AD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DA7B7-79A1-4E5C-8BB4-B0D64164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2FC0E-F8A1-4DA2-9DE7-E29B85F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60108-0C05-43C4-B82B-D2AB075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B7178-01E8-497B-B8AD-500CB9DD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EC7F8-3339-44B5-9DDD-BC72B3E9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5F642-5343-4A5C-B77F-1F0C4C3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160-1C59-4C53-87FA-EF925C80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4B621-49E2-455A-B0E5-2BB692E5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03106-550C-465F-9717-0B7B948A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9D1AB-C870-42EE-B6B1-E968AC18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D7AB1-CB91-4C97-8EEC-49080DB4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17EC5-7B8D-408D-9E03-B47AACA4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0A54-57D8-4E05-94C3-D9981CB3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CE419-FC97-455A-A903-A466AFEB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23878-193B-4B18-B64A-3DD2B146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1C497-E053-4439-8784-CE1EC665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A6DE6-12B2-4F49-B001-FBB7FB6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C4A-A181-49B3-8F32-ACB7DCE2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A3066-093C-40DC-99F8-AFBBBFFB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990D0-27B5-4FC3-8205-176B0EF2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F16E7-F5D4-4CA1-BE67-A4338671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62AB9-8B9F-4277-BD21-2ADE1139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83EE5-9D1F-4541-AFC0-19DB9B43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DD1C-6B8C-4804-B7D8-74297108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ABD9B4-FDAA-4B13-B91D-F3CEB6B6DBF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1087560" y="-816120"/>
            <a:ext cx="2184480" cy="1638360"/>
          </a:xfrm>
          <a:custGeom>
            <a:avLst/>
            <a:gdLst/>
            <a:ahLst/>
            <a:rect l="l" t="t" r="r" b="b"/>
            <a:pathLst>
              <a:path w="2184401" h="1638300">
                <a:moveTo>
                  <a:pt x="2184401" y="819150"/>
                </a:moveTo>
                <a:cubicBezTo>
                  <a:pt x="2184401" y="1077069"/>
                  <a:pt x="2022436" y="1319925"/>
                  <a:pt x="1747262" y="1474616"/>
                </a:cubicBezTo>
                <a:cubicBezTo>
                  <a:pt x="1558115" y="1580946"/>
                  <a:pt x="1328077" y="1638382"/>
                  <a:pt x="1091695" y="1638300"/>
                </a:cubicBezTo>
                <a:cubicBezTo>
                  <a:pt x="1091864" y="1365250"/>
                  <a:pt x="1092032" y="1092200"/>
                  <a:pt x="1092201" y="819150"/>
                </a:cubicBezTo>
                <a:lnTo>
                  <a:pt x="2184401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298440" y="963720"/>
            <a:ext cx="1397160" cy="1309680"/>
            <a:chOff x="298440" y="963720"/>
            <a:chExt cx="1397160" cy="130968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298440" y="963720"/>
              <a:ext cx="13971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1231920" y="1414440"/>
            <a:ext cx="285840" cy="212760"/>
            <a:chOff x="1231920" y="1414440"/>
            <a:chExt cx="28584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1231920" y="141444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6F9CF-0A5E-423A-A475-EF92EC34B9C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895480" y="2816280"/>
            <a:ext cx="285840" cy="212760"/>
            <a:chOff x="2895480" y="2816280"/>
            <a:chExt cx="2858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895480" y="2816280"/>
              <a:ext cx="2858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51987-2132-492B-A735-6CFD0BA7D93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42998B-7A62-40BF-9EF4-BFB82BB08C5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5A36D4-4E74-4FD9-B2DC-9B223234FF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4C302-51E6-4481-AA06-D1DB103ADE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907920" y="974880"/>
            <a:ext cx="6321600" cy="4797360"/>
            <a:chOff x="907920" y="974880"/>
            <a:chExt cx="632160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907920" y="974880"/>
              <a:ext cx="632160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C9161-9233-49D5-B6DC-2B18A1C8EAB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09440" y="360360"/>
            <a:ext cx="98758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EDIATRICS - INTRODUCTION TO PEDIATRICS AND NEONATOLOGY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804680" y="3214800"/>
            <a:ext cx="9875880" cy="2332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NORMAL NEWBORN EXAMIN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ystolic blood pressure on day 1 ranges from 50 – 70mmHg and increases steadily during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week of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p is influenced by perinatal asphyx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 irregularly irregular heart rate, is caused by premature atrial contraction is common and benign and usually resolves in first days of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e systematically as follow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in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ruises, petechiae, meconium staining and jaundice (jaundice never normal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24hrs of lif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Jaundice in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24hrs of life indicates a haemolytic process, congenital hepatitis and requires further eval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anosis - peripheral is commonly present when extremities are cool or the infant is polycythemic. Generalized cyanosis is not normal and requires urgent evalu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llo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ernix caseosa and lanugo (fine hair covering body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in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ry skin indicates post-term inf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irth ma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d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ephalo-haemato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put succedaneu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esence of fontanelles and their sizes (anterior fontanelle varies from 1-4cm in direction, posterior fontanelle is less than 1 cm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ce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nusual faces are associated with specific syndrom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ruising from birth trau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acial nerve palsy mostly noted when infant cr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yes – check fo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ub-conjuctival haemorrhages are as a result of birth traum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se – check fo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ze and shape (utero compression can cause deformiti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ose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sal obstru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ulent nasal discharge at birth suggests congenital syphillis (snuffl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ars – check fo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l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lposition (low set or posteriorly rotated). These are often associated with other congenital anomal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y external ear abnormality maybe associated with hearing lo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outh – check fo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pithelial pearls (benign retention cysts along gum margins,  junctions of the hard and soft pala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atal teeth – have them remov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tegrity and shape of the palate for clefts and other abnormal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rominent tongue can be seen in trisomy 21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cessive oral secretions/salivation – oesophageal atresia or swallowing disord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ck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dundant neck skin or webbing, with low posterior hair line (seen in Turners syndrom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sses: midline (thyroglossal duct cysts), anterior to the sterno-cleidomastoid (branchial cleft cysts), within the sterno-cleidomastoid (hematoma), posterior to the sterno-cleidomastoid (cystic hygroma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st and lungs – check fo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ractured clavicle, bruises, crepitus and tendern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st and lungs – check fo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Barrel chest (seen in aspiration syndrom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ir entry bilaterally and position of mediastinum and locate point of maximum cardiac impul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creased breath sounds as in respiratory distr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rt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ardiac murmurs, they are common in the first hours of life and they are benig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re congenital heart disease maybe present in a newborn with no murmur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rt – check fo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mmon presentation of heart disease in the newborn infant ar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anos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ve heart failure with abnormalities of pulses and perfus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hypoplastic left heart and critical aortic stenosis, pulses are diminished at all si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aortic coarctation and interrupted aortic arch, pulses are diminished in the lower extrem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domen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nderness, distention and bowel sou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f polyhydramnios or excessive oral secretions are noted, pass a soft catheter into stomach to rule out oesophageal atres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dominal masses: mostly associated with kidney disorders (multi-cystic or dysplastic and hydronephrosi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 markedly scaphoid abdomen plus respiratory distress suggests diaphragmatic hern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ATION AT BI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urpos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identify abnormalities or anomalies that might impact infant’s wellbe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o evaluate for any acute illness or difficulty in transition from intrauterine to extrauterine lif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er should have warm han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ation of the newborn depends on infant’s condition and the set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bdomen – check for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iver and spleen superficial in a newborn and can be felt with light palp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enitalia and Anus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ale and female genitali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itish vaginal discharge with or without blood is norma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 for patency of and location of anu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eleton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vious anomalies such as absence of a bone, club foot, fusion or webbing of digits, extra digi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ip dislo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tremity fractures and palsies (brachial plexus injuri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pinal deformities e.g. scoliosis, cysts, sinuses, myelomeningoce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ultiple joint contractures (arthrogryposis) from limitation of movement in utero due to reduced amniotic flui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logic Examination – check f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flexes that facilitate survival (rooting and sucking reflexe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nsory abilities (hearing and smell) – allow them to recognize their mother soon after birth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ght is poor at birth due to immobile le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newborn’s resting tone. A normal term newborn should exhibit flexion of the upper and lower extrem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..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logic Examination – check for.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ny extension of the extremities should result in spontaneous recoil to flexed posi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ssess character of cry – high pitch with or without hypotonia may indicate disease of the CNS such as haemorrhage or infec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ples of newborn reflex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cking reflex (sucks in response to nipple in mouth): observed by 14 weeks ges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urologic Examination – check for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oting reflex: head turns to the side of facial stimulation, present at 28 weeks gest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ction respon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lmar gras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ep tendon refle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oro refle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nic neck refle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704960" y="165708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ation consists of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servation and inspection of congenital anomalies, and birth trau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scultation of ch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ongenital anomalies occur in 1.5% of live births and accounts for 20-25% neonatal death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fants are physically stressed at parturition, so examination in delivery room should not be extens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pgar score should be conducted at 1 minute and 5 minu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severely depressed infants, the apgar score can be recorded up to 20 minu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1 and 5 minute apgar score have no predictive value for long term outcom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rial apgar  scores provide useful description of severity of peri-natal depression and response to resuscitative measur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1914480" y="1447920"/>
          <a:ext cx="9996480" cy="3133440"/>
        </p:xfrm>
        <a:graphic>
          <a:graphicData uri="http://schemas.openxmlformats.org/drawingml/2006/table">
            <a:tbl>
              <a:tblPr/>
              <a:tblGrid>
                <a:gridCol w="2498760"/>
                <a:gridCol w="2500200"/>
                <a:gridCol w="2498760"/>
                <a:gridCol w="2498760"/>
              </a:tblGrid>
              <a:tr h="3715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art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low (&lt;1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&gt;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iratory Effor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bse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low, 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ood, cry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uscle 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im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ome flex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ctive mo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ponse to catheter in nost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Grimac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ugh or snee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lo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lue or p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ody pink, extremities blu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mpletely pi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  <p:sp>
        <p:nvSpPr>
          <p:cNvPr id="328" name="TextBox 4"/>
          <p:cNvSpPr/>
          <p:nvPr/>
        </p:nvSpPr>
        <p:spPr>
          <a:xfrm>
            <a:off x="2219400" y="5156280"/>
            <a:ext cx="86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ble on - Infant Evaluation at Birth – APGAR S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in color is an indicator of cardiac output (there is normal high blood flow to the skin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ress triggers catecholamine response and redirects cardiac output away from skin to preserve oxygen delivery to more critical orga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yanosis and pallor are useful signs suggestive of inadequate cardiac outpu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KELETAL EXAMIN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serves to detect obvious congenital anomalies and identify birth trauma particularly in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GA infa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ose born after protracted second stage labor where a fractured clavicle or humerus may be foun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UMBILICAL COR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 for number of umbilical cord vessels should be determin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rmally there are 2 arteries and 1 ve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n 1% of deliveries (5% - 6% of twin deliveries), the cord has 1 artery and 1 ve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s anomaly slightly increases risk of associated defec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PLACENT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e placenta at deliv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all placenta are associated with small infa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heck for membranes, placental infarcts or clo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ormal Newborn Examination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ATION IN THE NURSE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tart with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servatio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uscultation of the ch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lpation of the abdome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ation of the eyes, ears, nose, throat and hips should be performed las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eart rate should range from120 to 160 beats/m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spiratory rate should range from 30 to 60 breaths/m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2T02:18:09Z</dcterms:created>
  <dc:creator>adm</dc:creator>
  <dc:description/>
  <dc:language>en-US</dc:language>
  <cp:lastModifiedBy>Kate</cp:lastModifiedBy>
  <dcterms:modified xsi:type="dcterms:W3CDTF">2021-11-12T17:05:34Z</dcterms:modified>
  <cp:revision>200</cp:revision>
  <dc:subject/>
  <dc:title>PowerPoint Presentation</dc:title>
</cp:coreProperties>
</file>