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990F-302E-4C9B-911D-8551DDF7B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A28F-80B4-4D32-BDA2-122B6508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63B6-381C-4EA7-9A9C-1C9BA028D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9157-9808-4FDD-8F9D-1FD39C5FC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653E-9C8B-4F6B-9CD4-2369C2ED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ADB6-12CB-455E-9D52-59944DDD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A809-6B3D-4233-8359-357F6B6C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B7D1-A11E-4192-A2B9-71EADEC9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98C0-506C-45F1-8B6C-E1B70D9A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B981-68CF-43B8-B11D-6DACFDC8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1EB3-F685-42A9-A8E5-A96F7815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BE02-65B0-4101-BDFD-F47274A8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A385-82AE-4D43-B53A-A8B12EF3E6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ONATAL JAUNDIC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ilirubin Metabolism in the Intest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njugated bilirubi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is acted upon by bacteria in the intestines to form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Urobilinoge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                  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obilinogen has 2 fates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It is further converted into stercobilinogen which is then oxidised to form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tercobili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and excreted in stool and gives stool the brown color.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04920" y="121896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r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In the sterile newborn gut, an enzyme called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eta- glucuronidas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converts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ilirubin diglucuronide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o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unconjugated bilirubi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which is reabsorbed into the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irculation and later excreted through the kidney as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Urobili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which gives urines a deep yellow colo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s is called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nterohepatic circulation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d is particularly important in babies who are infrequently fed from birth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ith frequent feeding early colonization of the intestines occurs. These bacteria reduce bilirubin glucuronide into stercobilin which is excreted in stool, thus inhibiting the enterohepatic circulati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s of jaundic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rect Bilirubin or the conjugated bilirubin: is the soluble type and does not cause CNS toxicit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direct Bilirubin or the unconjugated Bilirubin which is insoluble and crosses the blood brain barrier and causes CNS toxicity – ie deposited in the basal ganglia and leads to KERNICTER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ification of Jaundic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hysiologic Jaundice: cau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Immaturity in bilirubin metabolism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t multiple steps results in the occurrence of hyperbilirubinemia in the first few days of life. These ar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· Increased bilirubin load on the hepatic ce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· Defective uptake from plasma into liver ce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· Defective conjug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· Decreased excre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· Increased entero-hepatic circul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haracteristics of physiological jaundi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·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rst appears between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4-7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hours of 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· Maximum intensity seen on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-5th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day in term and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7th day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 preterm neonat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· Does not exceed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5 mg/ d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· Clinically undetectable after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4 day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· No treatment is required but baby should be observed closely for signs of worsening jaundic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ification cont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athological Jaundi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ence of any of the following signs denotes that the jaundice is pathologic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· Clinical jaundice detected befor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4 hours of 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· Rise in serum bilirubin by more tha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 mg/ dl/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· Serum bilirubin more tha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5 mg/ d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nical jaundice persisting beyon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4 days of li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·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ay/white colored stool and/or dark urin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ining the clothes yel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· Direct bilirubi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&gt;2 mg/ dl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any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B: -Treatment is required in the form of phototherapy or exchange blood transfu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One should investigate to find the cause of pathological jaund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USES OF JAUND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yperbilirubinemia in the first week of life is usually of the indirect variety. Causes are usually classified based on the time of onset of jaundic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. Appearing within 24 hours of 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emolytic disease of newborn: Rh, ABO and minor group incompatibil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fections: intrauterine viral, bacterial; malar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-6PD deficien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uses cont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. Appearing between 24-72 hours of lif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hysiologic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eonatal Sep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lycythem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ncealed hemorrhages: cephallohematoma, subarachnoid bleed, IVH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creased enterohepatic circul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ONATAL JAUND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bjectiv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efine Jaundice and review the physiology of Jaundic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o understand the classification and causes of Jaundic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o review the clinical features, laboratory workup and management of the jaundiced neonat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uses co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ppearing after 72 hou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eonatal Sep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eonatal hepatit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tra hepatic biliary atres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reast milk jaundi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etabolic disord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4. Prolonged indirect jaundice: Cause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rigler Najjar Syndr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reast milk jaundi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ypothyroidis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yloric steno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ngoing hemolysis, malar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B: jaundice beyond 10 days in the term baby and &gt; 14 days in the preterm is termed as prolonged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rect hyperbilirubinaem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8088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. Idiopathic neonatal hepatit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. Infections -Hepatitis B, TORCH, Sep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. Malformations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Biliary atresia (extra and intrahepatic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choledochal cy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bile duct steno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4. Metabolic disorder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Galactosem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Hereditary Fructose intoler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Alpha-l antitrypsin deficienc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Tyrosinem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Glycogen storage disease type I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Hypothyroidis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5. Total parenteral nutri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t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ge of appearance may overlap and the above mentioned grouping is only a general classific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fection must be ruled out in jaundice appearing any time after third day of lif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n after extensive investigations, cause remains uncertain in over one third of c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onatal jaundice may be multifactorial in orig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sk factors for Jaund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simple pneumonic for risk factors is JAUND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J - Jaundice within first 24 hrs of lif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- A sibling who was jaundiced as neon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 - Unrecognized hemolys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 – Non-optimal sucking/nurs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 - Deficiency of G6P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 - infec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 – Cephalhematoma /bruis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 - East Asian/North Indi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nical presentation/assess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nical criteria: It is very widely used and utilizes the principle that clinical jaundice first becomes obvious in the face followed by a downward progression as it increases in intensit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essment of jaundice should be done in natural light. The finger is pressed on the baby's skin, preferably over a bony part, till it blanches. The underlying skin is noted for yellow colo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nical criter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9903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nt of jaundice thus detected gives a rough estimate of serum bilirubin but labs must follo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nical criteria to assess jaund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rea of body                  Range of bilirubin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e                                      4-8 mg/d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per trunk                        5-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er trunk &amp; thighs        8-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ms &amp; lower legs           11-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alms &amp; soles                    &gt;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roach to the Jaundiced Bab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following four questions need to be answe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birth weigh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gest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postnatal age in hour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 jaundice physiological or pathologica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e jaundice is physiological and baby is well only observation is necessa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deeply jaundiced newborn one must also evaluate for presence or absence of bilirubin toxicity -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ernicteru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rnicterus is identified by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ethargy and poor feeding, poor or absent Moro's reflex, opisthotonus or convuls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J-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aundice is the yellow discoloration of the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clera, conjunctivae, nail beds and the skin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s a result of accumulation of bilirubin in the body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aundice becomes apparent on the skin when serum bilirubin reaches more than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5 mg/dl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rnicterus cont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Kernicterus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sults from high levels of indirect bilirubin (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&gt;20 mg/dL in a term infant with HD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t occurs at lower levels of bilirubin in the presence of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cidosis, hypoalbuminemia, prematurity and certain drugs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e.g.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, sulfonamides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ffected structures have a bright yellow colo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mechanism of neurotoxicity and the reason for the topography of the lesions are not known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atients surviving kernicterus have severe permanent neurologic symptoms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(choreoathetosis, spasticity, muscular rigidity, ataxia,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eafness,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mental retardation)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8" descr="kernicterus"/>
          <p:cNvPicPr/>
          <p:nvPr/>
        </p:nvPicPr>
        <p:blipFill>
          <a:blip r:embed="rId1"/>
          <a:stretch/>
        </p:blipFill>
        <p:spPr>
          <a:xfrm>
            <a:off x="2057400" y="1676520"/>
            <a:ext cx="51814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review for jaundiced bab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view maternal and perinatal histo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amily history of jaundice, liver dise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evious sibling with jaundice for blood group incompatibil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ternal illness during pregnan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evious history of malar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umatic delivery, delayed cord clamping, oxytocin u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irth asphyxia, delayed feeding, delay in meconium passa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reast feeding- initiation, frequency and adequa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sical ex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ematur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mall for gestation: polycythemia, hepato-splenomegaly, cataract, rash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travascular bleed: cephallohemato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allor: hemolysis, blood lo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etechiae: sepsis, TORCH infec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epatosplenomegaly: Rh-isoimmunization, sepsis, TORCH infec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4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b tests * must in 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rum bilirubin total and direct*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lood group and Rh for mother and baby*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rect Coomb’s test on infa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ematocrit*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eripheral smear for RBC morphology, evidence of hemolysis and, reticulocyte cou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1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psis scre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iver and thyroid function tests in cases with prolonged jaundi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ORCH tit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agemen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nagement of jaundice is directed towards reducing the level of bilirubin and preventing CNS toxicit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 Prevention of hyperbilirubinem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. Early and frequent feed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i. Adequate hydr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 Reduction of bilirubin: This is achieved by phototherapy or/and exchange transfusi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5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ototherapy - techniqu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is involves exposure of the naked baby to blue, cool white or green light of wave length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20-470 nm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aby is placed naked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5 cm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way from the tube lights in a crib or incubato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yes are covered with eye-patches to prevent damage to the retina by the bright light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cidenc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lmost all neonates (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60% Term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80% Preterm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 will have bilirubin greater than 5 mg/ dl in the first week of life and about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6% of term babies will have levels exceeding 15 mg/ dl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hototherapy is switched 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aby is turned every two hours or after each feed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erature is monitored every two to four hour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eight is taken at least once a da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ore frequent breastfeeding or 10-20% extra fluid is provided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rine frequency is monitored dail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rum bilirubin is monitored at least every 12 hour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hototherapy is discontinued if two serum bilirubin values are &lt; 10 mg/d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1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6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1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de effects of Phototherap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d insensible water loss: extra breast fee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se green stools: weigh often and compensate with breast mil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in rashes: Harmless, no need to discontinue photothera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onze baby syndrome: occurs if baby has conjugated hyperbilirubinemia. If so, discontinue phototherapy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po or hyperthermia: monitor temperature frequent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8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8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3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ctur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8" descr="phototherapy 2"/>
          <p:cNvPicPr/>
          <p:nvPr/>
        </p:nvPicPr>
        <p:blipFill>
          <a:blip r:embed="rId1"/>
          <a:stretch/>
        </p:blipFill>
        <p:spPr>
          <a:xfrm>
            <a:off x="1905120" y="1600200"/>
            <a:ext cx="5638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6" descr="Bili_light_with_newborn"/>
          <p:cNvPicPr/>
          <p:nvPr/>
        </p:nvPicPr>
        <p:blipFill>
          <a:blip r:embed="rId1"/>
          <a:stretch/>
        </p:blipFill>
        <p:spPr>
          <a:xfrm>
            <a:off x="1447920" y="1523880"/>
            <a:ext cx="5790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http://www.aacc.org/publications/cln/2010/june/PublishingImages/JuneSeriesArticle.jpg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ctur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http://t2.gstatic.com/images?q=tbn:ANd9GcSjz7donSWscXro1TmFuVcIza2sXn8QhQrwOCGkDOZV4QU6tcvq"/>
          <p:cNvPicPr/>
          <p:nvPr/>
        </p:nvPicPr>
        <p:blipFill>
          <a:blip r:embed="rId2"/>
          <a:stretch/>
        </p:blipFill>
        <p:spPr>
          <a:xfrm>
            <a:off x="457200" y="1600200"/>
            <a:ext cx="79246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change Transf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t is still the most effective and reliable method to reduce serum bilirubi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ticipation and early referral to a higher centre is indicated. Choice of blood for exchange blood transfusion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i) In ABO incompatibility: Use O cells of same Rh type, ideal is to have O cells suspended in AB plasm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0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ii) In Rh isoimmunization: In emergency use O-ve blood. Ideal is O -ve cel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uspended in AB plasma. One may use baby blood group but Rh –ve blood also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iii) Other conditions: Baby's blood group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2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7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????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ilirubin Physi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Source of Bilirubin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ilirubin is derived from the breakdown of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eme proteins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ich are present in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emoglobin, myoglobin and certain heme containing enzymes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75%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of the bilirubin comes from hemoglobin catabolism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Formation of Bilirubin from He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82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eme is degraded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 RE system (esp. liver &amp; spleen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Hem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is oxidised by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eme oxygenase 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iliverdi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(green)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ich is reduced to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ilirubi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(red-orange) by Biliverdin Reductas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ilirubin is bound to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lbumi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for transport in the blood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abolism of Bilirubin in the Liv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Uptake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of Bilirubin by hepatocyte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ilirubin dissociates from its carrier albumin &amp; enters hepatocytes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ly bilirubin enters the liver cell and gets bound to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igandin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which helps to transport it to the site of conjugation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Conjugation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of Bilirubin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hepatocytes, bilirubin is conjugated wi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glucuronic acid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o produce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no- and diglucuronides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ich are water solubl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Excretion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of bilirubin into bil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jugated bilirubin (bilirubin diglucuronide) is transported into the bile canalculi  and then into bile and  transported to the intestines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18:27:19Z</dcterms:created>
  <dc:creator>LTTPC4</dc:creator>
  <dc:description/>
  <dc:language>en-US</dc:language>
  <cp:lastModifiedBy>Madam</cp:lastModifiedBy>
  <dcterms:modified xsi:type="dcterms:W3CDTF">2014-12-04T16:49:29Z</dcterms:modified>
  <cp:revision>58</cp:revision>
  <dc:subject/>
  <dc:title>Neonatal Conditions</dc:title>
</cp:coreProperties>
</file>