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96B3-B831-4ABD-8786-0D51F5457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apid plasma re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0354-BEDA-4369-B879-0522363FA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C45D-7F5F-42DD-AA2A-5EB4EB2A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695-DBFF-46B9-A677-99614CA7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7F6-0922-456F-915F-5608F035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2C1-6196-4DD0-8FDD-46C6B892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ADB-B947-43FC-84A0-4F2F4810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1C05-6FDC-4501-B778-95F83D4B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3D21-DC65-4D87-A167-7A53AE4F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6D6C-2950-4054-AD32-E502C0CB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E58F-FD86-499E-95F7-674DA499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5D22-7097-4A3C-BC23-B4AC4CBE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FA34-F9B2-463C-9281-5D285332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5BBD-A2E5-4BD0-824D-03E3D75A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83BD-971F-44D4-BC0D-CDB3CFD891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NEONATAL INFECTIONS II</a:t>
            </a:r>
            <a:br>
              <a:rPr sz="4400"/>
            </a:b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THE TORCHES INFEC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531900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523880" y="5410080"/>
            <a:ext cx="4572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rioretinitis of congenital tox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toxo chorioret"/>
          <p:cNvPicPr/>
          <p:nvPr/>
        </p:nvPicPr>
        <p:blipFill>
          <a:blip r:embed="rId1"/>
          <a:stretch/>
        </p:blipFill>
        <p:spPr>
          <a:xfrm>
            <a:off x="1523880" y="1676520"/>
            <a:ext cx="4572000" cy="37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Maternal IgG testing indicates past infection (but when…?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an be isolated in culture from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placenta, umbilical cord, infant seru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PCR testing on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WBC, CSF, placen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Newborn serologies with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IgM/Ig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Prevention and 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ymptomatic infant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Pyrimethamine (with leucovorin) and sulfadiaz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Treatment for 12 months to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symptomatic infant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urse of same med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  <a:ea typeface="Calibri"/>
              </a:rPr>
              <a:t>SYPHI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06632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Calibri"/>
              </a:rPr>
              <a:t>Treponema pallidum (spirochete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Calibri"/>
              </a:rPr>
              <a:t>Transmitted via sexual contac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Calibri"/>
              </a:rPr>
              <a:t>Placental transmission can occur as early as </a:t>
            </a:r>
            <a:r>
              <a:rPr b="1" lang="en-US" sz="3700" spc="-1" strike="noStrike">
                <a:solidFill>
                  <a:srgbClr val="000000"/>
                </a:solidFill>
                <a:latin typeface="Calibri"/>
                <a:ea typeface="Calibri"/>
              </a:rPr>
              <a:t>6wks gesta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Calibri"/>
              </a:rPr>
              <a:t>Typically occurs during second half of gestatio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Calibri"/>
              </a:rPr>
              <a:t>Mother with </a:t>
            </a:r>
            <a:r>
              <a:rPr b="1" lang="en-US" sz="3700" spc="-1" strike="noStrike">
                <a:solidFill>
                  <a:srgbClr val="000000"/>
                </a:solidFill>
                <a:latin typeface="Calibri"/>
                <a:ea typeface="Calibri"/>
              </a:rPr>
              <a:t>primary 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Calibri"/>
              </a:rPr>
              <a:t>or </a:t>
            </a:r>
            <a:r>
              <a:rPr b="1" lang="en-US" sz="3700" spc="-1" strike="noStrike">
                <a:solidFill>
                  <a:srgbClr val="000000"/>
                </a:solidFill>
                <a:latin typeface="Calibri"/>
                <a:ea typeface="Calibri"/>
              </a:rPr>
              <a:t>secondary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Calibri"/>
              </a:rPr>
              <a:t> syphilis more likely to transmit than </a:t>
            </a:r>
            <a:r>
              <a:rPr b="1" lang="en-US" sz="3700" spc="-1" strike="noStrike">
                <a:solidFill>
                  <a:srgbClr val="000000"/>
                </a:solidFill>
                <a:latin typeface="Calibri"/>
                <a:ea typeface="Calibri"/>
              </a:rPr>
              <a:t>latent diseas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Congenital Syphil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2/3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of affected live-born infants are asymptomatic at bir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linical symptoms split into early or late (2 years is cutoff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3 major classification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Fetal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Early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Late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4ac"/>
                </a:solidFill>
                <a:latin typeface="Calibri"/>
                <a:ea typeface="Calibri"/>
              </a:rPr>
              <a:t>Clinical Manifestat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  <a:ea typeface="Calibri"/>
              </a:rPr>
              <a:t>Fetal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  <a:ea typeface="Calibri"/>
              </a:rPr>
              <a:t>Stillbirth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  <a:ea typeface="Calibri"/>
              </a:rPr>
              <a:t>Neonatal death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  <a:ea typeface="Calibri"/>
              </a:rPr>
              <a:t>Hydrops fetali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  <a:ea typeface="Calibri"/>
              </a:rPr>
              <a:t>Intrauterine death in 25%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  <a:ea typeface="Calibri"/>
              </a:rPr>
              <a:t>Perinatal mortality in 25-30% if untreated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Clinical Manife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Calibri"/>
              </a:rPr>
              <a:t>Early congenital (typically 1</a:t>
            </a:r>
            <a:r>
              <a:rPr b="0" lang="en-US" sz="37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st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Calibri"/>
              </a:rPr>
              <a:t> 5 weeks)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Calibri"/>
              </a:rPr>
              <a:t>Cutaneous lesions (palms/soles)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Calibri"/>
              </a:rPr>
              <a:t>HSM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Calibri"/>
              </a:rPr>
              <a:t>Jaundic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Calibri"/>
              </a:rPr>
              <a:t>Anemia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Calibri"/>
                <a:ea typeface="Calibri"/>
              </a:rPr>
              <a:t>Snuffl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700" spc="-1" strike="noStrike">
                <a:solidFill>
                  <a:srgbClr val="000000"/>
                </a:solidFill>
                <a:latin typeface="Calibri"/>
                <a:ea typeface="Calibri"/>
              </a:rPr>
              <a:t>Periostitis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Calibri"/>
              </a:rPr>
              <a:t> and metaphysial dystrophy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Calibri"/>
              </a:rPr>
              <a:t>Funisitis (umbilical cord vasculit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038120" y="182844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iostitis of long bones seen in neonatal syphil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periostits syphilis"/>
          <p:cNvPicPr/>
          <p:nvPr/>
        </p:nvPicPr>
        <p:blipFill>
          <a:blip r:embed="rId1"/>
          <a:stretch/>
        </p:blipFill>
        <p:spPr>
          <a:xfrm>
            <a:off x="914400" y="1752480"/>
            <a:ext cx="31878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Clinical Manife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Late congenital: Can be prevented with appropriate trea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Frontal boss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Short maxill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High palatal 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Hutchinson tee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8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 nerve deaf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Saddle nose, Perioral fiss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143000" y="761760"/>
            <a:ext cx="6858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utchinson teeth – late result of congenital syphil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hutchinsonteeth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44ac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Calibri"/>
              </a:rPr>
              <a:t>Define the TORCH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Calibri"/>
              </a:rPr>
              <a:t>Have an understanding of the clinical entities, their presentations, diagnosis and manageme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11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agnosi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vailable serologic test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ntreponemal tests: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pid Plasma Reagin/Venereal Diseases Research Labora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nsitive but NOT specifi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antitative, so can follow to determine disease activity and treatment respon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agnosis 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pecific treponemal tests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include the Treponema Pallidum Haemagluttinin Assay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PH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, Fluorecent Treponemal antibody Absorbed test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TA-ab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and Enzyme Immuno-Assay Te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confirmatory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litative, once positive always pos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PR/VDRL screen in ALL pregnant women early in pregnancy and at time of bi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easily treated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ac"/>
                </a:solidFill>
                <a:latin typeface="Calibri"/>
                <a:ea typeface="Calibri"/>
              </a:rPr>
              <a:t>CDC Definition of Congenital Syphil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Confirmed if T. pallidum identified in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skin lesions, placenta, umbilical cord, or at autops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esumptive diagnosis if any of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hysical exam findin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CSF findings (positive VDRL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Osteitis on long bone x-ray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Funisitis (umbilical cord vasculiti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RPR/VDRL &gt;4 times maternal t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ositive IgM antibod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  <a:ea typeface="Calibri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29528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enicillin G is THE drug of choice for ALL syphilis infe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Maternal treatment during pregnancy very effective (overall 98% succes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Treat newborn if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They meet CDC diagnostic criter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Mother was treated &lt;4wks before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other treated with non-Penicillin d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aternal titers do not show adequate response (less than 4-fold decli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RUBEL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480680"/>
            <a:ext cx="822960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ingle-stranded RNA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vir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Vaccine-preventable dise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ild self-limiting ill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fection earlier in pregnancy has a  higher probability of an affected inf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  <a:ea typeface="Calibri"/>
              </a:rPr>
              <a:t>Clinical Manife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Sensorineural hearing loss (50-75%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ataracts and glaucoma (20-50%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ardiac malformations (20-50%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Neurologic (10-20%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Others: include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growth retardation, bone disease, HSM, thrombocytopenia, 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“blueberry muffin” lesio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classic triad for congenital rubella syndrome i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nsorineural deafness (58% of patient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ye abnormalities—especially retinopathy, cataract and microphthalmia (43% of patient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genital heart disease—especially patent ductus arteriosus (50% of pati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 algn="just">
              <a:spcBef>
                <a:spcPts val="901"/>
              </a:spcBef>
              <a:buClr>
                <a:srgbClr val="000000"/>
              </a:buClr>
              <a:buFont typeface="Calibri"/>
              <a:buChar char=" 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新細明體"/>
              </a:rPr>
              <a:t>Other abnormalities had  been  described and  these are divided into transient, permanent and  developmenta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7880" indent="-227880" algn="just">
              <a:spcBef>
                <a:spcPts val="901"/>
              </a:spcBef>
              <a:buClr>
                <a:srgbClr val="000000"/>
              </a:buClr>
              <a:buFont typeface="Calibri"/>
              <a:buChar char=" 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新細明體"/>
              </a:rPr>
              <a:t>Transient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新細明體"/>
              </a:rPr>
              <a:t>: low birth weight, hepatosplenomegaly, thrombocytopenic purpura bone lesions, meningoencephalitis, hepatitis, haemolytic anemia pneumonitis, lymphadenopath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7880" indent="-227880" algn="just">
              <a:spcBef>
                <a:spcPts val="901"/>
              </a:spcBef>
              <a:buClr>
                <a:srgbClr val="000000"/>
              </a:buClr>
              <a:buFont typeface="Calibri"/>
              <a:buChar char=" 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 "/>
              <a:tabLst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Permanent: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Sensorineural deafness, Heart Defects (peripheral pulmonary stenosi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2560" indent="-2325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pulmonary valvular stenosis, patent ductus arteriosus, ventricular septal defect) Eye Defects (retinopathy, cataract, microopthalmia, glaucoma, severe myopi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2560" indent="-23256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Other Defects  (microcephaly, diabetes mellitus, thyroiddisorders, dermatoglyptic abnorma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2560" indent="-232560" algn="just">
              <a:spcBef>
                <a:spcPts val="799"/>
              </a:spcBef>
              <a:tabLst>
                <a:tab algn="l" pos="0"/>
                <a:tab algn="l" pos="23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Developmental: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Sensorineural deafness, Mental retardation, Diabetes Mellitus,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新細明體"/>
              </a:rPr>
              <a:t>thyroid dis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TORCH Infections</a:t>
            </a: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T=Toxoplasmo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O=Other (syphili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R=Rubell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=Cytomegalovirus (CMV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H=Herpes simplex (HSV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62120" y="5105520"/>
            <a:ext cx="62481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ueberry muffin” spots represen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ramedullary hematopo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rubella"/>
          <p:cNvPicPr/>
          <p:nvPr/>
        </p:nvPicPr>
        <p:blipFill>
          <a:blip r:embed="rId1"/>
          <a:stretch/>
        </p:blipFill>
        <p:spPr>
          <a:xfrm>
            <a:off x="380880" y="304920"/>
            <a:ext cx="716292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144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Maternal IgG may represent immunization or past infection – not usefu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Suspect on the basis maternal history and physical finding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an isolate virus from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nasal secretions,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 throat, blood, urine, CSF, conjunctiv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11120" indent="-342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IgM titres on the newbor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Supportive care only with parent 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Trials : Amantadine / interferon 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  <a:ea typeface="Calibri"/>
              </a:rPr>
              <a:t>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Prevention…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MMUN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Cytomegalovirus (CMV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Is the most common congenital viral infec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Mild, self limiting ill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Transmission can occur with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imary infection or reactivation of vir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40% risk of transmission in primary infec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imary infection: haematogenous, perinatally during the birth process and breast feed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Clinical Manife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90% are asymptomatic at birth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Up to 15% develop symptoms later, notably sensorineural hearing l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ymptomatic 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GA, HSM, petechiae, jaundice, chorioretinitis,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eriventricular calcific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, neurological defic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&gt;80% develop long term com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earing loss, vision impairment, developmental del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0" y="18288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ntriculomegaly and calcifications of congenital CM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4" descr="cmv brain"/>
          <p:cNvPicPr/>
          <p:nvPr/>
        </p:nvPicPr>
        <p:blipFill>
          <a:blip r:embed="rId1"/>
          <a:stretch/>
        </p:blipFill>
        <p:spPr>
          <a:xfrm>
            <a:off x="2590920" y="533520"/>
            <a:ext cx="36576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Maternal IgG shows only past inf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Infection common – this is not usefu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Viral isolation from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urine or saliva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in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 3 weeks of lif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Viral load and DNA copies can be assessed by PCR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NB: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 Serologies not helpful given high antibody in pop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Ganciclovir  for 6wks in symptomatic infa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Neutropenia often leads to cessation of therap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Treatment currently not recommended in asymptomatic infants due to side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Herpes Simplex (HSV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HSV1 or HSV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Primarily transmitted through infected maternal genital tra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Rationale for C-section delivery prior to membrane rupt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Clinical Manife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447920"/>
            <a:ext cx="82296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Calibri"/>
              </a:rPr>
              <a:t>Most are asymptomatic at birth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Calibri"/>
              </a:rPr>
              <a:t>3 patterns of equal frequency with symptoms between birth and 4wks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Calibri"/>
              </a:rPr>
              <a:t>Skin, eyes, mouth (SEM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Calibri"/>
              </a:rPr>
              <a:t>CNS diseas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Calibri"/>
              </a:rPr>
              <a:t>Disseminated disease (present earliest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Calibri"/>
              </a:rPr>
              <a:t>Initial manifestations very nonspecific with skin lesions NOT necessarily presen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4ac"/>
                </a:solidFill>
                <a:latin typeface="Calibri"/>
              </a:rPr>
              <a:t>Index of Suspicion</a:t>
            </a:r>
            <a:r>
              <a:rPr b="0" lang="en-US" sz="4000" spc="-1" strike="noStrike">
                <a:solidFill>
                  <a:srgbClr val="0044ac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When do you think of TORCH infec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IUGR infa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H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Thrombocytopen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Unusual ras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oncerning maternal his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Classic” findings of any specific inf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4ac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2895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ations of congenital HS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4" descr="HSVCon01"/>
          <p:cNvPicPr/>
          <p:nvPr/>
        </p:nvPicPr>
        <p:blipFill>
          <a:blip r:embed="rId1"/>
          <a:stretch/>
        </p:blipFill>
        <p:spPr>
          <a:xfrm>
            <a:off x="0" y="0"/>
            <a:ext cx="4572000" cy="267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HSVCon03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SVCon02"/>
          <p:cNvPicPr/>
          <p:nvPr/>
        </p:nvPicPr>
        <p:blipFill>
          <a:blip r:embed="rId3"/>
          <a:stretch/>
        </p:blipFill>
        <p:spPr>
          <a:xfrm>
            <a:off x="2666880" y="3586320"/>
            <a:ext cx="6477120" cy="3271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HSVCon05"/>
          <p:cNvPicPr/>
          <p:nvPr/>
        </p:nvPicPr>
        <p:blipFill>
          <a:blip r:embed="rId4"/>
          <a:stretch/>
        </p:blipFill>
        <p:spPr>
          <a:xfrm>
            <a:off x="0" y="3594240"/>
            <a:ext cx="426708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Culture of maternal lesions if present at delive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Cultures in infan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Skin lesions, oro/nasopharynx, eyes, urine, blood, rectum/stool, CS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CSF PC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Serologies again not helpful given high prevalence of HSV antibodies in pop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High dose acyclovi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21days for disseminated and CNS dise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14days for S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Ocular involvement requires topical therapy as wel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Diagnosing TORCH Inf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Good maternal/prenatal his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Remember most of these infections are mild illnesses often unrecogniz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Thorough exam of infa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Directed labs/studies based on most likely diagnosis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Calibri"/>
              </a:rPr>
              <a:t>DO NOT USE TORCH TITER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Toxoplasm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aused by protozoan –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Toxoplasma gond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Domestic cat is the definitive host with infections vi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gestion of cysts (meats, garden product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ontact with oocysts in fae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Acute infection usually asymptoma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fection rate higher with infection in 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trime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Fetal death higher with infection in 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 trime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4ac"/>
                </a:solidFill>
                <a:latin typeface="Calibri"/>
              </a:rPr>
              <a:t>Clinical Manife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53352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Most (70-90%) are asymptomatic at bir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lassic triad of symptom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Chorioretinit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Hydrocephal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Intracranial calcif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8960"/>
            <a:ext cx="8229600" cy="47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1026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  <a:ea typeface="Calibri"/>
              </a:rPr>
              <a:t>Other symptoms include </a:t>
            </a:r>
            <a:r>
              <a:rPr b="1" lang="en-US" sz="4100" spc="-1" strike="noStrike">
                <a:solidFill>
                  <a:srgbClr val="000000"/>
                </a:solidFill>
                <a:latin typeface="Calibri"/>
                <a:ea typeface="Calibri"/>
              </a:rPr>
              <a:t>fever, rash, HSM, microcephaly, seizures, jaundice, thrombocytopenia, lymphadenopathy.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  <a:ea typeface="Calibri"/>
              </a:rPr>
              <a:t>Initially asymptomatic infants are still at high risk of developing abnormalities, especially </a:t>
            </a:r>
            <a:r>
              <a:rPr b="1" lang="en-US" sz="4100" spc="-1" strike="noStrike">
                <a:solidFill>
                  <a:srgbClr val="000000"/>
                </a:solidFill>
                <a:latin typeface="Calibri"/>
                <a:ea typeface="Calibri"/>
              </a:rPr>
              <a:t>chorioretinitis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825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4:12:18Z</dcterms:created>
  <dc:creator>Ashley Maranich</dc:creator>
  <dc:description/>
  <dc:language>en-US</dc:language>
  <cp:lastModifiedBy>eddykates@outlook.com</cp:lastModifiedBy>
  <dcterms:modified xsi:type="dcterms:W3CDTF">2021-02-08T03:21:08Z</dcterms:modified>
  <cp:revision>80</cp:revision>
  <dc:subject/>
  <dc:title>TORCH Infec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311033</vt:lpwstr>
  </property>
</Properties>
</file>