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E21-4398-4A40-B08F-0620E02A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2C2-2C8B-4C95-84C8-3CB5A3C4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ED8-8BD9-479F-B9A2-DD75E3D6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166-FE0A-44C9-A638-65D3302D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3DB-8EBD-47CA-92D9-E6B5D048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3C3-3806-451F-8DC0-7A2DBF5F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A05-1EBB-40C5-BF26-10D55F5F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691-F839-403C-A83F-8583C2FA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C66-380E-41C3-BBC9-DA006DBD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B27-BA10-473C-934B-B12B15C3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6C7C-D14B-43CA-8D3D-4AF1B48F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FCD4-BBDC-4B13-8D5F-85BA43B9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EEF5-AEF5-441F-8DC2-4CF7814A71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BSTETRIC ANATOMY -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ETAL SK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nical significan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sutures and fontanelles allow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th/enlargement of b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ation of shape of fetal head during childbirth via overlap of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ietal bones overlap adjacent bones; right parietal overlaps the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lap is called moul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etal skull presentations and position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ion of fetal body lowermost in birth canal adjacent to pelvic in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phalic, Breech, Shoulder, Trochante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phalic has variants – vertex, brow, face – determined by degree of flexion or extension of head on neck (attitu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phalic presentations have anterior or posterior positions (where point of reference is direc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etal skull diamet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ero-posterior  and trans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verse remain constant – Biparietal (9.5cm), bitemporal 8.0, bimastoid 7.5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ero-posterior dependent on attitude, presentation,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occipito-bregmat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nape of neck to bregma. Engages when vertex presents with a fully flexed head -9.5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848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ntero-posterior diameters contd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ccipito-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nape of neck to anterior end of bregma – vertex incompletely flexed – 10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ipito-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occipital protuberance to root of nose – in OPP, extended aftercoming head 11.5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o-vert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n to centre of sagittal suture. Brow presentation – 13.75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mento-ver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nction of head and neck to centre of sagittal suture – face presentation when head is incompletely extended – 11.25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mento-bregma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nction of head and neck to centre of bregma – completely extended face presentation – 9.5 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etal skull changes during lab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pelvic wall resistance as contractions push head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lding – reduces fetal diametrs by up to 1-1.5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–third degree (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ssive moulding leads to intracranial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ut succedeneum – cervical, pelv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irth injurie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 moulding – no volume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sev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compression of substance of brain – failure of vital centres in brain 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orrhage on surface or within substance of b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pture of membranes of brain with or without hemorrh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ech delivery, (faulty vacu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apid moulding + release) – tears of falx cerebri and tentorium cerebelli and contained venous sin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s of fetal sk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tures and fontanelles of fetal sk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s and Skull di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tal skull changes during childbi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 Inju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troduction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hangeable with fetal 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important part of the fetus relative to partur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that presents in vast majority of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st compressible part of fe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onent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s of numerous bones joined by su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lose brain in cranial ca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up of 3 main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of sk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se of skul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s to sp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relatively massive 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bones firmly un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mpressi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undergo any change during partur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s vital centers in brain 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ault of skul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up of thin flat bones separated from each other by sutures – covered by pericran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ly compr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considerable alteration in shape of skull as head passes down birth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 of 2 frontal, 2 parietal, 1 occipital b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ac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sed irregular 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ner superiorly and thickens towards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ture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s between adjacent bones covered by peri-cra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to variable degrees at bi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al (metopic) separates 2 frontal bones, sagittal for parietal bones, lambdoid suture between parietal and occipital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onal suture between frontal and parietal bones, squamosal between parietal and temporal bo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ontanelle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y defects at junction of sutures – covered by pericran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erior (bregm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junction of frontal, sagittal and coronal sutures – diamond shaped, variable in size, average 3x2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ri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 junction of lambdoid and sagittal  - apparent depression in most due to over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s – Pterion (between coronal and squamosal), Asterion (between squamosal and lambdoid) no signific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8:08:03Z</dcterms:created>
  <dc:creator>aswani</dc:creator>
  <dc:description/>
  <dc:language>en-US</dc:language>
  <cp:lastModifiedBy>lenovo</cp:lastModifiedBy>
  <dcterms:modified xsi:type="dcterms:W3CDTF">2021-10-16T08:31:28Z</dcterms:modified>
  <cp:revision>19</cp:revision>
  <dc:subject/>
  <dc:title>OBSTETRIC ANATOMY</dc:title>
</cp:coreProperties>
</file>