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F3D-6C41-4D57-82F3-96BAAF55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315-6963-4D2D-9208-C71FB54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3D2-58A7-452B-9A9A-3E108C1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D14-4F89-4F70-878C-24FE2C4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9F4-7CF7-4DB3-B00A-0F7A21D1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E62-A161-43F4-B173-0960D66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750-AE70-453F-B8DC-5FD5772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D67-B289-4CF5-9786-08CFFAE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899-F64F-4AE8-88DD-7B2CB05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DD3-10E9-461F-A692-F65FD4E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E1E-1C19-4BF7-96F3-2BE55A0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1CC-04A8-4D70-B5B7-40CD34D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56F9-225A-4D9F-A8EC-D0ECAADF1E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STATIONAL TROPHOBLASTIC DISE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 MU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eatment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evacuation under cover of oxytocin. Cautious sharp curettage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sterectomy – if future fertility not desired, patient over 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of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 lutein cysts – conserv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hoblastic embolization – cardiorespiratory support in critical care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gnosi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5-90% cured on curet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15% persist as GT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20% of the GTN demonstrate metast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moles less likely to persist as GT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not impaired following 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% risk of repeat hydatidiform m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llow-up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pregnancy for a minimum of         6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hCG wee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monthly for 6 months once levels reach the lower limit (become norm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herapy if levels continue to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levels plateau or rise – GT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estational trophoblastic neoplas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gnant gestational trophoblastic disease or postmolar GT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asive mo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carcino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ntal site trophoblastic t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% follow H/mole, 25% abortion, 25% from an apparently normal 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iteria for diagno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hCG plateaus for 4 measurements over a period of 3 weeks or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of serum hCG for 3 weekly measu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hCG remains detectable for 6 months or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logical criteria for choriocarcin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asive mole – trophoblastic overgrowth with extensive penetration of the myomet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ntal site trophoblastic t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totrophoblastic cells infiltrate the myomet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orionic villi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with pv bleeding, may be preceeded by ammenorho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G not markedly elev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riocarcinoma: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hoblast invading muscle and blood vessels in a disorganized manner – absence of villous pattern. Tumor appears dark red or purple due to hemorrhage and nec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es are early – hematogenous spread to lungs (75%) and vagina (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-lutein cysts in one third of ca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gular pv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metastatic lesion e.g. hemopt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inal or vulvar le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istent or rising hC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 ball lesions on CX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stigation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a hC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x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 scan or MRI for brain, lung, liver or pelvic metastases (or U/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C, LFT’s, U/E,creatin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rading – prognostic classification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metastatic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ned to the ut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risk metastatic disease – good pro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 present &lt;4 months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serum hCG &lt; 40,000 mIU/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es limited to lungs and va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ior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gnostic classification contd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risk metastatic disease – poor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duration (&gt; 4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initial hCG (&gt; 40,000 mIU/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or liver metast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of prior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term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core of 7 or m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O prognostic scoring system as modified by FIG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458200" cy="5181480"/>
        </p:xfrm>
        <a:graphic>
          <a:graphicData uri="http://schemas.openxmlformats.org/drawingml/2006/table">
            <a:tbl>
              <a:tblPr/>
              <a:tblGrid>
                <a:gridCol w="3962520"/>
                <a:gridCol w="1218960"/>
                <a:gridCol w="1067040"/>
                <a:gridCol w="9903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 (ye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cedent pregna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r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al (month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treatment hCG IU/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 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st tumor size (c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of metast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/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/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/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i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metastases detec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ous chemothera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dr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dr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eatment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ve chemotherapy – hCG still elevated by 7-9 weeks, invasive mole. – single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metastatic – single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risk metastatic – Methotraxate, Actinomycin-D as single agent or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risk – combination - EMA-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until 3 consecutive negative weekl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ini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liferative disorder of the chor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es from conceptus rather than woman with th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es large amounts of human chorionic gonadotrop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good prognosis following proper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assific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atidiform m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tational trophoblastic ne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asive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carci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ntal site trophoblastic tum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ydatidiform mo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zed by varying degrees of trophoblastic proliferation and edema of villous str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follows intra-uterine 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ce or absence of fetal or embryonic elements used to classify them into partial or complete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lete mo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iferation of trophoblastic epithelium to varying deg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ic degeneration and swelling of the villous st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 of blood vessels in the swollen 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 of fetus and am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nic villi are converted into a mass of clear vess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ten are 46, XX of paternal orig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rtial mo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focal rather than generalized hydropic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tal tissue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yotype is triploid with one maternal and 2 paternal haploid comp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tus when present has multiple congenital anomalies and growth restriction (stigmata of triploidy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rdance between uterine size and gestational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inal bleeding – variable am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age of vesicles with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emesis gravida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induced hyper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hyroidism – features of thyrotoxi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stigation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: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wstorm appearance and absence of gestation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stic areas together with echogenic chorionic material plus gestational sac or fetus – partial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logy – chorionic villi in varying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emogram, CXR, hCG – pretreatmen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8:52:46Z</dcterms:created>
  <dc:creator>aswani</dc:creator>
  <dc:description/>
  <dc:language>en-US</dc:language>
  <cp:lastModifiedBy>lenovo</cp:lastModifiedBy>
  <dcterms:modified xsi:type="dcterms:W3CDTF">2021-03-02T19:17:24Z</dcterms:modified>
  <cp:revision>14</cp:revision>
  <dc:subject/>
  <dc:title>GESTATIONAL TROPHOBLASTIC DISEASE</dc:title>
</cp:coreProperties>
</file>