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642-4DDA-420A-860A-38913F1D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99A-4A84-4FA8-8006-D24B9F2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A6A-8E03-4B31-805F-BBAC0913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B82-42E7-4308-97EE-0EC0FE94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2F8-4EFA-4843-85E9-E255FA5D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CFB8-A8D9-48B9-B4C7-33EEF2CF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5AA-DD2F-4100-A9E1-FC3A552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691-5544-4AF7-A933-0E23466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0512-A5CF-48E3-9924-316476C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FDCC-301B-47A5-9CAE-2812DE23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599-6CEE-449C-85FD-D50FE1C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711-40F7-4B2B-8956-0EC8315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B23F-6008-49DE-BCA7-04DFFE4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E332-4860-402F-93F3-895CA56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3A5-5CBE-4446-9757-759D2AE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34D6-9ADB-43CF-AB15-D2D7124E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E337-F8A3-475B-AEBF-5B541E2F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3103E-3FA3-4C9D-BF91-0614A560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481B6-D0B9-46BC-A38E-2332C11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C54A4-89B9-47CD-97BB-D68AC91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AF1D1-BA9B-4DDB-A2C6-2ABD6A9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D9127-026B-4C74-95E5-418C028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AA1-A10D-477C-B548-0B376760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25C92-BEEE-44F4-A677-20B24C76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8B408-7C8D-4D42-A482-B2E80B1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34EF7-6B4D-4D21-BDC8-FE3A870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8EFB9-10EF-4183-9954-F340C71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A637-4902-4808-8DC4-6A70F616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F97B-011A-4B13-80BC-BFA1D6CB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B5083-3D91-4660-B091-D10381D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0505-4DF7-43CA-8D1B-CFC41F8D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A2C0-0428-425D-AFD3-CCB3AE7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B7F0-FB30-442A-A685-2E84F20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5C4-A416-4CFD-81AD-3858402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424C-44BD-41B4-9156-74FA7549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CAC5-69A0-4082-9E1D-B08B012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B4C5-BCA8-4A38-B382-3C98BFF5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E5FB-0780-4410-B82C-50D291A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E86E-1FF8-4474-93E5-4A94D8B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C0CB-5641-43E8-AC67-AA9BD5A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6895-6EFC-4B3D-8361-5489F57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8523-4747-446B-8358-FB6B4143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67F3-5E57-499A-A4C9-91BE863A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A47B-7EBC-4259-9263-5B13B49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213-86C9-40D7-B40D-F0CBE32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3EEA-D00A-479D-9A94-F0EE5BF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D9B8-F249-4F09-A115-2CF1725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6C90-4101-4FB8-BE75-B77B5185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6169-5A58-4165-80FC-2CC1A541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0D62-9964-4AF2-A337-B48E0EE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AE2C-AE6F-4520-BE0B-EDB5C73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71E2-0DC0-408B-A934-832C468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D746-239C-4E46-B887-C81CF02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6577-DBC0-4C9E-837A-A55A3CA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89E2-0F10-4743-B4F4-1A2ED380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D1F-B9FE-444C-8836-C80F296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DF97-3B07-459F-8CB3-3C00E53F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FC7-BC5B-4FB0-AA7F-9746938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51E-5016-472B-AB4A-89629A1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750-F217-46B4-893D-7392E27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752-4057-46EF-AD5D-AD6DE35D7B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C77-08E9-41BC-AA98-9DDE5EFEB5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D5E-CF6C-45D7-8EF9-BEE60A677D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609-7F88-4154-86A7-0542C5F4DA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5B3-41D8-4477-A497-D4F54FAE9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OBSTETRIC ANATOM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e Female Pelv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mensions of the true pelv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diameters at each of 3 planes are important in describing events of lab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nes are Pelvic inlet, Mid-cavity and Pelvic out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ameters are Antero-posterior (AP), Transverse and Obl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inl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ne is generally oval with transverse diameter greater than AP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bed at level of Ilio-pectineal l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ameter dimensions a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 – 11.5 cm, oblique – 12.5 cm and transverse – 13 c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-cav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vel of junction of S-2 and S-3 to mid point of posterior aspect of symphysis pub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rounded with the 3 diameters being nearly equal – AP – 13 cm, oblique – 13 cm and transverse – 12.5 c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s capacity is influenced by the status of the Ischial sp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utle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diamond shap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ists as 2 triangular spaces which are at an angle to each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erior triangle is bounded by symphysis pubis and the 2 inferior pubic ram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terior triangle bounded by sacrotuberous ligaments and tip of sacrum/coccy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diameters are 12.5, 11.5 and 11.5 c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verage pelvic diameters (cm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ro-posteri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liq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ver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l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d-ca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typ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nges in pelvic diameters as one comes down the pelvis influences the mechanism of lab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gures above obtain for the typical female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riations that occur have led to pelves being grouped into 4 major types:- Gynecoid, Android, anthropoid, platypello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ynecoid pelvi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let – oval though more rounded than the other 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llow sacrum – good curv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de sub-pubic ang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aight side wa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chial spines not promin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spinous/intertuberous diameters wi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es of medium weigh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droid pelv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le ty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vy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let – wedge or heart shap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e pelvis narrowed, hind pelvis flatten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al sacral curv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d of sacrum/coccyx inclined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de walls are converg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spinous and intertuberous diameters are sm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thropoid pelv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s a distinct oval inlet with the AP diameter longer than the transver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anterior and posterior segments are narr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crum is long and narrow but with a good curv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lvic side walls are stra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spinous and intertuberous diameters are less than in gynecoid but longer than in android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latypelloid pelv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inct oval inlet with transverse diameter wid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erior segment wide and roun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-pubic angle is very wi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de walls are stra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crum is short but with a good curv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utlin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tion – definition and compon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es of the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lvic cavity and its dimen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 of pelv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nical assessment of the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ss anatomy of the fetal sku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nting diameters of the fetal sku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tal skull changes in the labor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lvis in any one individual may be a pure type or be mixed – different planes having characteristics of different 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ynecoid has best obstetric outc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roid is associated with CP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hropoid predisposes to occiput posterior posi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typelloid associated with difficulty in engaging but easy delivery once head gets into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nical assess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nical pelvimet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cated in those suspected to have small pelvis, primegravid, one previous sc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ne at or after 36 wee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gital vaginal exam – feel for sacral promontory, curvature of sacrum, ischial spines, sub-pubic angle, inter-tuberous diam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agonal conjugate established for computation of true conjugat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adiological pelvimet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rect lateral pelvimet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cated where borderline findings established on clinical pelvimet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s AP diameters at the 3 pla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uterized tomography more informative but expensive and with excess radiation exposure – not use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metry contd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quirement for both trial of labour and trial of scar (Vaginal birth after caesarian sec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VBAC to be attempted, inlet AP diameter at least 10.5 c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er diameter can be allowed if head already engage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ctional anatomy related to child bir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oks at anatomical factors that influence the delivery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volves the architecture of the pelvic bones, the fetal skull and how they relate to each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ad components are the bony pelvis and the fetal sku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bones -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nominate bones, the sacrum and coccy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ticulate in a manner to enclose a central ca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crum and coccyx – posterior boundary while innominates – antero-lateral bound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innominate bones meet anteriorly at the symphysis pubis – a fibrous j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bones -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innominate bone is made of Ilium, Ischium and Pubic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lium is superior to the other 2 bones – broad and flatenned, superior edge is the iliac crest. Forms the posterior boundary of the Iliac foss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lium articulates with the other 2 bones via a fused bony joint in the area of the hip j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bones contd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chium is infero-posterior  to Il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-shaped, thicker, together with the pubic bones surround the obturator foram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rner of the L is prominent and forms the Ischial tuber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ischial spine protrudes from the posterior edge of the upright and points variably medi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bones contd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ubic bones form an inverted L or V with the corner at the pubic sympy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atively flatten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s of a superior ramus and inferior ram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angle between the inferior rami under the symphysis is the pubic arch or sub-pubic ang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crum and Coccy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consists of fused vertebral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ticulate at a cartilaginous j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ad superiorly and taper inferior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ner aspect facing cavity has a concavity of variable angul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erior end of sacrum and intervetebral disc above protrude into cavity as the sacral promon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lvic cav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ace encircled by pelvic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divided into an upper (false/greater) pelvis and a lower (true/minor) pelv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lse  pelvis contains abdominal structures, bounded by the 2 Iliac fossae and anterior abdominal w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ue pelvis is below the Iliopectineal line. Is the cavity through which baby negotiates during child birth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9:14:19Z</dcterms:created>
  <dc:creator>aswani</dc:creator>
  <dc:description/>
  <dc:language>en-US</dc:language>
  <cp:lastModifiedBy>Dr. Aswani</cp:lastModifiedBy>
  <dcterms:modified xsi:type="dcterms:W3CDTF">2017-11-10T03:18:34Z</dcterms:modified>
  <cp:revision>10</cp:revision>
  <dc:subject/>
  <dc:title>OBSTETRIC ANATOMY</dc:title>
</cp:coreProperties>
</file>