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  <p:custShowLst>
    <p:custShow name="Custom Show 1" id="0">
      <p:sldLst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C5A5-577C-4DA7-B92A-EF11493BF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0919-5FBD-4255-9127-4B348959F1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F5A-FB51-49E9-8CF3-3DF46ECC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D9D-DE5E-457E-AE4F-8D5B71DC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E55-C80C-42D3-AC70-49CB9ECF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B8A-931F-4D31-B539-A9FA7969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AEB2-EE4D-4334-B815-63C2C77C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9918-7EC3-4505-B118-45E126E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98AE-4B10-49EB-ABAC-5534F8DC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61B6-93EA-4917-8F98-DEF15703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5988-8CF3-4A51-AB73-02D02543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5CB7-6658-4447-8804-069F570A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4E8C-D853-4C18-9904-FFC2EC81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BCA-4F83-45DD-8AA7-10B6FE1A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C2C2-401B-4B7C-9A33-39B84F9D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8D93-DDF1-4DBF-9D7B-22F51EDB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4267-16DD-4D40-B2BC-A778C08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B975-258B-4357-A633-FD94E15A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F4D6-32DA-45CA-A1E9-8A8669A6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EFD3-CF1A-4DD7-809A-6C813E53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4E36-8F04-4D2C-AAE3-CBDCF8B2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153C-EFF6-49D6-AE5A-58D37A31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848E-7860-45CD-AD7C-F7A02EB3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B154-AF92-465E-B337-741F7C95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580-907A-488B-B6B4-954767A5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40AF-2C87-4F1C-8EB8-9C345CA3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780D-312A-48E9-BE9F-6774F46A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CD9C-7B64-4529-970D-B059D76B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20BB-7575-47A2-B820-4CDB6545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3F14-41FA-45B1-9B30-368C58C7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D300-1836-477A-9BDE-4E674A2E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0707-5D01-4EE4-9893-535D4E44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64ED9-8E7B-410E-BFCE-58BED52B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2081-575D-4674-856D-89BF75CD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1CA6-148D-400F-9614-26BC22E9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9EA-4262-45FD-80D4-47164F5B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27F09-E84C-4086-B81B-BE1B51B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72C5-4099-49C7-B9B2-B36A9E6F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8181-E464-4771-942E-5EEB0FC8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C9CB-74E5-4970-981B-1995044E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348A-D26F-4CD9-B685-2E53670C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15A1-F177-4799-8EB4-3718E57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207BD-0F50-4B06-81BC-51BCC7B9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60D3-91F4-4149-B44F-1A004260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27D86-DE6B-4795-A191-A4896260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76B11-01AF-4089-908B-B0DAFE1D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167-0BF5-47EB-BFFC-5349F32E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73B96-2602-4E13-9B97-2E45DB6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44B5B-98E7-4891-8B80-D0770EB9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8F78-BD57-43FD-A4B7-2F1BD3C4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A37C-4990-4C5A-85A9-41280F6C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159FE-0BF6-497F-8125-BBC5BCDA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94B7-7AE9-488A-82DB-4D37898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2757F-03E2-45BD-910E-D7CA27A0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84B7F-2102-4CC1-AA94-7616E814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76CEA-B6F0-4373-9923-D54CBD69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26F28-B926-474A-B627-CA737D12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A36-1035-4FF0-8D20-B32E3461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3105-79D3-40AC-9AAB-F157A25B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BB397-39C2-4C12-8F8D-8C76ADA8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0B864-0A73-4BA2-A390-EAFDBF27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B5EC-76E7-4E56-85CD-2CD8B492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36B4B-C398-46CB-9042-11FCD7D6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C71A-354A-4CBF-BF77-7F2BCF9B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FB01D-15B7-4BB9-8CBF-33B0F17F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BCC05-CB81-476C-9AAE-A0C5C25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4659-DB31-4C0A-8467-DF4D36B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22C45-7DB9-44F6-94D1-76432C1C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B8E-1B85-43B9-B980-CF68B297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23E0F-4B6B-4D43-81D1-E2C3EBCC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008BD-59DF-43CE-930C-9CC31A9A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38AEB-C95D-4FB2-9574-BDDD08A6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A3A2C-786A-4DEB-ACBE-A6B2DBF1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F8A7B-1FA0-43B2-86F6-95CDE66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D3869-CCEA-4D97-95E0-EEF0814A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5365-1536-4176-AD2C-D7842929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C537-FEA0-4F11-91CC-9088744D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177B0-2E70-41C6-8B66-2BB8E5F5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8FDF-816D-4BBC-B29F-A7D6475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B24-3D0E-479D-9C50-ACF1D51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797C3-893C-44F3-AB05-6BC3141E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5F587-C4B9-486E-97F1-004669F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11B26-B6D5-4544-BC46-2195C436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FA002-419E-4ECE-B474-0CD56D8D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A197-1D2A-492B-8601-B6731854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4531B-C30D-436B-9F92-672446BA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4E608-7970-4A5D-AF0A-06E95CE6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A026B-7A30-4CD7-AB71-5DB7E09E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B892B-FCE9-4FF3-B1FF-FA1B6BEC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04A47-9030-4DBE-AF98-7CA36877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37E-C5F1-4276-9577-86412087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2A55A-3EB9-40F4-A594-161C26E3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8AF63-59AD-4DDC-BB8D-D3CDE8C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27075-E5D2-4801-A48A-0227CF5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F7734-5E3C-4EFE-933B-14200B77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2D9A-39FE-461B-8545-780BDC1A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1E5A3-959B-4DEC-BF7D-53BDACE5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25BBF-C285-42CA-AA3A-49C91168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9859-069B-4286-A0A0-73D6829308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229F-25FE-4D8F-B73F-093144BDE7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5B48-EDA1-42BA-9C22-A660AE4C70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5B6B-9083-4183-B355-845852D808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4E10-ACDC-4EDB-B427-6514129A41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510F-6F4D-42CE-8368-645BB9FCB4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14D8-7930-4FFA-9492-2BED94E115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B6A5-5E63-4FA8-BDBE-CD07122A40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LI MUMB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REPRODUCTIVE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commended to be within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trimester (&lt;16 week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ake full histo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erform full physical examin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Look for anem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o antenatal profi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ive TT, Iron, Folic acid as appropri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ive SP if more than 16 wee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ducate on danger sig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dvice on individual birth pl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commended at 20-24 week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rief history and examination to follow up on earlier documented issues, obstetric ex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ive 1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SP, iron, folate, T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unsel and educ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ck on individual birth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t 28 – 3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ck on individual birth 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ive 2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TT if 4 weeks or more after 1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ive SP, Iron and folic ac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view lab investig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isten to fetal heart so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unsel and educ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pdate on individual birth 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ok for an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ck for fetal presen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y do vaginal examin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ive iron and fol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unsel and educ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Vaginal blee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evere headache/blurred 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welling of the face / Convulsions/ f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gh fe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eavy vaginal discharge / Genital ulc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inful mictur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bdominal p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evere vomi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duced or loss of fetal mov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fficulty in breat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 lot of or persistent per vaginal bleed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evere abdominal pa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evere headache / visual disturba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nvulsions / f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High fever with or without vaginal dischar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Labor lasting more than 12 hou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upture of membranes more than 12 hours without onset of lab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lacenta not delivered within 30 minut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hould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dentify a skilled attendant and place for delive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ake arrangements for transpor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t aside funds for transport and delive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dentify decision maker for when to go delivery fac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dentify support partner, blood donor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ssemble items needed for clean and safe delivery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sure mother knows when the baby is du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dentify a skilled attendant/health facility for delivery/emergenc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sure mother knows the danger signs in pregnancy, labor and post partum complic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sure mother has identified a birth partner, transport plan in case of emergency, funds for delivery and in case of emergenc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as received PMTCT servic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tory of AN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ims of AN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lements of FAN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actice of FAN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umber and spacing of visi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rvices provided at each visi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rted in Boston, USA 1900-191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itially women would visit a doctor for confirmation of pregnancy  and then only come for delive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urses started providing home visits to the women to assess and assist with the various problems encounter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omen followed this way appeared to have better outcomes hence was adopted by doct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e given to a pregnant woman through pregnancy up to the point of childbir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called prenatal 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eded because pregnancy though it is a physiological, gets complicated by pathological processes in 5-20% of c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earlier focus of ANC was to identify those at risk so that  they could get special treatme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ith time it became apparent tha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Outcomes were not changing significantly despite many mothers attending AN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any complications were being recorded in those initially listed as low ris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any of those said to be high risk were getting good outcom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is led WHO to recommend a new approach to ANC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s a goals oriented ANC that is timely, friendly, simple and beneficial to pregnant w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t emphasizes the woman’s overall health, her preparation for childbirth and readiness for com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rives from the overall aims of AN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nsure the birth of a healthy infant with the mother also remaining healt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nticipate and try to prevent  complications of pregnancy and childbir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arly recognition of problems of pregnancy and childbirth for prompt treatment or refer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epare the mother for the proper rearing of the child once bor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ewer but goal oriented visits for quality serv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History, physical examination and appropriate lab tests to detect complications arising for treat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Health education on nutrition/infant feeding, personal hygiene, birthing process, danger signs of pregnancy childbirth and puerperium, as well as F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dividual birth plan –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ere, with whom, how to reach, finances.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minimum of 4 visits for those with no known risk fac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classification form used to identify those for the 4 visits at the 1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vis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ll that is done at each visit documented. Standard forms guide on what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o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9:44:58Z</dcterms:created>
  <dc:creator>aswani</dc:creator>
  <dc:description/>
  <dc:language>en-US</dc:language>
  <cp:lastModifiedBy>lenovo</cp:lastModifiedBy>
  <dcterms:modified xsi:type="dcterms:W3CDTF">2021-11-18T18:35:32Z</dcterms:modified>
  <cp:revision>20</cp:revision>
  <dc:subject/>
  <dc:title>ANTENATAL CARE</dc:title>
</cp:coreProperties>
</file>