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E17-E93D-4C12-A9D8-4874E55A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365-7050-49D9-AC68-0DA93FEC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86782B-D4A6-43CF-8D4F-AC9FE55F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B73852-95E7-4077-B986-54238C3D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0B43B3-DF97-4A18-9294-0B0532BA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F2D6FD-2AE4-457B-A955-C6A4743B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B93592-78E7-40FC-A03F-A6CE7980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4CF861-E480-4B3F-BC4B-A15A75EC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ABE47C-8362-4EC5-BD28-C5587F51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F7A20B-DB6A-41CE-B77E-67E0E094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EE645E-9F37-48A4-BCC0-7ACC459E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75D3-17D9-4E9A-9E6B-28BE28F0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3D7-1570-4035-A3CC-6DD9BE1D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C4E72-8AA4-4656-9C0C-C9F347B2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CAB5B-DB60-4F6B-90F1-AC5B6F33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B4B51-BBED-459C-9E67-049E3D26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EF01F-7952-4EC4-A763-4C3BE894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BB5B4-5D3A-4A73-B44F-97904EE8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391C9-48A4-43D3-A80B-D4EB7379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39B57-DBDE-4C60-8C8E-5AA072E7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D37-2227-42C2-92AE-8769815D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A2C02-067F-410A-B250-136A01B7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7354C-C922-4C10-92A3-E68FEFD5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D1114-BCF4-48B7-9BE7-5D9F86A2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05823-FD6B-4810-BE82-F8A604D1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178BC-6C7C-476D-8152-F62A816F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37BF2-70F2-4156-9E35-2BA01EF8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B5059-C5CF-48C0-AF50-F1230429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FB06C-5234-4329-AE37-A0B52720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471C8-E2C0-4A88-A944-78BA1645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A4DAA-5409-4D2C-9E5C-2BC74FF4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091-B235-4C81-A862-DF3A26EC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D0EF7-6CC5-4E82-BDB3-E02478D3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E7ADA-D8A7-480D-A444-C9C08CA6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DA038-F226-4BC3-8833-F899583A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A239D-FF85-4793-BC54-F33866E3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A7A0A-B10A-4C84-A1F5-0AC0FB61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48129-C6BE-49BC-80E1-AF7856BE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28FC8-E6E5-4DDE-8EAE-E05EE2D3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F9E1D8-D47D-4E86-8940-D1C85B61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2E3CD0-591E-41AC-8419-28679047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2DC1CB-65D6-40AB-BF58-9DBD95F5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AF66-E588-4BEB-BB18-374530C2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D00E9F-CCCF-419A-BA80-70EA70BA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D68B5C-AF8D-401E-AACC-1E51540B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3BE720-FBEA-4553-9B62-7050BB5E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4CD26-77B4-4212-9D8B-A5B32276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32078-B928-49AF-B043-F09C5DE5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1F64FB-7E2C-47AC-A09A-A913CFBA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8178B6-650A-4233-B60E-42F75652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BB384C-8577-410D-9BC7-319997BC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7727EB-6402-4724-B822-71F31540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C1864-B2E6-4BAF-BCDF-3D796FC3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B8BE-BB6B-47EE-8789-6E5E8D05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2D1D0-0F4B-4637-A55A-5A1B2011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3EFE5-6CE2-4273-81D2-A32E3F4A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A9F5A-96A4-419D-8459-09819FB5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47054-78AB-47EF-92D8-04DF7481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DCF3E-4FB4-4548-9979-A63BB855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639A8-4A82-4B64-9AFC-416FCCFB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70B24-FFF7-4A56-B2A4-5D7417D6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30F50-44E3-43B4-BADD-CDB1E709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4B66D-2627-4A70-A9C0-1AC3C004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8516C-DAD7-4365-90C0-4F4A9725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B3A-C379-4B2E-A2E0-13F6B673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9C885-8B6F-4C7F-B266-CABF9E22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DFC7D-DB16-4222-B18D-33E7C208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1B6E6-3774-407D-878C-9B6727B0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F8420-B287-4C99-BFD1-FFAC73B0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8C9E7-0D16-4DAF-B660-34ED6A8C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0155F-EB67-4F6A-9DFA-0F0388AB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17572-5873-4554-90FA-71DE57A4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72252-D2DE-44AD-955E-F812C6AB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245EF-B7B9-479D-86EC-DDED71EA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E0B19-EB7E-4B89-B9BD-D6102C4A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ABEB-5FB3-42FA-859A-9616B617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91857-8CA6-4E7A-8BC1-6782FFEC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DB2DB-64E4-4716-9E3B-69FC8BEB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ECD20-2905-4C26-AE20-A4F893A8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C42DD-EF07-4C95-89A2-DD23A248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FDE77-9A1D-418E-8500-6068C8D3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0FEE2-109A-4CA0-9DA9-404D9E0A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CFD25-77E4-4402-A48B-2DF94A79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5BDC7-1FC8-40C2-8ABE-25A6F578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01AF4-6D14-4DB3-A653-AD6F5C1E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A96A1-F473-42DE-8D5B-F9BA5958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AF6-ADB2-4C6E-A2B2-E0E1EEF9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C11E7-71D1-4D76-AF2E-B5B93D69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B555C-153A-4F79-BE08-C3355633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3454F-4466-49DB-A158-9C00C291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C02F9-9245-457B-90ED-049C4548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3550F-D512-42CD-9168-E55D67EC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6E1FE4-8F75-4D63-A707-CAD2B408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5B7694-8392-41E4-8795-BF70B86F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F96461-D4AE-40CF-8D5E-0EEA16E7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4A7E1C-F1AE-472C-8921-1775B763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618313-1C6E-478C-AA02-65CF3FCC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A0F-3350-4E92-BD2B-776D6F59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D02A5C-2B7D-4C19-A858-8ED7788C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4EDB4D-E573-4A41-9468-D49797F0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0D6251-AB57-4F08-B86A-4B7B5C9B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91CBE9-919E-4E38-AB5C-82C6041D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D99EAC-A70E-4599-93C5-7B4BF011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60CE77-7141-4BAF-940B-78EF538E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ACDDF2-A4FC-4158-9850-B2F7CF50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5BB170-6170-491A-BEE5-150A5050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235CF1-2493-474E-B242-54F3A7F5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B4E46D-427A-417A-9331-E2E35A88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D9CC-1F8B-478F-91DE-A4F100DF0E2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56EB-66FA-400C-B476-26D9115D8A4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2E08-34B4-4FDB-B526-FFF368394A7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A873-EFA1-4AAB-BBBB-59717EB20AE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EEFF-06F4-49E2-AA90-8D0800F1202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E29E-6437-4A5E-96A4-004963810EC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0F92-9EE4-4F36-A6D6-4AEC8331860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B594-EECD-42CE-BA59-27EA4E85CDB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033D-D136-4EF7-83EF-03202098662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li Mumb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productive Healt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ersonal history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cio-economic histor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amilial illness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hronic illnesses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argets all other systems not dealt with in the HPI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nsures that  other symptoms that may not have been considered important are capture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ooks at a patient as a whole rather than as a syste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summary of the history should be made immediately after the systemic inquir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8068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egins with appropriate position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equate privacy should be ensure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chaperone or another health worker should preferably be present when invasive examination is to be done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7420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eneral examina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ystemic examina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Inspe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Palpa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Percuss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Ausculta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ll components importan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Most critical in pregnancy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general condition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nutritional statu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hydration statu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pallor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jaundic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edem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Vital sig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ystems considered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CVS, RS, Per Abdomen, CNS,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usculoskelet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esentation begins with the system with most positive finding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ll positive and negative findings on per abdominal exam should be give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ll systems examined in every patie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485200" cy="1450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istension – presence/absence, degree,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ymmetr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ovement with respira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atus and position of umbilicu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esence/absence of linear nigra, striae gravidaru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rgical incisions, other scar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istended superficial vessels, herniae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485200" cy="1450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perficial palpation – obvious masses, tenderness, temperature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ep palpation – looks for specific organ enlargement, describes the various characteristics of masses presen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terine enlargement due to pregnancy described by Leopold manouvres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 – Height and contents of fundu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 – Lie of fetus –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relationship of long axis of fetus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o that of the  mother, location of fetal poles,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irection of fetal back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 – Presenting part –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ortion of fetus lowermost in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uterus adjacent to the pelvic inlet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4 – Engagement –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ether or not a portion of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resenting part gone below the level of the inlet.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uring labor, descent should then be determined.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742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cludes history, physical examination and investigat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ey to making a diagnosi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quires good communication skills – establish rapport and gain patients tru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ood background knowledge importa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thical behavior must be observe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ercussion has little role in obstetrics –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elineation of indistinct masses or uteru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uscultation looks for presence and characteristics of the fetal heart –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rate, regularity, loudness/clarity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aternal bowel sounds may also be looked for in some instanc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tension of abdominal exam. Involve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spection of the external genitalia –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irect for superficial structures, speculum for vaginal walls and cervix, discharge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alpation of vaginal walls, cervix –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osition, length, consistency, dilatation, cervical motion tendernes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imanual palpation of internal genitalia –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ize/orientation of uterus, tenderness, fornices, adnexial masses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80680" cy="1165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rmat similar for both obstetric and gynecological patien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omponents:-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Presenting complaint(s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History of presenting illnes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Obstetric and gynecological histor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Past medical/surgical histor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Family and social histor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Systemic Inquir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ain reason(s) why the client/patient is seeking atten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sted/presented in order of longevit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se patients/clients own word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ferred or patients admitted through clinic may not give a typical presenting complai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720" indent="-28872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8720" indent="-28872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pecifies the chronological order of events and symptoms up to the time of interview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8720" indent="-28872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ives details of every symptom/complaint including associated factor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8720" indent="-28872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cludes all tests done and treatments given plus their outcomes as reported by the patie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ast obstetric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parit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details of each pregnancy/outcom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esent obstetric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LMP, EDD, period of ammenorrhoe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ANC attendanc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disorders encountere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2960" indent="-282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enstrual histor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menarche, duration of flow, cycle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length, quantity, regularity, dysmenorrhea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xual history –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oitarche, partners, disorder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P histor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I’s exposur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productive tract cancers screening –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ap smear, VIA, VILI, scans, mammogram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80680" cy="11653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ynecological history usually comes first in a gynecological patie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MHx may precede Ob/Gy history in case of a medical disorder in pregnanc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8520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gnificant illnesses one has  been  treated fo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urrent treatments not related to the p/c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ny known allergi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9:55:50Z</dcterms:created>
  <dc:creator>aswani</dc:creator>
  <dc:description/>
  <dc:language>en-US</dc:language>
  <cp:lastModifiedBy>lenovo</cp:lastModifiedBy>
  <dcterms:modified xsi:type="dcterms:W3CDTF">2021-10-21T15:54:07Z</dcterms:modified>
  <cp:revision>13</cp:revision>
  <dc:subject/>
  <dc:title>Clinical methods in obstetrics and gynecology</dc:title>
</cp:coreProperties>
</file>