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2E0D1-4D09-4E16-9B2A-682554710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24E68-6418-4D2B-B7A0-04A109F97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BA028-0C06-4C8D-9171-B48CC214A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C0CE3-9DDC-4945-86B3-15BA7427C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00030-BE87-48B2-B499-BD81833B0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A0B4E-F4CD-4405-96DC-46A7ADA65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5CE08-06AF-474A-B703-787BFA08A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FAEC2-CCDA-48BE-B06B-8D57037FE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259C4-08E3-443B-8766-C6B7D421E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18DFF-C611-430A-83DF-0B2CE819E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DECC3-1941-49C3-819F-F4163CBF3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B11B3-C2D8-4CA6-991D-CEC430B4F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AA780-9AF7-4FB2-9D4D-BE71B2E02F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CTOPIC PREGNANC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 is which the fertilized ovum is implanted and develops outside the normal uterus cavity.</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uses for increase Ectopic Pregnancy Rat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prevalence of ST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ier diagnosis with sensitive x-rays for chronic gonadotropin and TV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ced abortion followed by inf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use of 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bal surge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ortal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has decreased due to immediate  diagnosis and time manag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atomical Chang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Zygote Implant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rtilised ovum burrows the epithelium and zygote comes to lie in the muscular  wall because the tube lacks  a submucosa. Proliferative trophoblast invades and erodes the subject mucosants opening maternal vessels. embryo and fetus in an ectopic pregnancy is often absent or stunted.</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terine Chang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changes associated with early normal pregnanc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ometrial Chang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larged epithelial with in nuclei that are hypatrophic, hyperchromadic cellular and irregular shaped Aria-stella reac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bleeding normally occurs in cases of tubal pregnancy and is uterine origin from degeneration and slough of the uterine decid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tural History of Tubal Pregnanc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ubal Abor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mon in ampullary tubal pregnanc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ubal rap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rule rapture in the 1</a:t>
            </a:r>
            <a:r>
              <a:rPr b="0" lang="en-US" sz="2400" spc="-1" strike="noStrike" baseline="30000">
                <a:solidFill>
                  <a:srgbClr val="000000"/>
                </a:solidFill>
                <a:latin typeface="Arial"/>
              </a:rPr>
              <a:t>st</a:t>
            </a:r>
            <a:r>
              <a:rPr b="0" lang="en-US" sz="2400" spc="-1" strike="noStrike">
                <a:solidFill>
                  <a:srgbClr val="000000"/>
                </a:solidFill>
                <a:latin typeface="Arial"/>
              </a:rPr>
              <a:t>  few weeks pregnancy is in the isthimic portion of the tube. Rupture is usually spontaneous or can be caused by trauma also associated with coitus, with intraperitoneal rupture, the entire rupture may be extruded from the tube or if the vent is small profuse hemorrhage may occu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ntrates if small may be reabsorbed or if large remain in cul-de-sac for years as an encapsulated mass or even  become captured to form a lithoped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dominal Pregnanc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s rupture or abor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oad-ligament Pregnanc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antation is towards mesosalphinx and based between folds of broad liga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stitial Pregnanc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antation with the tubal segment penetrates the uterine wall results in an interstilial or cornual pregnancy. Haemorrhage can be fatal rapid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terotyphic Ectopic pregnancy – Ectopic pregnancy co-exist with IU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cal and Laboratory features of Tubal Pregnanc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cal diverse and depends on whether rupture has occur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lassical cases here, vaginal bleeding amenorrhea/lower abdominal pain, others – vasomotor disturbances e.g. vertigo, syncop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er abdomen on palpation and vaginal exams elicits cervical motion tendern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fornix may bulge because of blood in the cul-de-sac tender boggy mas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phragmatic Irritation with pain at shoulder/neck.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rupture signs/symptoms of shock.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rupture – vital signs are normal. if bleeding continues hypotension tachycard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docentesis simple technique for identity haemope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boratory tes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b, haemotocrit, leucocyte cou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rionic Gonadotropin Assa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HCG – markedly reduced concentrations compared with normal pregnan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inary pregnancy t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um progesterone – single progesterone can be to establish presence of developing pregnanc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ltrasound Imag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domin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gi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antation sites. </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antation sites. </a:t>
            </a:r>
            <a:endParaRPr b="0" lang="en-US" sz="28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bal commonests 90% </a:t>
            </a:r>
            <a:endParaRPr b="0" lang="en-US" sz="2400" spc="-1" strike="noStrike">
              <a:solidFill>
                <a:srgbClr val="000000"/>
              </a:solidFill>
              <a:latin typeface="Arial"/>
            </a:endParaRPr>
          </a:p>
          <a:p>
            <a:pPr lvl="3" marL="175248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ulla </a:t>
            </a:r>
            <a:endParaRPr b="0" lang="en-US" sz="2000" spc="-1" strike="noStrike">
              <a:solidFill>
                <a:srgbClr val="000000"/>
              </a:solidFill>
              <a:latin typeface="Arial"/>
            </a:endParaRPr>
          </a:p>
          <a:p>
            <a:pPr lvl="3" marL="175248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humus </a:t>
            </a:r>
            <a:endParaRPr b="0" lang="en-US" sz="2000" spc="-1" strike="noStrike">
              <a:solidFill>
                <a:srgbClr val="000000"/>
              </a:solidFill>
              <a:latin typeface="Arial"/>
            </a:endParaRPr>
          </a:p>
          <a:p>
            <a:pPr lvl="3" marL="175248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undibulum</a:t>
            </a:r>
            <a:endParaRPr b="0" lang="en-US" sz="2000" spc="-1" strike="noStrike">
              <a:solidFill>
                <a:srgbClr val="000000"/>
              </a:solidFill>
              <a:latin typeface="Arial"/>
            </a:endParaRPr>
          </a:p>
          <a:p>
            <a:pPr lvl="3" marL="175248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stitial </a:t>
            </a:r>
            <a:endParaRPr b="0" lang="en-US" sz="20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arian </a:t>
            </a: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dominal </a:t>
            </a:r>
            <a:endParaRPr b="0" lang="en-US" sz="24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terine: </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vical </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nu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rgical Diagnosi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ettage to  differentiate between threatened abortion an incomplete and tubal pregnanc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parascop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paratom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rgical Managem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parascopy is preferred over laparatomy  unless patient is unstable even though reproductive outcome is similar. Laparoscopy is more cost-effectiv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ubal surgery is divided into:</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rvative tubal salvage e.g. salpingostomy, salpingotomy and expression of pregnan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cal surgery – salpingectom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l Treatm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methotrex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tiology and Pathogenesis</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factors for Ectopic pregnancy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gh risk: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bal corrective surgery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bal sterilizatio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us ectopic pregnancy</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rate ris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rtility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us genital infection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light Risk:</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us pelvic/abdominal surger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ly risk factors can be grouped as mechanical and functional factors but may overl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chanical Factor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prevent  passage of facilitated ovum into the uterine cavity, e.g. prior tubal surgery coufers the highest risk. After one ectopic pregnancy the chance of another is 7 to 1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salpingitis causes agglutination of the mucosal folds with narrowing a formation of  pockets also causes reduced ciliation due to infection. Clamydia tracomatis infection is the common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utero exposure to dietylstilbestrol predisposes to developmental tubal abnorma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us Cesarean S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nctional Facto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 delay passage of the fertilized ovum into the uterine cavity e.g. progesterone only contraceptives, IUCD, post-ovulatory high-dose estrogen to prevent pregnancy e.g. ECPs, ovulation in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sisted reproduc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topic Pregnancy increase follow gamte intrafallopian transfer (GIFT) and In Vitro Fertilization (IV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iled Contracep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ce in IUCDs, tubal sterilization, progesterone on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pidemiology</a:t>
            </a: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has been a increase in both the absolute no and rate of ectopic pregnan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white women have above 1.4 times more chances than wh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3:21Z</dcterms:created>
  <dc:creator>DR MACHOKI</dc:creator>
  <dc:description/>
  <dc:language>en-US</dc:language>
  <cp:lastModifiedBy>lenovo</cp:lastModifiedBy>
  <dcterms:modified xsi:type="dcterms:W3CDTF">2021-12-02T17:05:19Z</dcterms:modified>
  <cp:revision>19</cp:revision>
  <dc:subject/>
  <dc:title>ETOPIC PREGNANCY </dc:title>
</cp:coreProperties>
</file>