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</p:sldIdLst>
  <p:sldSz cx="12193588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533520" y="763200"/>
            <a:ext cx="67024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7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22C2F4-1A02-4890-8D90-B8FC657D11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775EC-9028-4118-8AB0-1B5E830E4E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A4D36-7A9E-418E-87CB-4C51C95A6F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5f6368"/>
                </a:solidFill>
                <a:latin typeface="Arial"/>
              </a:rPr>
              <a:t>Ataxia</a:t>
            </a:r>
            <a:r>
              <a:rPr b="0" lang="en-US" sz="1200" spc="-1" strike="noStrike">
                <a:solidFill>
                  <a:srgbClr val="4d5156"/>
                </a:solidFill>
                <a:latin typeface="Arial"/>
              </a:rPr>
              <a:t> is a neurological sign consisting of lack of voluntary coordination of muscle movements that can include gait abnormality, speech changes, and abnormalities in eye mov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46FFD-37D8-43D1-8BB2-66FC005FEF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202124"/>
                </a:solidFill>
                <a:latin typeface="Arial"/>
              </a:rPr>
              <a:t>Niemann</a:t>
            </a:r>
            <a:r>
              <a:rPr b="0" lang="en-US" sz="1200" spc="-1" strike="noStrike">
                <a:solidFill>
                  <a:srgbClr val="202124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202124"/>
                </a:solidFill>
                <a:latin typeface="Arial"/>
              </a:rPr>
              <a:t>Pick</a:t>
            </a:r>
            <a:r>
              <a:rPr b="0" lang="en-US" sz="1200" spc="-1" strike="noStrike">
                <a:solidFill>
                  <a:srgbClr val="202124"/>
                </a:solidFill>
                <a:latin typeface="Arial"/>
              </a:rPr>
              <a:t> is a rare, inherited </a:t>
            </a:r>
            <a:r>
              <a:rPr b="1" lang="en-US" sz="1200" spc="-1" strike="noStrike">
                <a:solidFill>
                  <a:srgbClr val="202124"/>
                </a:solidFill>
                <a:latin typeface="Arial"/>
              </a:rPr>
              <a:t>disease</a:t>
            </a:r>
            <a:r>
              <a:rPr b="0" lang="en-US" sz="1200" spc="-1" strike="noStrike">
                <a:solidFill>
                  <a:srgbClr val="202124"/>
                </a:solidFill>
                <a:latin typeface="Arial"/>
              </a:rPr>
              <a:t> that affects the body's ability to metabolize fat (cholesterol and lipids) within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A506E-37F0-49AA-98FD-86C8A33754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202124"/>
                </a:solidFill>
                <a:latin typeface="Arial"/>
              </a:rPr>
              <a:t>Cysticercosis</a:t>
            </a:r>
            <a:r>
              <a:rPr b="0" lang="en-US" sz="1200" spc="-1" strike="noStrike">
                <a:solidFill>
                  <a:srgbClr val="202124"/>
                </a:solidFill>
                <a:latin typeface="Arial"/>
              </a:rPr>
              <a:t> is a parasitic tissue infection caused by larval cysts of the tapeworm Taenia solium. These larval cysts infect brain, muscle, or other tissue, and are a major cause of adult onset seizures in most low-income count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1CE1F1-7417-4229-88D3-07B06CEBD0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08B3B-4B11-4975-A18D-E52BEF4ED2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A01A2B-C6CE-444C-9FB0-96E71D5FEE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186FCF-E23D-4ED1-AC1F-A6F575DE8F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109388-48F2-4789-8AE3-C5B55A3423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F67F56-A68E-419D-889C-6BABAF45D2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CAFAD-294F-40C8-89DA-05F912FCA0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D3E4B6-7C0A-435A-B159-DA4D5E90FD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93CC04-2582-492B-9F48-3E4F72BB2A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D26F72-D983-40EC-8204-4F2982E37C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0DF04D-CEB5-4A9A-8BD4-B05FAD9DD0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8A1711-E4ED-4263-9EC7-DD066DEF85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3DDCAA-C59F-445B-9D2F-9187172893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DD7835-1142-41C0-A592-B8A921516B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6DDCF4-869B-4A2E-A7E5-4426F7809A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23609C-6D10-4318-9493-3AA153A73B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E3E286-FF75-4689-B157-D189E3FE73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3CDE02-FE21-4A86-8CB9-1BC5CFB045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B1A811-036E-4E77-94A9-F16360CD8D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40750-D959-4108-B4C1-AFD106EA4E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9AB2C-4C0D-439A-A3A6-83838E5362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2BF87F-4170-47DA-A72C-81ECAA1BFA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208AEA-5B56-4EB5-8FBD-4289E2C488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ADAB5-551F-434F-83F8-F13CAC5AF3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68FAB3-A38B-489B-BD44-E3625245C5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723116-87C8-4DC4-9D5B-043E880E4B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65540-F0E7-48F4-8B56-E69DCB8DFC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127447-5682-4AA7-82F8-32B797D6F0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B3155B-AB27-4465-A8A4-5F56B8146B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449237-C129-4061-85B0-29870B1847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66C65F-9B2F-443A-9C6E-383082B6FA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D0FED9-83CD-493A-8398-A04E7AAB09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C6868-5460-4F96-B0DD-C78750BA14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1B3340-1106-4B13-B3CF-D4ECF562B6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942983-5352-45C5-B360-DECC625571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6DDBB5-676E-42CA-8577-2859CE4794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45AAC-9DAD-4431-AB9E-E3DB0EBA38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4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7520"/>
            <a:ext cx="10514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202A0-0DA4-49DF-93C9-A9FCA53A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752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5840" y="409752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3B254-C308-4DCE-A43F-0E593B59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080" y="182520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8440" y="182520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752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080" y="409752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8440" y="409752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8D885-B39C-4082-B720-D3402E08FF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F6358E-AECC-4446-A993-7261E25DA5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41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FFABF3-7D24-45DE-B0EE-A290C5F1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4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7D251E-39E8-461A-8E47-451CF72C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9485A0-4659-4787-8B34-87DC8B7C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00C9C5-C5FC-41BA-B71D-C20E97EEF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CCB2E9-AF27-472C-BD2A-1C20E9777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752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2405FE-2098-422A-80C7-DA12FFC0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41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E4635-933F-4AE6-933B-C8DE2956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5840" y="409752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C4AD4-25D3-4D33-939E-CBD7D6DD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7520"/>
            <a:ext cx="10514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6E50D3-BD8E-4AAA-93E7-298E08E3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4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7520"/>
            <a:ext cx="10514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38377-4E0F-4D61-BC30-CF3950B8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752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5840" y="409752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982062-15C1-460A-BDE8-4B8F5E79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080" y="182520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8440" y="182520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752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080" y="409752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8440" y="409752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768491-ED0A-4491-91B5-A6E68028D3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EDBE-CA84-4D66-A80E-055A13258D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41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B376-DB7B-4910-8F64-CADE29BA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4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D5BC-565E-49C5-BFF3-A0C15853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D686-A652-46F7-BAB2-770E4B7F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CC7F8-079E-41A7-88C3-1D7A5FD17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4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C09CB-A370-491E-9A4E-033E25D8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99A57-F84D-4820-B2CE-E170121B0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752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BDCD-D05A-4B82-8935-7B6CD2A2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5840" y="409752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0E6F4-B00F-4D82-919F-B389451F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7520"/>
            <a:ext cx="10514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9EA6-1ADA-4CB5-9BB8-3B2C9C78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4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7520"/>
            <a:ext cx="10514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D724-BB93-4679-8734-09C0EDC3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752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5840" y="409752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895F2-27CF-4C1B-A055-CD25D484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080" y="182520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8440" y="182520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752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080" y="409752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8440" y="409752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127C-2CE5-4FD0-A80E-1499378B18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F9D28-743B-4334-84D3-6588D42E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62194-94EE-4158-836D-6C33968A4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A2F96-D2FE-40F6-ADDA-C3F70D926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752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44046-3519-4081-B202-5893FD71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5840" y="409752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7F018-8B85-419B-9CBF-E87286F3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7520"/>
            <a:ext cx="10514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13669-72BD-490D-A2FC-D23DD9C1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4/8/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204AAE-4F7C-41A1-BB19-9071A33D0CD2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8920" bIns="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7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7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7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7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7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4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7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7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7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7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7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4/8/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987B77-43FD-4F02-8CEB-7F4A8ACF265A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7720" y="1825200"/>
            <a:ext cx="51800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7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7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7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7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7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5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4/8/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92D190-C76E-40CA-9655-B8A4C90F1399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836640"/>
            <a:ext cx="9252000" cy="267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6000"/>
            </a:b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Calibri Light"/>
              </a:rPr>
              <a:t>EPILEPSY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STATUS EPILEPTICUS 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uel Ngigi 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M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SEIZ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217080" indent="-215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st-ictal 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7080" indent="-215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phase may be absent, brief or may last several hours, and sometimes even d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7080" indent="-215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is usually a deep sleep and waking up with headache, tiredness, irritability, vomiting, confusion, muscular aches or atax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7080" indent="-215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ient limb weakness and altered speech may occu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7080" indent="-215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tered behaviour such as emotional outbursts and violent tendencies may also occu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7080" indent="-215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ddition, among children, there may be dullness, lethargy and lack of appet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AUSES/ RISK FACTORS FOR EPILEPS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818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fe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1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ningit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1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cephalit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1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V/A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1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rebral mala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1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xoplasm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1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cephalopath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1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brile illnes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171840" y="1825200"/>
            <a:ext cx="51814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etabol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yridoxine deficiency/depend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iemann-Pick dis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born errors of metabolism &amp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tochondrial dis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AUSES/ RISK FACTORS FOR EPILEPS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818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u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1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rth trau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1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d inju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ox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1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rth asphyx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ox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1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cohol and withdrawal from alcoh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1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bon monoxide poiso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1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ugs (high dose IV penicilli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171840" y="1825200"/>
            <a:ext cx="51814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d poiso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7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o-phosphorus insectic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7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iso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7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pace occupying le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7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mato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7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s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7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umo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7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uberculo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7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ysticerc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AUSES/ RISK FACTORS FOR EPILEPS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690560"/>
            <a:ext cx="518184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irculatory disturb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1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rebro-vascular accident (strok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1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genital/gene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1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lformations and developmen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1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ects of the brain (hydrocephalus,microcephaly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1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scular anoma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1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uberous sclerosi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171840" y="1690560"/>
            <a:ext cx="518148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urofibromatosis (von Recklinghausen disea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cephalo-trigeminal facial angiomatosis (eg Sturge-Weber Syndrom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generative condi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menti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oimmune disorders e.g. S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TRIGGERING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818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n-adherence to treatment (missed dos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opping treatment sudden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leep depriv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ute infe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ickering lights e.g. televisions, computers, disco lights e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cohol intake/withdraw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stance abuse/withdraw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171840" y="1825200"/>
            <a:ext cx="51814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rmonal imbalances (catamenial-seizur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hyd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rolyte imbalance like hyponatraem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otional St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yperventi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haus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ASS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three major ty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cal seiz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ized seiz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classified seiz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FOCAL SEIZ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originate in neural networks limited to one hemisphere that may be discrete or more diffuse and not necessarily confined to the cortex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can spread to other regions of the brain to become generalized with loss of conscious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cal seizures are commonly classified according to their clinical features i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uras, Motor, Autonomic and Dyscogn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FOCAL SEIZ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u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ras are subjective and may be sensory or experiential and reflect the initial seizure dischar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 Sensory a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ensory aura involves a sensation without an objective clinical sign and is dependent on the area of the brain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omatosensory aura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ngling, numbness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isual aura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sual halluc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uditory auras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zzing, ringing, dru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FOCAL SEIZ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lfactory auras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pleasant o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ustatory auras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idic, bitter, salty, sweet, or metallic tas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pigastric auras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omfort, emptiness, tightness, chu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ephalic auras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ghtheadedness or head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Experiential a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ffective auras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ar, depression, joy and ang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FOCAL SEIZ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llusory au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nemonic aura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memory phenomena such as feelings of familiarity and unfamiliar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allucinatory au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. Mo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tor features involve motor manifestations presenting as an increase (positive) or decrease (negative) in muscle con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ypermotor, hypomotor, at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DEFINITION OF TE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pilep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pilepsy is 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hronic brain disorde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ized by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peated unprovoked seizur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ccurring more than twice in a ye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isorder may arise from many and varied causes, however in many cases no specific cause can be identif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FOCAL SEIZ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 automatism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 coordinated, repetitive motor activity usually occurring when cognition is impa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o-alimenta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lip smacking, lip pursing, chewing, swallowing, clic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nual or ped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bilateral or unilateral distal or proximal movements, including fumbling, tapping, manipulating movements of hands or f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estur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often unilateral, fumbling or exploratory movements with the hand intended to lend emotional tone to commun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FOCAL SEIZ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elastic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rsts of laughter or giggling, usually without appropriate affective tone and described as 'mirthless'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ocal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repetitive sounds such as shrieks or gr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erbal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repetitive words, phrases or brief sent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crysti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outbursts of cr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utonomic featur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characterized by autonomic phenomena, which can involve cardiovascular, gastrointestinal, vasomotor, and thermoregulatory fun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GENERALIZED SEIZ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onic – Cl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ss of consciousness at the ons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the tonic pha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cessation of breathing occurs as all the muscles go into spasm and may be accompanied by a c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the clonic phas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ulsive movements are marked by alternate contraction and relaxation of the musc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ngue biting and/or incontinence of urine/stool may occ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regaining consciousness the patient is confused and may feel tired or have a headach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GENERALIZED SEIZ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onic Seiz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ss of conscious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dden stiffening of the extensor muscles and falling if sta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ient fixes the limbs in a strained pos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ngue biting may occ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ghtening of the jaw/clenching of tee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GENERALIZED SEIZ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onic Seiz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is a form of generalized seizures characterised by repeated rhythmic movements or je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yoclonic Seiz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consist of sudden brief muscle contractions that may occur singly or in cluster affecting any group of muscles unilaterally or bilateral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types of seizures may be repeated many times over a long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GENERALIZED SEIZ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210240" indent="-2088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ypical abs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0240" indent="-208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ly affect children in the school going age between 5 -15 yea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0240" indent="-208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manifest at onset with loss of consciousness, staring blankly with or without blinking or lip-smacking lasting for 5-10 seconds that may be mistaken for day dream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0240" indent="-208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may go into spontaneous remission during adolesc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0240" indent="-208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may co-exist with tonic-clonic seizures in the same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0240" indent="-2088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typical abs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0240" indent="-208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typical absence seizure has less abrupt onset and prolonged loss of consciousness of loss of awareness than typical absence seiz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GENERALIZED SEIZ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tonic Seizures (Drop Attack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seizures are characterised by sudden onset of muscle flaccidity involving the head,(head drop) trunk or limbs with postural collapse. This may result in facial and other injur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are very short, lasting only seconds and may occur several times in a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DIAGNOSIS AND INVESTIGATION OF EPILEPS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217080" indent="-215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ailed Seizure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7080" indent="-215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set, timing, frequency, trig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7080" indent="-215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rrent Episode- pre, ictal and post ictal p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7080" indent="-215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izure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7080" indent="-215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has been done until 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7080" indent="-215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natal, birth and post natal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7080" indent="-215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mental milest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7080" indent="-215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M/SH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7080" indent="-215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mily/social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7080" indent="-215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DIAGNOSIS AND INVESTIGATION OF EPILEPS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ysical exa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ral ex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tal 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full neurological examination should be do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ination of the cranial nerves and the motor system- symmetry of muscle power, muscle tone and tendon refle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ok for any signs of drug toxicity e.g. drowsiness, sleepiness, ataxia, nystagmus, and cerebellar dys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DIAGNOSIS AND INVESTIGATION OF EPILEPS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haem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um electrolytes (sodium, potassium, calcium and magnesiu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od su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od urea nit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ver Function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reening for infections (e.g. malaria, HI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rebrospinal fluid examination as long as there are no contra-indications for lumbar pun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DEFINITION OF TE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tamenial Seiz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izures occurring at specific times during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enstrual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ctive epileps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ing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wo or more unprovoked seizures, more than twenty four hours apart in one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reakthrough seiz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pileptic seizure that occurs despite adequate use of antiepileptic drugs . This is often as a result of changing drugs, another illness or other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DIAGNOSIS AND INVESTIGATION OF EPILEPS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T brain scan in acute deterioration or acute development of focal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ro-encephalogra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RI brain s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TREAT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210240" indent="-208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 treatment with one dru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0240" indent="-208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 treatment using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owest recommended dos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tible with the medication prepa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0240" indent="-208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dually adjust dosag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t two to six week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vals until complete seizure control or the maximum pharmacologically tolerated dose is reach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0240" indent="-208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s is the patient’s minimum maintenance do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0240" indent="-208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no seizure control is achieved after attaining the maximum dosage of the initial drug, a second drug should be added while considering gradually reducing or maintaining the initial drug depending on the clinical respon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TREAT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enobarb (60-90 mg/d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enytoin (200mg/d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bamazepine (400mg/d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votril (clonazepam) (1mg/d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motrigine (100mg/d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dium valproate (400-600mg/d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obaz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pa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nodeType="clickEffect" fill="hold">
                      <p:stCondLst>
                        <p:cond delay="indefinite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nodeType="clickEffect" fill="hold">
                      <p:stCondLst>
                        <p:cond delay="indefinite"/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STATUS EPILEPTIC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atus epileptic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ondition resulting either from the failure of the mechanisms responsible for seizure termination or from the initiation of mechanisms, which lead to abnormally, prolonged seiz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ulsive Status epilepticus is a common medical emergency and one of the most serious neurological emergencies associated with high mortality and morbid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characterized by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tinuous, convulsive seizures lasting more than 5 minutes or two or more seizures during which the patient does not return to baseline consciousne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nodeType="clickEffect" fill="hold">
                      <p:stCondLst>
                        <p:cond delay="indefinite"/>
                      </p:stCondLst>
                      <p:childTnLst>
                        <p:par>
                          <p:cTn id="1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ANAGEMENT OF STATUS EPILEPTIC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irway, Breathing and Circulatio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uld be managed as per standard emergency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lucose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hypoglycaemia is confirmed or suspected, administer 2-5 mls/kg of 10% dextrose intravenously with thiam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azep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minister 0.3mg/kg of diazepam intravenously over an approximate rate of 1mg/min, until seizures stop or 10m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may be repeated after 10 minutes if the seizures per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nodeType="clickEffect" fill="hold">
                      <p:stCondLst>
                        <p:cond delay="indefinite"/>
                      </p:stCondLst>
                      <p:childTnLst>
                        <p:par>
                          <p:cTn id="1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nodeType="clickEffect" fill="hold">
                      <p:stCondLst>
                        <p:cond delay="indefinite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ANAGEMENT OF STATUS EPILEPTIC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intravenous access is difficult, diazepam may be given rectally via a catheter or syringe at a dose of 0.5 mg/kg or using diazepam rectal tub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.B. Do not give diazepam intramuscular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he seizures persist 20 minutes after administration of the second dose of diazepam, consider using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henobarbital or phenyto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henyto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minister a loading dose of phenytoin intravenously a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15-18 mg/kg over a period of 30 minutes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exceeding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,000 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5" dur="indefinite" restart="never" nodeType="tmRoot">
          <p:childTnLst>
            <p:seq>
              <p:cTn id="1286" dur="indefinite" nodeType="mainSeq">
                <p:childTnLst>
                  <p:par>
                    <p:cTn id="1287" nodeType="clickEffect" fill="hold">
                      <p:stCondLst>
                        <p:cond delay="indefinite"/>
                      </p:stCondLst>
                      <p:childTnLst>
                        <p:par>
                          <p:cTn id="1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nodeType="clickEffect" fill="hold">
                      <p:stCondLst>
                        <p:cond delay="indefinite"/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nodeType="clickEffect" fill="hold">
                      <p:stCondLst>
                        <p:cond delay="indefinite"/>
                      </p:stCondLst>
                      <p:childTnLst>
                        <p:par>
                          <p:cTn id="1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nodeType="clickEffect" fill="hold">
                      <p:stCondLst>
                        <p:cond delay="indefinite"/>
                      </p:stCondLst>
                      <p:childTnLst>
                        <p:par>
                          <p:cTn id="1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ANAGEMENT OF STATUS EPILEPTIC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23920" indent="-222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.B. Dextrose solutions may cause precipitation of phenytoin; therefore avoid administering phenytoin using the same IV line used for dextrose based maintenance flui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3920" indent="-222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o not give phenytoin intramuscularly or in dextrose containing flu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3920" indent="-222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henobarbi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3920" indent="-222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 mg/kg as a loading dose IM or slow IV infusion (when given IV, closely monitor the pulse, respiration and blood press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3920" indent="-222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o not use phenobarbitone or phenytoin for patients with epilepsy who are currently using either drug as part of their epilepsy treat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3920" indent="-222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nodeType="clickEffect" fill="hold">
                      <p:stCondLst>
                        <p:cond delay="indefinite"/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nodeType="clickEffect" fill="hold">
                      <p:stCondLst>
                        <p:cond delay="indefinite"/>
                      </p:stCondLst>
                      <p:childTnLst>
                        <p:par>
                          <p:cTn id="1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nodeType="clickEffect" fill="hold">
                      <p:stCondLst>
                        <p:cond delay="indefinite"/>
                      </p:stCondLst>
                      <p:childTnLst>
                        <p:par>
                          <p:cTn id="1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nodeType="clickEffect" fill="hold">
                      <p:stCondLst>
                        <p:cond delay="indefinite"/>
                      </p:stCondLst>
                      <p:childTnLst>
                        <p:par>
                          <p:cTn id="1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ANAGEMENT OF STATUS EPILEPTIC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intenance d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the loading dose is given, continue with the maintenance dose of the drug us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henytoin will be administered at 2.5mg/kg twice a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henobarbital at 3-5 mg/kg once a d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he patient is able to tolerate oral medication, provide the maintenance or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9" dur="indefinite" restart="never" nodeType="tmRoot">
          <p:childTnLst>
            <p:seq>
              <p:cTn id="1350" dur="indefinite" nodeType="mainSeq">
                <p:childTnLst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nodeType="clickEffect" fill="hold">
                      <p:stCondLst>
                        <p:cond delay="indefinite"/>
                      </p:stCondLst>
                      <p:childTnLst>
                        <p:par>
                          <p:cTn id="1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nodeType="clickEffect" fill="hold">
                      <p:stCondLst>
                        <p:cond delay="indefinite"/>
                      </p:stCondLst>
                      <p:childTnLst>
                        <p:par>
                          <p:cTn id="1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nodeType="clickEffect" fill="hold">
                      <p:stCondLst>
                        <p:cond delay="indefinite"/>
                      </p:stCondLst>
                      <p:childTnLst>
                        <p:par>
                          <p:cTn id="1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ANAGEMENT OF STATUS EPILEPTIC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B: If the seizures are refractory to second line treatment, consider use of continuous infusion of a benzodiazepine such a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idazola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use of anaesthetic agents lik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open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1" dur="indefinite" restart="never" nodeType="tmRoot">
          <p:childTnLst>
            <p:seq>
              <p:cTn id="1382" dur="indefinite" nodeType="mainSeq">
                <p:childTnLst>
                  <p:par>
                    <p:cTn id="1383" nodeType="clickEffect" fill="hold">
                      <p:stCondLst>
                        <p:cond delay="indefinite"/>
                      </p:stCondLst>
                      <p:childTnLst>
                        <p:par>
                          <p:cTn id="1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1960" y="1709280"/>
            <a:ext cx="10515600" cy="285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End of Presentat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1960" y="4589280"/>
            <a:ext cx="105156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DEFINITION OF TE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oni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hythmic jerking involving a part of the body (usually a li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emiclon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hythmic jerking involving only one side of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d muscle tone, usually lasting for seconds to minu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ASE HI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20 year old college student reports episodes of jerking of her angle of the mouth lasting for 5-10minutes which comes and goes on average twice a month, without loss of consciousness since she was 18 years old. She was born at full term a normal pregnancy and delive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e has had febrile convulsions from the  age of 18 months up to the age of 3 years some which were prolong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vertheless she had normal development and has been doing well with her studies. Examination was normal in all syst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QUES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 this young woman suffer from epileps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type of seizure does she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the classification of her seizu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in one of the episode the facial twiching is followed by generalized stretching, flinging of the all limbs and grunting. How will you classify her now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DEFINITION OF TE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838080" y="1413000"/>
            <a:ext cx="10515600" cy="47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pileptic spa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dden flexion, extension or mixed flexion-extension of proximal and truncal muscles, lasting 1-2 seconds, typically occurs in a se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yst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stained contractions of both agonist and antagonist muscles producing twisting movements, may produce abnormal pos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yocl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ingle or short cluster of brief muscle contractions (jerks). Each jerk is typically milliseconds in du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SEIZ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iz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eizure is a transient occurrence of signs and/or symptoms due to abnormal excessive or synchronous neuronal activity in the bra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eizure therefore represents the physical manifestations of this abnormal uncontrolled electrical activity of the brain cortex which is usually self -limi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izure manifestations are dependent on the site of the excessive neuronal discharge and may b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otor, sensory, psychic and/or autonom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SEIZ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dromal 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phase begins a few minutes to hours or even days before the actual seizure and should not be confused with the aur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romal symptoms occur in up to 40% of subjects and may include headache, irritability, insomnia, bad temper, depression or increased ac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SEIZ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838080" y="1413000"/>
            <a:ext cx="10515600" cy="47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205560" indent="-204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-2041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ura precedes the clinically apparent seizure by seconds or a few minutes. It is the beginning of the seizure and signals the focal onset of the seiz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-2041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ymptoms depend on the location of this foc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-2041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eelings of the aura are often vague and indescribable, and may lead to extreme anxiety or fe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-2041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ange Epigastric sensations, dreamlike experiences, unpleasant smells, etc. may occu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-2041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atient remembers the aura very well, and although he/she will not always be able to recount it, he/she can affirm the presence of it, as it happens before consciousness is l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SEIZ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207720" indent="-206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izure (ict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7720" indent="-206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seizures where there is loss of consciousness, the patient is unable to give any information about the actual ict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7720" indent="-206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get the description of the ictus we have to depend on the account of the witnesses who have seen the actual seizure since the patient has no memory of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7720" indent="-206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ortant characteristics to note include th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e of seiz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ration of seiz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equency of seiz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me of occurrence of the seizure and its relation to sl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25T23:10:36Z</dcterms:created>
  <dc:creator>Jebet</dc:creator>
  <dc:description/>
  <dc:language>en-US</dc:language>
  <cp:lastModifiedBy>sammiehngigs kiurire</cp:lastModifiedBy>
  <dcterms:modified xsi:type="dcterms:W3CDTF">2020-11-09T08:43:42Z</dcterms:modified>
  <cp:revision>78</cp:revision>
  <dc:subject/>
  <dc:title>MEDICAL EMERGENC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Widescreen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40</vt:r8>
  </property>
</Properties>
</file>