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0EBC-C203-4537-AF29-CB7F1D2F7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diseases and cancer are 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eading causes of death in the 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diseases is 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eading cause of mortality in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683F-8016-49A2-8068-A0B53EA81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2222"/>
                </a:solidFill>
                <a:latin typeface="Arial"/>
              </a:rPr>
              <a:t>Atrial fibrillation</a:t>
            </a: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 is an irregular and often rapid heart rate that occurs when the two upper chambers of your heart experience chaotic electrical signals. The result is a fast and irregular heart rhythm. The heart rate in </a:t>
            </a:r>
            <a:r>
              <a:rPr b="1" lang="en-US" sz="1200" spc="-1" strike="noStrike">
                <a:solidFill>
                  <a:srgbClr val="222222"/>
                </a:solidFill>
                <a:latin typeface="Arial"/>
              </a:rPr>
              <a:t>atrial fibrillation</a:t>
            </a: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 may range from 100 to 175 beats a min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6820-97CD-481F-8539-DC40EFBF4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fontCogLatoBold"/>
              </a:rPr>
              <a:t>Spatial perception is the ability to be aware of your relationships with the environment around you (exteroceptive processes) and with yourself (interoceptive proce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1E8F-815A-4D4A-914A-390B4344D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5156"/>
                </a:solidFill>
                <a:latin typeface="Arial"/>
              </a:rPr>
              <a:t>The partial thromboplastin time (</a:t>
            </a:r>
            <a:r>
              <a:rPr b="1" lang="en-US" sz="1200" spc="-1" strike="noStrike">
                <a:solidFill>
                  <a:srgbClr val="5f6368"/>
                </a:solidFill>
                <a:latin typeface="Arial"/>
              </a:rPr>
              <a:t>PTT</a:t>
            </a:r>
            <a:r>
              <a:rPr b="0" lang="en-US" sz="1200" spc="-1" strike="noStrike">
                <a:solidFill>
                  <a:srgbClr val="4d5156"/>
                </a:solidFill>
                <a:latin typeface="Arial"/>
              </a:rPr>
              <a:t>; also known as activated partial thromboplastin time (aPTT)) is a screening test that helps evaluate a person's ability to appropriately form blood clots. It measures the number of seconds it takes for a clot to form in a sample of blood after substances (reagents) are ad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2222"/>
                </a:solidFill>
                <a:latin typeface="Arial"/>
              </a:rPr>
              <a:t>normal PTT</a:t>
            </a: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 is between 25 to 35. </a:t>
            </a:r>
            <a:r>
              <a:rPr b="1" lang="en-US" sz="1200" spc="-1" strike="noStrike">
                <a:solidFill>
                  <a:srgbClr val="222222"/>
                </a:solidFill>
                <a:latin typeface="Arial"/>
              </a:rPr>
              <a:t>PTT ranges</a:t>
            </a: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 are used to classify heparin dosing schemes as low or high intensity and to ensure effective do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The international normalised ratio (</a:t>
            </a:r>
            <a:r>
              <a:rPr b="1" lang="en-US" sz="1200" spc="-1" strike="noStrike">
                <a:solidFill>
                  <a:srgbClr val="222222"/>
                </a:solidFill>
                <a:latin typeface="Arial"/>
              </a:rPr>
              <a:t>INR</a:t>
            </a: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) is a laboratory measurement of how long it takes blood to form a clot. It is used to determine the effects of oral anticoagulants on the clotting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An </a:t>
            </a:r>
            <a:r>
              <a:rPr b="1" lang="en-US" sz="1200" spc="-1" strike="noStrike">
                <a:solidFill>
                  <a:srgbClr val="222222"/>
                </a:solidFill>
                <a:latin typeface="Arial"/>
              </a:rPr>
              <a:t>INR range</a:t>
            </a: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 of 2.0 to 3.0 is generally an effective therapeutic </a:t>
            </a:r>
            <a:r>
              <a:rPr b="1" lang="en-US" sz="1200" spc="-1" strike="noStrike">
                <a:solidFill>
                  <a:srgbClr val="222222"/>
                </a:solidFill>
                <a:latin typeface="Arial"/>
              </a:rPr>
              <a:t>range</a:t>
            </a: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 for people taking warfarin for disorders such as atrial fibrillation or a blood clot in the leg or lu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9472-2B53-477A-BA9B-E58CFE4A1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8E2-ECFD-4448-ACB4-052506E2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2399-B58C-4863-85D9-61D60232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0D41-A656-482F-958C-98382EB2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992-3348-4C6E-B31F-DC83728A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C843-E71E-41B5-96A7-219219AF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75E8-7371-41BE-8671-9795DFFB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4B0E-DE53-48F0-8382-B9C54BC9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FB5E-30AC-4098-BE67-36BDA34F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D8EB-8D78-47F3-A7A3-BC0090B2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AE25-BD70-4577-9136-426E5A9F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85B5-C3C6-416D-B5CB-5FE984C6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E17-ADBF-4194-8238-549FB216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DBC8-9AA5-4212-94BC-2C22591C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30ED-DEA4-41AD-AACC-672A2237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6376-89D7-47A4-95BE-7EF99641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B1B4-7806-45D0-8AEC-FC9F15D9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D98F-5B0A-41D9-9074-072E0F45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D37A-FA13-4433-B87B-AA0A97FA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DD9-7F12-433A-A9BE-CC33A94C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3AB7-A103-472B-B835-7A8248D7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D0B-0DB0-45EF-B1B6-1888332F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950-5652-4A02-871E-49A9276E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A2B-2742-4080-A454-2620A123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4DA-A19F-409E-9A69-0AF91D7F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3AB5-7A76-4208-8033-2E1BABA022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C6F6-6095-4069-B2E1-0EF74CD520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REBROVASCULAR ACCIDENT/BRAIN AT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34290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UEL NGIGI 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M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384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ology:Cerebral cir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utore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BF constant at 50ml/100g brain/minute mean of 60 to 160mmh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alues &lt;16 to 18 mL/100 g tissue per min cause infarction within an hou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bove increases CB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elow  ischaemia and later on infar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so know as stroke and brain attacks, is a sudden loss of neurological function caused by an interruption of blood flow to the brai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t is a non-traumatic brain injury caused by occlusion or rupture of cerebral blood vessels that results in sudden neurological deficit characterized by  loss of motor contr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rd leading cause of death in the 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ldwide 2nd leading cause of mort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ke incidence has been declining world w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ed States African Americans twice the risk of dying from stroke than the Wh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 –modif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(women more likely to di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ce (African Americ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edity/ Family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ifiable risk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ertens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s stroke risk 3 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lerates atheroscle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strokes occur i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hypertension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rderline hyper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tion in blood pressure -50% RR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relative risk reduction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stro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ifiable risk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ymptomatic carotid sten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betes mellit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rt disease, atrial fibrill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vy alcohol consump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ercoagulabi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erlipidem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ifiable risk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er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e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l contraceptive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ina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ckle cell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o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0% increase in the risk of stro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rses health study showed reduction after quit smo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iology and Pathophys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in requires continuous supply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glucose for neurons to fun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blood flow is interrupted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urologic metabolism is altered in 30 sec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abolism stops in 2 min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 death occurs in 5 min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herosclerosis is a major cause of stro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lead to thrombus formation and contribute to emboli 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s for Atheroscler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7" descr="Fig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ient Ischemic At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orary focal loss of neurologic function caused by ischemia (analogous to angin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resolve within 3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due to micro-emboli that temporarily block blood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warning sign of progressive cerebrovascular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% of risk of stroke within 3mo but highest risk is within the first 2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ai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An adult brain weighs between 1.35 and 1.4 kilograms (k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volume of about 1200 cm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Brain size is not directly correlated with intellige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t is not the physical size of the brain tha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etermines intelligence—it is the number of active synaps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15-</a:t>
            </a:r>
            <a:fld id="{4C590DC3-5EB1-4825-AA2F-61BCA8D47DA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ient Ischemic At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the core area of ischemia is a border zone of reduced blood flow where ischemia is potentially reversi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dequate blood flow can be restored early (&lt;3 hours) and the ischemic cascade can be interrup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brain damage and less neurologic function loss can be achie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Stro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ication based on underlying pathophysiologic find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chem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ombo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bo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morrhag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Types of Stro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Fig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chemic Stro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 of inadequate blood flow to brain due to partial or complete occlusion of an art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itute 85% of all strok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patients with ischemic stroke do not have a decreased level of consciousness in the first 24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ptoms often worsen during first 72 hours due to cerebral ed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chemic Stro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" y="1294920"/>
            <a:ext cx="86868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mbotic stro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mbosis occurs in relation to injury to a blood vessel wal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od cl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of thrombosis or narrowing of the blood ves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ommon cause of stro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mbotic stro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-thirds are associated with HTN and diabe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preceded by a T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chemic Stro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41732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bolic stro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bolus lodges in and occludes a cerebral art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s in infarction and edema of the area supplied by the ves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most common cause of stro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ity of emboli originate in the heart, with plaque breaking off from the endocardium and entering circul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chemic Stro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bolic stro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ociated with sudden, rapid occurrence of severe clinical symp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 usually remains conscious although may have a headach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urrence is common unless the underlying cause is aggressively treat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morrhagic Stro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unt for approximately 15% of all strok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 from bleeding into the brain tissue itself or into the subarachnoid space or ventri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morrhagic Stro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racerebral hemorrh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leeding within the brain caused by a rupture of a vess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ypertension is the most important ca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monly occurs during activ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morrhagic Stro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acerebral hemorrh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Often a sudden onset of symptoms that  progress over minutes to hours because of ongoing bleed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ifestations include neurologic deficits, headache, decreased levels of consciousness, and HT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15_01aa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morrhagic Stro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arachnoid hemorrh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eeding into cerebrospinal space between the arachnoid and pia m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ly caused by rupture of a cerebral aneurys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nical Manifestations of Strok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s many body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or 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llectual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atial-perceptual alt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on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f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s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Motor Functio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bvious effect of stro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include impairment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bil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iratory 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allowing and spe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f-care abil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Motor Functio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acteristic motor deficits (contra-latera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ss of skilled voluntary mo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airment of integration of mov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terations in muscle tone (flacci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spasti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terations in reflexes (hypo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hyp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Communication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 may experience aphasia when stroke damages the dominant hemisphere of the b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hasia: total loss of comprehension and use of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ysphasia: difficulty with comprehension and use of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Communication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sarthr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22"/>
                </a:solidFill>
                <a:latin typeface="Arial"/>
              </a:rPr>
              <a:t>is a motor speech disorder in which the muscles that are used to produce speech are damaged, paralyzed, or weaken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22"/>
                </a:solidFill>
                <a:latin typeface="Arial"/>
              </a:rPr>
              <a:t>The person with </a:t>
            </a:r>
            <a:r>
              <a:rPr b="1" lang="en-US" sz="2800" spc="-1" strike="noStrike">
                <a:solidFill>
                  <a:srgbClr val="222222"/>
                </a:solidFill>
                <a:latin typeface="Arial"/>
              </a:rPr>
              <a:t>dysarthria</a:t>
            </a:r>
            <a:r>
              <a:rPr b="0" lang="en-US" sz="2800" spc="-1" strike="noStrike">
                <a:solidFill>
                  <a:srgbClr val="222222"/>
                </a:solidFill>
                <a:latin typeface="Arial"/>
              </a:rPr>
              <a:t> cannot control his or her tongue, larynx, vocal cords, and surrounding muscles, which makes it difficult for the person to form and pronounce w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ffect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 is feeling or e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have difficulty controlling their emo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otional responses may be exaggerated or unpredict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ression , impaired body image and loss of function can make this wo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frustrated by mobility and communication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Intellectual Function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ory and judgment may be impa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ft-brain stroke: more likely to result in memory problems related to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ifestations of Right-Brain and Left-Brain Stroke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543800" y="6400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g. 56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7" descr="Fi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Spatial-Perceptual Alterations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ke on the right side of the brain is more likely to cause problems in spatial-perceptual 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 this may occur with left-brain stroke as w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15_01ba"/>
          <p:cNvPicPr/>
          <p:nvPr/>
        </p:nvPicPr>
        <p:blipFill>
          <a:blip r:embed="rId1"/>
          <a:stretch/>
        </p:blipFill>
        <p:spPr>
          <a:xfrm>
            <a:off x="304920" y="1616040"/>
            <a:ext cx="8686800" cy="5089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Spatial-Perceptual Alterations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41768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tial-perceptual problems may be divided into four categ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371600" indent="-5713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rrect perception of self and illness (may deny illness or body par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71600" indent="-5713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neous perception of self in space (e.g., neglect all input from affected side; distance judgem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71600" indent="-57132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bility to recognize an object by sight, touch, or hea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71600" indent="-57132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bility to carry out learned sequential movements on com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T is the primary diagnostic test used after a stro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tests may include, urinalysis, blood glucose level, full hemogram, blood chemistry, blood cholesterol and lipid profile, thyroid function test, cardiac evaluation and lumbar punc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Preven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ucation and management of modifiable risk factors to prevent a strok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e management of patients with known risk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Prevention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platelet drugs (usually Aspirin) to prevent stroke in those with history of T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gical interventions for those with TIAs from carotid disease e.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acranial-intracranial byp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cute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ment fin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ered level of consciousness; G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kness, numbness, or paralys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ch or visual disturb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head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↑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r ↓ heart r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spiratory dist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nequal pupi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cute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 fin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ial drooping on affected 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iculty swa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iz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dder or bowel incontine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usea and vom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cute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ventions – Initial: AB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sure patient airway is cl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den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 pulse oximet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adequate oxygen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V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intain BP according to guide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treat if SBP &gt; 220 or MAP &gt; 13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P =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BP + 2 (DB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              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cute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entions – Init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mediate CT scan to determine cause (ischemic vs hemorrhag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s to control I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d &amp; neck in alignment (avoid flex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levate head of bed 30 </a:t>
            </a:r>
            <a:r>
              <a:rPr b="0" lang="en-US" sz="24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if no symptoms of shock or inju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ain management, diuretics if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cute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ventions – Initi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itute seizure preca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hyperthermia (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↑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rebral metabol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cipate thrombolytic/fibrinolytic therapy for ischemic strok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cute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990720"/>
            <a:ext cx="85341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ediate goal is to optimize cerebral perfusion in the surrounding ischemic penum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venting the common complications of bedridden pts—infections (pneumonia, urinary tract, and skin) and DVT and P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P should be lowered if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there is malignant hypertension(220/120mmH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15_01ca"/>
          <p:cNvPicPr/>
          <p:nvPr/>
        </p:nvPicPr>
        <p:blipFill>
          <a:blip r:embed="rId1"/>
          <a:stretch/>
        </p:blipFill>
        <p:spPr>
          <a:xfrm>
            <a:off x="152280" y="237960"/>
            <a:ext cx="8763120" cy="593424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537A-A688-46B7-8E6D-67D797934E0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cute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ver is detrimental and should be treated with antipyretic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um glucose should be monitored and kept at &lt;11.1 mmol/L (200 mg/d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ema peaks on the second or third day but can cause mass effect for ~10 day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restriction and intravenous mannitol may be used to prevent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cute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mbolytic/fibrinolytic therapy with recombinant tissue plasminogen activator (tPA) is used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establish blood flow and prevent cell death in patients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schem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rok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cute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mbolytic/fibrinolytic therapy given within 3 hours of the onset of sympto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 ischemic strokes (24 hr after tP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plate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coagulants (Heparin, coumad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maintain therapeutic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TT, IN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cute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ventions – Ongo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 vital signs and neurologic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 of conscious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or and sensory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pil size and reactiv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atu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diac rhythm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cute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pproximately 10-15% of patients who experience a stroke will have seizures, usually within 24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urgical interven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mmediate evacuation of hematomas that result from hemorrhagic stro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lip or wrap aneurysm to prevent rebl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Rehabilitation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the stroke has stabilized for 12-24 hours, collaborative care shifts from preserving life to lessening disability and attaining optimal functi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read contraindications of thrombolytic 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End of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15_05a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53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15_06a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609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15_11"/>
          <p:cNvPicPr/>
          <p:nvPr/>
        </p:nvPicPr>
        <p:blipFill>
          <a:blip r:embed="rId1"/>
          <a:stretch/>
        </p:blipFill>
        <p:spPr>
          <a:xfrm>
            <a:off x="152280" y="228600"/>
            <a:ext cx="8686800" cy="6629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5_12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324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01:08:34Z</dcterms:created>
  <dc:creator>Amayo Erastus</dc:creator>
  <dc:description/>
  <dc:language>en-US</dc:language>
  <cp:lastModifiedBy>sammiehngigs kiurire</cp:lastModifiedBy>
  <dcterms:modified xsi:type="dcterms:W3CDTF">2020-09-24T11:00:55Z</dcterms:modified>
  <cp:revision>82</cp:revision>
  <dc:subject/>
  <dc:title>Cerebrovascular Diseases</dc:title>
</cp:coreProperties>
</file>