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F58-A0EB-45B3-9CE4-A0BA5B400F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75F-523D-41B6-A10B-F456F2D51A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Guardian TextSans Web"/>
              </a:rPr>
              <a:t>Thiamine should be administered prior to a glucose load because cases of Wernicke encephalopathy have been reported after glucose administration in thiamine-deficient pat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4A86-E5E3-45F4-AAA8-5C869577CC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7B6-B9BE-4B3E-8AB5-686FAFEAE0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D47F-A59D-4A47-8DE5-65CBA236FC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7C1-5FDB-4217-94D7-6845DD40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80A-3C1B-4586-9ED8-0ED43663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0A7-8F41-49C0-B405-37A3DDDB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749-FEBF-469A-BA6E-F585866B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973F-91EA-4749-A86B-6EE3243B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CA6B-B9AB-499A-B194-1E30711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701B-A780-44CF-8A33-89AA86D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ECBA-F7E8-4DE3-9136-8AB1ABD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F48-989F-42A9-8091-3A03CAC8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F34-A00D-4F81-91AF-34E7B69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837-6D76-4A30-8947-4F9911A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DA4-F920-456A-BD25-100D7A49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E16-7CCC-4797-871B-B9DE694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CE33-9DE5-48BF-AD47-70A947D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BC55-41EC-4EB0-9F6A-B7290C1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54C4-4373-4436-8C47-C9C3AF7E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3687-73CE-46D3-ACF3-8BE9A403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B72-D9FE-4087-A16E-A1A6AF48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6E7-0540-4924-95CB-851E7AB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6F5-AB33-4DD9-950B-E9D3940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4D2-5F5B-48C9-9FB5-B84EC69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25D-1072-4867-8C8F-9B7FD15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0F3-DC37-4283-A8B9-EF0A3293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830-8DFC-4C20-B32D-9ADD236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669-7280-46AA-A420-20C0A937C14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8EB-BA58-4989-B850-50B23B43497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UNCONSIOUS PATI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N. KIU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TC LE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179280" y="0"/>
            <a:ext cx="8785440" cy="64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S OF 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ea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ypoxia/anoxia Cardiorespiratory arrest, cerebral ischaem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ingitis, encephalitis, cerebral malaria, abs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 Subarachnoid haemorrhage, subdural haemato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dural haematoma, cerebral haemorrhage, cerebral infar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bolic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ic ketoacidosis, Hyperosmolar Hyperglycemic State (HHS), hypoglycaem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-/hyponatraemia, hypo-/hyperthermia, hypercalc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0" y="765000"/>
            <a:ext cx="87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fail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patic encephalopathy,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crin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roid storm, myxoedema coma, adrenal insu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lcohols, opiates, cocaine, carbon monoxide, benzodiazep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epressants, barbi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rainst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dural haemorrhage, extradural haemorrhage, intracran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emorrhage, ischaemia with oedema, infection with oedema, trauma with o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Cs of resuscitation are pertin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way must be kept open with positioning or even endotracheal intub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thing and adequate air exchange can be assessed by auscultation; hand bag respiratory assistance with oxygen may b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culation must be ensured by assessing pulse and blood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IV line, Pulse oxy., oxygen supp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ravenous line is always necessa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luids, plasma, or blood may be required in cases of hypo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Rapid neurological assessment: level of consciousness, pupi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Lab wor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Empirical medical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Specific treatmen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Diagnost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50920" y="1341360"/>
            <a:ext cx="813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a comatose patient requires examination of four syst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tor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pils and fun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lar mov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espiratory patter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ask i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ther the etiology of coma is due to metabolic-toxic causes or structural da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b work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BS/ fingerstick for glucose (hypoglycem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BC,ESR, electrolytes, Calcium, BGA, LFT’s, serum and urine tox screen, blood cultures if febr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piric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xtrose (1 amp = 25 grams IV pus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amine 100 mg I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fic treatmen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Hypogly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Status epilept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Hea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Subarachenoi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5480" y="1371240"/>
            <a:ext cx="76532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agnostic Tes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t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occupying l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anothochromia 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yellowish appearance of cerebrospinal fluid that occurs several hours after bleeding into the subarachnoid space caused by certain medical conditions, most commonly subarachnoid hemorrhage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infar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ectroencephal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Hypoglycemia: serum glucose level &lt; 50 mg/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Causes of hypoglycemia are varied, but it is seen most often in diabetic pati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Initial Mx: 50 mL of 50% dextrose IV bolu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epilepti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any continuing type of seizu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defini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inutes of continuous seizure activity or a series of seizures without return to full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Dextrose, Thi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of the unconscious patient is never an easy task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 of the comatose patient is made difficult because of the many and varied causes as well as the limited time available for appropriate diagnosis and therapeutic judg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Lorazep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: 4 mg IV slowly at 2 mg/min; if seizure continues or recurs after 10-15 min, administer an additional 4 mg IV slowly at 2 mg/m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and children: 0.1 mg/kg IV slowly over 2-5 min; repeat prn in 10-15 min at 0.05 mg/kg; not to exceed 4 mg/d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Diaze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: 5-10 mg IV q10-20min; repeat in 2-4 h prn; not to exceed 30 mg/8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:0.05-0.3 mg/kg/dose IV over 2-3 min q15-30min; repeat in 2-4 h prn; not to exceed 10 m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Phenytoi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dult and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ose: 18mg/kg IV; hypotension may necessitate slowing administration rate; rate not to exceed 50 mg/min (hypotension and arrhythmias can otherwise occur); if status persists, may increase to total of 30 mg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Phenoba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: Loading dose: 18 mg/kg IV; maximum infusion rate of 100 mg/m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: Loading dose: 18 mg/kg over 10-15 min I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the GCS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417680"/>
            <a:ext cx="8496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 year old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 by shopkeeper when opening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p sleeping in shop doorway, w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ed to move on seemed a bit confus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me progressively more drowsy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used to move from doorway so ambulance cal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called to assess him in A&amp;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your thoughts and how will you proceed in manag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CDE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 G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PU is an alternative quick assessment in triage or an emerg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-al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-responds to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- responds to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-un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gluc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&amp;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sweet drink, glucose infusion or gluca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T would probably depend on response to treat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way pro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ing pressure 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ing neck and limbs from in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vent com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ary brain in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ocomial inf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 and mouth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T/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2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3 year old man, h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en found at bottom of flight of stairs in 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s blood on the back of his head, and the ambulance crew have said that there was some blood coming from his left ear when they arrived at the sce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unilateral fixed dilated pupi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going 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719360"/>
            <a:ext cx="8713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ome situations delay of a few hrs would result in irreversible neuronal dam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nical and investigatory approach should therefore be preci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ve laboratory tests giving indirect information should best be avoided in order to sav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eep is unconsciousness from which the person can be aroused by sensory or other stimul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unconsciousness from which the person cannot be arous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onsciousness Is Dependent on an Intact Ascending Reticular Activating System (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atory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t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icular substance of the upper mid-pons and mesencepha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ibitory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t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icular substance of the lower mid-pons and med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 u="sng">
                <a:solidFill>
                  <a:srgbClr val="7e9ce8"/>
                </a:solidFill>
                <a:uFillTx/>
                <a:latin typeface="Arial"/>
              </a:rPr>
              <a:t>RAS</a:t>
            </a: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howimage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4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 of the level of Conscious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ates of Altered Conscious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GC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ahoma"/>
              </a:rPr>
              <a:t>States of Altered Consciousnes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4000" y="2174760"/>
            <a:ext cx="8820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scription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thargy            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igued with minimal difficult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ing aler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tunded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reduction in alertness wi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d interest in environment,        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ve to stimuli other than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upor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sponsiveness with arousal only to       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orous/painful stimulus, return t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sponsiveness with removal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mul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lasgow Coma Scale 3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2190600"/>
            <a:ext cx="40194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ye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verb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ntaneo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 Verb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pp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orien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876920" y="2781360"/>
            <a:ext cx="426708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 Moto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or Pos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draw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21:57:39Z</dcterms:created>
  <dc:creator>Brukernavn</dc:creator>
  <dc:description/>
  <dc:language>en-US</dc:language>
  <cp:lastModifiedBy>sammiehngigs kiurire</cp:lastModifiedBy>
  <dcterms:modified xsi:type="dcterms:W3CDTF">2021-11-02T12:21:11Z</dcterms:modified>
  <cp:revision>241</cp:revision>
  <dc:subject/>
  <dc:title>Lysbilde 1</dc:title>
</cp:coreProperties>
</file>