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872F-B5BF-4391-9E5F-B5FB7F344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2074-9F13-459E-8848-C5ADD9DFF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5578-6D9C-484A-9A34-A8AA06A9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3B0-F142-4DC7-B024-2783529D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F40-7ABA-4731-A72D-4D8B7C37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079-7894-41A3-90E6-F4F8447E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A25-FC98-4069-9545-8732E5F4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8117-225C-44E2-8DC0-1EBE4CC2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F91-7C03-4DAD-AD9C-60ED3F68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1F1F-8837-4776-9E9C-C6641B4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92B8-DF91-46B3-80AD-330C0A36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71C2-ECF2-42A4-ADE5-C5C914F4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5A49-17D8-4B11-B844-D42FB39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96E-4237-45F7-9F6D-6FC5EC5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CE9-19A4-4AFF-86A0-53D58A5A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9B48-B4F3-49D9-8C6B-CB46BB3A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0F74-A678-410D-8BC0-42552C9B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607-C73F-49F2-95F4-FE9CD1C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30CB-F0FF-4567-BD8E-3AACDD2F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C2EF-4E07-4554-A5C0-7A6A1558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441C-2B68-49B4-82C2-89C30B3A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2054-2AD7-4608-B1CC-4685311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0649-F003-48BE-ABD5-D7FC6ABE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75A6-DBC2-47F6-9F17-3C277624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3884-999B-4BC4-A82F-A87C195D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2E4-A4E9-41D8-BCA0-FFD63E3C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D230-D0D1-48F8-B19D-1510D1CD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5D89-D769-450D-8A31-CD2AFDC2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42F2-875C-4A50-9A11-678CF0E4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E0A2-1065-4465-B8D5-DD244ED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FF54-4BD9-42E0-A3E7-85579B6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E82A9-6653-451A-A442-A6A9AC16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90A4-453A-4DBF-9492-54C83FE8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EA8F-A3DC-445A-BA6A-75731389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724E-7E45-4851-807F-37D0E9B9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EBB8E-875D-4819-832B-7657F81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DFE-25B0-4658-975E-4B5739A5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18AAE-646E-4E69-B52E-9C126539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FD58B-A662-4E6C-9CF6-1F6FCB2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13E6-5476-4EA8-8425-9141759D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BBED-AE5A-4452-BC95-59F41495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3262-455A-4814-8CDD-539F825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8D73-10FE-41E0-93F5-05971296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1A9D-43FE-4EF9-B007-7F0D638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197E-CCB0-4662-AF99-3BB93265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D1C0-E35B-4105-8073-8B4C555D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8AC-E335-4798-A009-935315A0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C4D-07B7-4E33-931D-4B4B6317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9EC-4A14-4C88-835F-57216933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99B-3D36-4FA2-A54C-45F8DDF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ACC-4CC3-4514-998C-AFFD9A3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9B51-9317-4212-B9CE-3B8CE6D78E22}" type="slidenum">
              <a:rPr b="0" lang="en-I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68E3-ACC4-4CBE-9966-4C756D9E7EA8}" type="slidenum">
              <a:rPr b="0" lang="en-I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0F3-6371-4CE1-99F2-252D6F00EB3E}" type="slidenum">
              <a:rPr b="0" lang="en-I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9F35-B7B3-44E9-AF29-948C59B3AD21}" type="slidenum">
              <a:rPr b="0" lang="en-I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I MUMB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RODUCTIVE HEAL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Differences in zygo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Monozygot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Dizygot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 ova + 1 sper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me se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dentical fea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ingle or double placen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me genetic fea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NA microprobe -sam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2 ova + 2 sper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ame or opposite sex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aternal resembla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ouble or s/t fused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ifferent genetic featur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NA microprobe - differ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Differences in chorionicity with single  placen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17b"/>
                </a:solidFill>
                <a:latin typeface="Constantia"/>
              </a:rPr>
              <a:t>D / D ( fused placenta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M / 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nozygotic or dizygotic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ck dividing membrane      &gt; 2m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win peak / lambda sig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nozygotic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n dividing membrane 2mm or les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 sig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Diagno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4312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HISTORY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istory of ovulation inducing drugs specially gonadotrophi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Family history of twinning (maternal side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YMPTOM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yperemesis  gravidoru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ardio-respiratory embarrassment - palpitation or shortness of breath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endency of swelling of the leg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Varicose vein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Hemorrhoid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xcessive abdominal enlargemen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Excessive fetal movement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GENERAL EXAMINATION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valence of anaemia is more than in singleton pregnancy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usual weight gain, not explained by pre-eclampsia or obesity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vidence of preeclampsia(25%)is a common associatio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BDOMINALEXAMINATIO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Inspection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elongated shape of a normal pregnant uterus is changed to a more "barrel shape” and the abdomen is unduly enlarge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57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lpation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l height more than the period of amenorrhoe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105732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rth  more than nor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lpation of too many fetal p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lpation  of two fetal h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lpation of three fetal p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uscul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distinct fetal heart sound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one of 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0 beat dif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D/D of increased fundal heigh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84320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ll bladd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rong d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ydramn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crosom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broid with pre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varian tumor with pre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enexal mass with pre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citis with pre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lar pregna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INVESTIG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onography: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multi fetal pregnancy it is done to obtain the following informa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uspecting twins – 2 sacs with fetal poles and cardiac activ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nfirmation of diagn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iability of fetuses, vanishing twi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horionicity – 6 to 9 wks ( single or double placenta,  twin peak sign in d /d gestation or Tsign in m/d 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egnancy dating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Sonography ( ctd 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etal anomali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etal growth monitoring (at every 3-4 weeks interval) for IUG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esentation and lie of the fetus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win transfusion (Doppler studi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lacental localiz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5144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mniotic fluid volu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adiograph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iochemical tes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 raised but not diagnos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ternal serum chorionic gonadotrophin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pha fetoprote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conjugated oestrio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5000" spc="-1" strike="noStrike">
                <a:solidFill>
                  <a:srgbClr val="4885e9"/>
                </a:solidFill>
                <a:latin typeface="Calibri"/>
              </a:rPr>
              <a:t>Lie and Pres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43160" y="1999800"/>
            <a:ext cx="67291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ngitudinal lie    (90%)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vertex         (40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rtex + breech  (28%)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ech + vertex   ( 9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breech         ( 6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rtex + transve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ech + transeve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transever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885e9"/>
                </a:solidFill>
                <a:latin typeface="Calibri"/>
              </a:rPr>
              <a:t>Multiple Pregnancy/ Multifetalpregnanc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presence of more than one fetus in the gravid uterus is called multiple pregna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fetuses (twin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ree fetuses (triplet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 fetuses (quadruple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fetuses (quintuple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 fetuses (sextuplet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Complic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357200" y="7855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atern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gnanc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bou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erperiu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e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MATERNAL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During pregnanc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miscarriage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eremesis gravidorum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emia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-eclampsia (25%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amnios ( 10 %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14440" y="856800"/>
            <a:ext cx="730080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GDM ( 2 – 3 time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ntepartum hemorrhage –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placenta previa and placental abruption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Cholestasis of pregnanc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alpresentations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Preterm labour (50%)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wins – 37 weeks, triplets – 34 weeks, quadruplets – 30 wee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chanical distres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uch as palpitation, dyspnoea, varicosities and haemorrhoid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tructive uropath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14440" y="285840"/>
            <a:ext cx="730080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Labour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labour  rupture of the membran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rd prolaps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coordinate uterine contrac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creased operative interferenc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lacental abruption after delivery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ab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ostpartum haemorrha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uring puerperium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ubinvoluti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fec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ctation failur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FETAL – more with monochorion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pontaneous abor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ingle fetal demi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nishing twin – before 10 week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tus papyraceous/compressus –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i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ication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win (depend on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rionici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urological, renal lesion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anaemia, D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hypotension and de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FETAL – more with monochorion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ow birth weight ( 90%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ematurity – spontaneous or iatrogen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etal growth restric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imester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ymmetrical, in both fetu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iscordant grow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Difference of &gt;25% in weight , &gt;5% in HC, &gt;20mm in AC, abnormal doppler waveforms  -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uses – unequal placental mass, lower segment implantation, genetic difference, TTTS, congenital anomaly in o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71680" y="5461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FETAL COMPLICATIONS (ctd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ngenital anomalies 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joined twins, neural tube defects – anencephaly, hydrocephaly, microcephaly, cardiac anomalies, Downs syndrome, talipes, dislocation of hip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TTS -Twin to twin transfusion syndro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cause – AV communication in placenta – blood from one twin goes to other – donor to recip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donor – IUGR, oligohydramn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 recipient – overload, hydramnios, CHF, IU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71680" y="83196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FETAL COMPLICATIONS (ctd)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RAP -Twin reversed arterial perfusion syndrome or Acardiac twi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- absent heart in one fetus with arterio-arterial communication in placenta, donor twin also d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ord entanglement and compress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more in monoamniotic tw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ocked twi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sphyxia 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rd complication, abrup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till birth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– antepartum or intrapartum ca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no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igh perinatal morbidity, morta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uses :  cord entangl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ngenital anoma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eterm bir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win to twin transfusion  syndr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Antenatal Mana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et: additiona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300 K cal per day,  increased proteins, 60 to 100 mg of iron and 1 mg of folic acid extr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creased re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Content Placeholder 2"/>
          <p:cNvSpPr/>
          <p:nvPr/>
        </p:nvSpPr>
        <p:spPr>
          <a:xfrm>
            <a:off x="500040" y="3357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requent and regular antenatal visi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etal surveillance by USG 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every 4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Hospitalisation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not as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rticosteroids -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threatened preterm labour , same d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irth prepared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anagement During Labou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ce of deliver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tertiary level hospi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RST STAG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lood to be cross matched and rea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fined to bed, oral fluids or n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apartum fetal monitor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sure prepared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COND STAG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first ba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econd bab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INCID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lin’s Law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ins: 1:8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iplets: 1:8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adruplets: 1:8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intuplets: 1:89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joined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ins: 1 : 60,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ldwide incidence of monozygotic - 1 in 25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idence of dizygotic varies  &amp; increas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anagement During Labou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SECOND STA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–delivery of first bab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in singleton pregnanc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art an IV li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oxytocic after delivery of first bab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cure cord clamping at 2 places before cutt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sure labeling of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ab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livery of second tw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HS of second bab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ie and presentation of second tw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ait for uterine contrac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duct deliver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00000"/>
                </a:solidFill>
                <a:latin typeface="Calibri"/>
              </a:rPr>
              <a:t>Management During Labou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121392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livery of second twin – problems &amp; intervent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inadequate contraction- augmentation – ARM, oxytoci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transverse lie – ECV, IPV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fetal distress, abruption, cord prolapse- expedite delivery – forceps, ventouse, breech extra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IRD STAGE – AMTS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continue oxytocin dri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carboprost 250µgm IM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monitor for 2 hour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Indications of caesarea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 cephalic presentation of first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joined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ked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ther obstetric condi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twin – incorrectible lie, closure of cervi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MCQ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xt book of Obstetrics, Dr J B Sharma,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edition ( 2012) page-473 to 48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 - multiple pregnan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Splitting of single fertilized ovum between 8 to 12 days results 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conjoined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onochorionic mono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dichorionic di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monochorionic di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plitting of single fertilized ovum between 8 to 12 days results 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conjoined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monochorionic mono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dichorionic di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monochorionic di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Twin peak sign is a feature o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conjoined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onochorionic mono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dichorionic di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monochorionic di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in peak sign is a feature o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conjoined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onochorionic mono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) dichorionic di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monochorionic diamniotic tw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Additional caloric requirement ( K cal per day) of a mother in a case of twin pregnancy 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3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5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8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1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itional caloric requirement ( K cal per day) of a mother in a case of twin pregnancy 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3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5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8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1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Dem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85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ce: most common in Negro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ge: Increased maternal 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ity: more common in multipa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redity - family history of multifetal ges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tritional status – well nourished wo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T -  ovulation induction with clomiphene citrate, gonadotrophins and IV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ception after stopping OC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Additional iron supplementation requirement ( mg per day) of a mother in a case of twin pregnancy 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2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itional iron supplementation requirement ( mg per day) of a mother in a case of twin pregnancy as compared to singleton pregnancy i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) 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2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Iron supplementation required by a mother having twin pregnancy 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2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ron supplementation required by a mother having twin pregnancy 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3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1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) 2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. Twin pregnancy is complicated by all of the follow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cep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placenta prev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al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hydramn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post term labo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in pregnancy is complicated by all of the follow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xcep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placenta prev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al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hydramn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) post term labou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. Caesarean section is indicated 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mono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onochorion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dichorion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di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esarean section is indicated 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mono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onochorion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dichorion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diamniotic tw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) 32year old G2P1 at 20 weeks pregnancy in USG shows twin pregnancy, single placental mass with dividing membrane having inverted T sign. The type of twinning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monochorionic monoamni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monochorionic diamni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dichorionic monoamni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dichorionic diamnionic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) 32year old G2P1 at 20 weeks pregnancy in USG shows twin pregnancy, single placental mass with dividing membrane having lambda sign. The type of twinning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monochorionic monoamni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monochorionic diamni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dichorionic monoamnio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dichorionic diamnionic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Tw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686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Varieti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. Dizygotic twins: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onest (Two-third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. Monozygotic twi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one-third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enesis of Twin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izygotic twins (syn: Fraternal, binovular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fertilization of two ova by two sper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) Monochorionic twin placenta has unidirectional deep arteriovenous communication with lack of superficial vascular anastomoses. The likely complication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twin to twin transfusion syndr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twin reversed arterial per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acute intertwin trans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twin cord entangl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) Monochorionic twin placenta has unidirectional deep arteriovenous communication with lack of superficial vascular anastomoses. The likely complication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twin to twin transfusion syndro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twin reversed arterial per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acute intertwin transfu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twin cord entangl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) Most common variety of conjoined twins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crani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thorac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omphal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pyopag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) Most common variety of conjoined twins 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crani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orac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omphal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) pyopagu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71400"/>
            <a:ext cx="8686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6240" indent="-2462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Monozygotic twins (syn: Identical, uniovular):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Upto 3 days  - </a:t>
            </a: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diamniotic-dichorionic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Between 4</a:t>
            </a:r>
            <a:r>
              <a:rPr b="1" lang="en-US" sz="3500" spc="-1" strike="noStrike" baseline="30000">
                <a:solidFill>
                  <a:srgbClr val="ff0000"/>
                </a:solidFill>
                <a:latin typeface="Constantia"/>
              </a:rPr>
              <a:t>th</a:t>
            </a: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 &amp; 7</a:t>
            </a:r>
            <a:r>
              <a:rPr b="1" lang="en-US" sz="3500" spc="-1" strike="noStrike" baseline="30000">
                <a:solidFill>
                  <a:srgbClr val="ff0000"/>
                </a:solidFill>
                <a:latin typeface="Constantia"/>
              </a:rPr>
              <a:t>th</a:t>
            </a: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 day </a:t>
            </a: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- diamniotic monochorionic     - most common type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Between </a:t>
            </a: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8</a:t>
            </a:r>
            <a:r>
              <a:rPr b="1" lang="en-US" sz="3500" spc="-1" strike="noStrike" baseline="30000">
                <a:solidFill>
                  <a:srgbClr val="ff0000"/>
                </a:solidFill>
                <a:latin typeface="Constantia"/>
              </a:rPr>
              <a:t>th </a:t>
            </a: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 &amp; 12</a:t>
            </a:r>
            <a:r>
              <a:rPr b="1" lang="en-US" sz="3500" spc="-1" strike="noStrike" baseline="30000">
                <a:solidFill>
                  <a:srgbClr val="ff0000"/>
                </a:solidFill>
                <a:latin typeface="Constantia"/>
              </a:rPr>
              <a:t>th</a:t>
            </a: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 day-</a:t>
            </a: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monoamniotic-monochorionic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46240" indent="-246240">
              <a:lnSpc>
                <a:spcPct val="9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After 13</a:t>
            </a:r>
            <a:r>
              <a:rPr b="1" lang="en-US" sz="3500" spc="-1" strike="noStrike" baseline="30000">
                <a:solidFill>
                  <a:srgbClr val="ff0000"/>
                </a:solidFill>
                <a:latin typeface="Constantia"/>
              </a:rPr>
              <a:t>th</a:t>
            </a:r>
            <a:r>
              <a:rPr b="1" lang="en-US" sz="3500" spc="-1" strike="noStrike">
                <a:solidFill>
                  <a:srgbClr val="ff0000"/>
                </a:solidFill>
                <a:latin typeface="Constantia"/>
              </a:rPr>
              <a:t> day -</a:t>
            </a: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conjoined / Siamese twins.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885e9"/>
              </a:solidFill>
              <a:latin typeface="Calibri"/>
            </a:endParaRPr>
          </a:p>
        </p:txBody>
      </p:sp>
      <p:pic>
        <p:nvPicPr>
          <p:cNvPr id="215" name="Picture 2" descr="C:\Users\arun\Desktop\Twin-Sketches.jpg"/>
          <p:cNvPicPr/>
          <p:nvPr/>
        </p:nvPicPr>
        <p:blipFill>
          <a:blip r:embed="rId1"/>
          <a:stretch/>
        </p:blipFill>
        <p:spPr>
          <a:xfrm>
            <a:off x="1500120" y="582480"/>
            <a:ext cx="5857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885e9"/>
                </a:solidFill>
                <a:latin typeface="Calibri"/>
              </a:rPr>
              <a:t>Conjoined twi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7152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ff0000"/>
                </a:solidFill>
                <a:latin typeface="Constantia"/>
              </a:rPr>
              <a:t>Ventral: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1) Omphal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2) Thorac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3) Cephal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4) Caudal/ ischi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N" sz="2600" spc="-1" strike="noStrike">
                <a:solidFill>
                  <a:srgbClr val="ff0000"/>
                </a:solidFill>
                <a:latin typeface="Constantia"/>
              </a:rPr>
              <a:t>Later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1) Para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ff0000"/>
                </a:solidFill>
                <a:latin typeface="Constantia"/>
              </a:rPr>
              <a:t>Dorsal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ff0000"/>
                </a:solidFill>
                <a:latin typeface="Constantia"/>
              </a:rPr>
              <a:t>       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1)Craniopagu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5000" indent="-225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IN" sz="2600" spc="-1" strike="noStrike">
                <a:solidFill>
                  <a:srgbClr val="000000"/>
                </a:solidFill>
                <a:latin typeface="Constantia"/>
              </a:rPr>
              <a:t>2)Pyopag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5000" spc="-1" strike="noStrike">
              <a:solidFill>
                <a:srgbClr val="4885e9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642680"/>
            <a:ext cx="7115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perfecund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tilization of two different ova released in the same 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uperfeta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rtilization of two ova released in different  cy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1:13:26Z</dcterms:created>
  <dc:creator>lib16</dc:creator>
  <dc:description/>
  <dc:language>en-US</dc:language>
  <cp:lastModifiedBy>lenovo</cp:lastModifiedBy>
  <dcterms:modified xsi:type="dcterms:W3CDTF">2021-07-24T08:40:18Z</dcterms:modified>
  <cp:revision>163</cp:revision>
  <dc:subject/>
  <dc:title>Multiple Pregnancy, Hydramnios and Abnormalities of Placenta and Cord</dc:title>
</cp:coreProperties>
</file>