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880-D2D3-4104-9FCD-4003D496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805-BD39-45F7-B67E-26566335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8B9E35-9458-4714-839F-248FABD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C0685-D0F9-4F40-ABF3-EC5B0E40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78FEFD-67F4-46F7-BC79-8FF88FDB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DBB25-6231-4B6E-ABE9-5FF397E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BB865-85D1-4994-99E8-CF508D0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ECBC3-05ED-4264-AF14-170F8D1B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6C2E9-B84E-4F6E-A7C7-71B186A6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800AC-8A21-44D2-9E2B-DF9239E2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22F12-002F-4B6F-BB0F-151FA8B2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3F0CD-ADEE-48FF-AB9F-3DC90419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0F4-69E2-4FF6-8E71-D7D769A5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D6408-5FA6-4BE3-A4B1-5A02313F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FC6A4-7DB2-4194-A1EB-814F2067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FDEDB-0578-4A32-AB51-914FBD9C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A699A-6DC5-4FD7-8626-2EE97C33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F08A4-C8ED-4AF3-99DD-B2BE9644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6FC1B-0571-44F7-BA17-3CC955A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95AAD4-F7BE-42B2-B293-58DAE8F4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25638-1A9A-4982-A3E5-C450807C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95EDEA-EBFD-4347-9249-B85B23FB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D9A39-04A6-489B-85B3-CF3C1C02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75F-8AAC-4374-B819-CA1BFACA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74A69-7C85-4FF8-92CB-AC5ACB40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1BFA5-2ABA-4817-9B4C-3784902F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4A099-AB5F-4D0F-BB1F-FF30381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D196C-8C03-4679-9B7D-8D85B5D1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CE1C2-4750-4C15-9F0D-90A2B9F1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8E8FA-CAD1-4E55-85A6-64F71B7E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E29C5-A879-44C3-918D-1762BEE6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FCA1F-E820-4A95-A4F9-BA1A3B3F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380D7-B8DB-4D22-A23B-6F0B3A2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68850-7CC4-492C-80C5-4252475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76A8-06F4-427D-BFDC-B6389585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310A3-FE4A-453E-AC82-C415E9C7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C7C79-EF6C-4652-B74C-C2F23F11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D9155-1E45-465A-B383-DFDA10B6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0F622-EA67-4512-9ECA-B9163B47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0BFD8-D393-417D-9EB6-CD707673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43BF5-A5BB-4294-9D32-61414263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03DDA-AFC3-4D94-BEB9-6A6924F2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BFF70-3C7F-4A9A-A79D-3F063C1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ACAF6-CBAA-42D5-A371-541EF8F3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9B4D1-D3E5-4FE7-8F4C-807B17A1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C1B3-3D9B-499F-A5FE-705B0A6C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3AFD4-9CF4-4AB0-ADA3-C93B5AE5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BD2BAC-9AFF-4800-A4A3-84BE611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7D832-64F7-48B4-886A-EF537061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69470-3851-4218-A75A-1E3F04E7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4A2E8-B007-4272-BFE2-A2DB1EC2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C97F-CAC1-425C-B845-436F8FD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636-83D5-439B-8D23-B1FD1E94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8BEF-5325-46ED-9F99-5C7283FC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AD05-AE12-47C0-8282-F4920ED3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3337-CFBA-496C-B981-139C996A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301-92AE-42C1-A0DE-AA0D30F8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6CC5-2D42-4ABA-8E46-1C4AE143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D5CF-1DC8-4737-801A-DA5E1785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638C-857E-4696-B863-FB88FFA0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DE6C-CC48-4B9E-981C-BEC0E49B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BC6B-1C9C-44C4-9CA4-488E2FE9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2755-698C-4E80-8A4E-D022BB33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6F44-7499-450F-8488-902FB4AF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3C47-EB03-4C48-A65A-CC993161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F8FDF-9241-419B-B6F7-C1C839EC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8BFC-0625-4E04-8F09-9C96220D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CD1-8DEC-4B82-9C95-EB0A095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9761-89C4-4277-B4EC-2E5F0FDB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2758-37BC-46B5-A3B4-89E01D2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F3C9-6522-465E-9F83-93BB29CB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C05FC-1B50-409C-BB59-F2A7BDE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BFCB-6BEE-4B06-8FAF-A2585EB4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1A7C-8259-412A-A061-0CC7713E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BDAF-7592-4BAC-A222-CA52236E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1778-67B3-4C45-87F3-9A923D46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3C6F5-0E75-4CF0-BB39-7F423C88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B34C-A4A4-43BF-9A12-DC937D2F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AC3-CFA8-4D83-8740-4BF0B181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9FB9-A656-4ECC-967C-84DF736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83CA-EF60-421C-8F9D-8F2A253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5DDA-6FBB-40D0-9CAC-E16BDFC3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87BB7-EA9C-470F-8AD1-2487090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C084-4FEF-4AEB-BEE4-6905F28F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F9E59-D9C2-48EB-9E1B-1A848EC5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0BFD-919E-40D2-BCAB-F4A8EA77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E314-F3E2-4D10-886A-66A2D7AD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61FA-17EE-4F6F-BE50-5F74AE5B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5C35-1221-4576-A489-856864F7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E01-7FCB-40EC-ABDE-3285CEF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60599-F412-47E2-86EB-0A669F71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24848-63FB-4765-A58E-7B7E5F5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B8AF1-7716-4D02-8072-D183E8D4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1D63-B3D3-44E2-A515-8ADB55E2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12AD-1DAD-4820-B9F0-4C890B07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3CAC1-59B1-414B-9E76-992449BE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5E8F-916B-426C-B1A8-B924C85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775FB-09D6-4205-BB91-FF4D768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F4DD-A4B6-418B-A30E-F7062D8F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CE123-A8FD-4D4C-BA1F-853D7A52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547-23D3-4179-A960-21D038B2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952B-28CA-43AA-8FDA-6739D45E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97ABB-2BC7-40DE-8253-E94CB84C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2E47-B44C-429A-92D3-D93C46E6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E8468-5896-417F-8B5D-145F9A22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EA944-B60A-4A66-80A7-73F4660A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43D5A-5FB4-4E5C-9D55-7DB3EB5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5E1B9-8387-4B9C-816D-4E0EA1ED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72AF1-D62D-4F9E-B37E-D2FD098F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1AE5D-6DD6-4906-A191-9061E25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9E0F-D942-4B98-9CB0-8008BABE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FB0-5774-4D72-BC07-4C4C31B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43F92-86D2-4F45-A55F-1CDFCA96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45CBF-DF72-4EB2-AC31-EEA5CA74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0EC0-FA43-4645-9B88-06B28E94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F498-A180-422B-B032-617B88A2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45737-2B6E-4097-8F5D-B4B7BD5D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9101-465D-47A8-9042-A0DB4303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3742B-9575-469D-9847-3DB99D0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312D7-44C1-48B7-B1A3-6A8AA168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3138E-6309-484A-B848-B9F68555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E942D-14DB-44F9-A655-93CE209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86B-608F-4CB2-A3AD-D4E975B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B8F01-21F3-44C9-9969-65D40A0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C86E2-037A-4F67-9DFC-D245C71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20F50-10D5-4209-BA0E-446734EC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DF9A3-89F1-482A-94F1-CF2C7291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83E2B-67C1-4DA0-862E-728578B9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D95F3-EF49-4E4F-8E75-7CD6A2B3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D013-D1EF-46EE-978D-4B33ED17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FFD5-6D98-4A6D-AB18-7062FFC3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B9822-08DC-4FED-A2B2-240AB556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29750-A359-4E8A-BAFB-22626668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C43-F430-4DDD-B4FA-54DF63C7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00EE8-AC8D-4EF3-829D-757F7B8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9F516-33E6-435C-97D2-58C3010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1B10-6C76-4887-81ED-0137D0D0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6D3BE-78C3-48A5-9326-849707D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D2F1F-B7E3-4559-9121-E0978301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6A8BC-F9AE-4275-8FF5-FFEF20F1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EBDEB-6273-4FDC-AD62-21CA64A9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FD76C-6283-496A-A799-CB848557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8703C-BB6D-4374-A53A-16FB1FA9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CB03A-ABEE-4C8F-BC82-381B840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125D-D578-43FF-822D-A5DB546E4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515F-87E6-4111-819D-3CA3CC35E3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D867-FD6A-4BE3-BE2A-91C1A0DC2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8559-DFBE-496D-8AF8-81F7A0195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05FF-272C-4839-9DCF-037DEAEB7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95C-110D-4218-85B5-055F7E78E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AE3-56B7-45CA-8E83-B40A3F9E0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1525-C4F9-4815-8F9C-525E5A9033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C1A-C0F4-4184-9611-A2DD78EE29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A6D-1EC1-474F-B3DE-7DD0EFA382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FC0E-D510-4BFD-A4F4-803E2AA2FE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0D6-3D1C-4B36-9383-644122A030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6197"/>
                </a:solidFill>
                <a:latin typeface="Georgia"/>
              </a:rPr>
              <a:t>The Partogram in the Management of Labor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LI MUMB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PRODUCTIVE HEALT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History contd. -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ised the Alert and Action lines on chart of cervical dilatation against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ert line separated highest proportion of normal from abnormal progress, allowed time for referr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awn from 3cm or more and joins points representing a rate of dilatation of 1cm per hou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the study, 22% crossed alert line out of whom half (11%) delivered within 4 hours while the remainder required an intervention before delive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History contd. - 3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ised an Action line 4 hours to the right of and parallel to Alert li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hours allowed for transfer to a central facility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at a central facility, allowed 4 hours before interven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ral modifications done by WHO to give current partogram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Definition of Partogra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graphic presentation of the events of the first stage of labour recorded on a single page for ease of visualization of the progress of labor as well as deviations from normal progr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ffers a standardized method of recording the events of lab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Components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tients personal particula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tal heart rate cha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te of membra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or of liquor/sme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rvical dilatation and desc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dic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paramet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utcome of labour and delive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Charting of partograp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ulars on admi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observations – time zero hours. Specific time not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observations – half hourly except cervical dilatation, desce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tal heart rate – mean basal rate, regular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ate of membranes: intact - before rupture, time of rupture, color/smell of liquor after rup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Charting of partograp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sence/absence and degree of moulding, caput – with vaginal ex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ervical dilatation in cm 4 hourly or more frequently according to indication. Marked with an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scent of fetal head in fifths above the brim. Determined on abdominal palpation. Recorded with an 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Charting contd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ractions – number in 10 min, strength/duration by shade used – mild, moderate, stro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rugs – time administered, route dose. For syntocinon – strength and rate of inf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Charting contd.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ternal parameters – BP, Pulse, Temp., RR on admission then 2-4hourly but more frequently when indicated. Urine volume, proteinuria, ketonuria, glucosuria on admission then every time urine is passed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mmary of events of labor and delivery - including fetal and maternal outcom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Advantages of a Partogram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ick visualization – everything on 1 p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ndardized recordings – reminds every reviewer what must be checked for and recor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y identification of problems for intervention/refer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se of handing ov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en shown to reduces perinatal morbidity and mortality; and maternal morbidity/mortal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Outline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ition of labou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story of the Partogr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finition of partogra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onents of a partogr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harting of the Partogram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Labour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process characterized by uterine contractions which increase in regularity, intensity and duration and causes progressive dilatation and effacement of the cervix and descent of the fetus down the birth cana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ervical dilatation and descent of the presenting part used to monitor the progress of labou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Definition contd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 basis of cervical dilatation labor subdivided into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,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&amp;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ta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cervical dilation up to 10c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full dilation to delive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– delivery of fetus to delivery of placen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stage = labor,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and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= deliver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Historical backgrou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itoring of labor been done from time immemori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iedman (1967) – graphic display of cervical dilatation against ti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moid curve described: latent/active phases, acceleration, maximum slope, Deceler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atent phase 4.8 hours in multiparous, 6.4 hours in primegravid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36197"/>
                </a:solidFill>
                <a:latin typeface="Georgia"/>
              </a:rPr>
              <a:t>History contd. -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ximum slope – 3cm per hour for prime gravida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ilpott (1972) designed first composite labour recor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signed to ensure simple yet accurate documentation of progress of lab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imed to pick out abnormal progress for early referr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0:41:56Z</dcterms:created>
  <dc:creator>aswani</dc:creator>
  <dc:description/>
  <dc:language>en-US</dc:language>
  <cp:lastModifiedBy>lenovo</cp:lastModifiedBy>
  <dcterms:modified xsi:type="dcterms:W3CDTF">2021-04-29T17:20:43Z</dcterms:modified>
  <cp:revision>15</cp:revision>
  <dc:subject/>
  <dc:title>The Partogram</dc:title>
</cp:coreProperties>
</file>