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EFD-FD14-4C32-B011-B3CD5185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4F1E-E4CE-42B3-99C1-B206E9E3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111-BED8-48CB-B8B3-C5FE8E2C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62E-7F43-45E0-BC6D-B3EB14E8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59D9-8F2D-4080-B788-FD132C96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B9AA-DE03-4FB6-A932-FA4EEDE0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123D-AB75-4B4A-AE04-302E84B5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C73C-C4ED-4DC4-82DD-E09E1BCA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1345-B2B4-4A4A-AAD9-B1669647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4D6F-B626-46D9-94CD-FD3AD2B7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2C6B-B3DF-4734-91E5-1FF70364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FF0F-D4C3-437A-9518-D32893ED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89DF-355F-4694-9A4A-7D64BC27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4820-C204-4744-8EAC-06475BD6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F045-B659-48DC-8156-1FC27B9F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487F-6CF0-4FF6-877E-DE5FF4E3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845B-CB5C-4A4A-A20D-80B13AC9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32CC0-BC29-48A9-9049-3A9C7005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2DA69-B0EF-4AB2-957B-E1CACD70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C292E-F124-463F-99A0-CB434355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CADA9-7C94-43C1-BE28-C4C7665A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D78DD7-D8B5-4D2B-83CF-7C7FF316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8A1-835C-4F35-BBF9-C7BC0367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97775-701D-4BC5-8C5A-F5C007B3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73C6D1-DD30-4F8C-AAC6-AB6ED2CF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790E0-D3C1-4AD0-A875-9D9778AB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B58985-3695-4C9A-B441-51A2B5A4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10CC7-B07B-4145-A69C-48FAAAD3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2CA09-99B3-411A-879F-23CA5D68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1A777E-AAFB-4E2D-9367-0A0E67A0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83B717-A24D-48D9-BB8F-13681C23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75CEC5-C989-4486-8EC4-CA263396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08457A-EE7C-4A83-A89D-45C773C0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F916-B1A5-413A-AAD8-3F9C40DC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DD02DD-61B4-453E-9611-C6F1E7D3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020371-0FD4-4087-A6F1-86E1BDB0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7BC8E5-7A76-4596-9EA0-9793F433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E39191-445B-47FD-949C-670D54E5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E701CF-271D-4E53-9043-2E91D45A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7CF7D1-7024-473A-A30D-F5FA0D58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E23D92-9651-4986-9C26-EAF78F38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B08207-853C-49C2-BBFC-21456B63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FBCC72-9DEB-461F-8C62-083370FA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9A63DB-58D7-4660-B8D7-3B58AAF81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2BD7-CEF0-4E33-9CC5-D88FE40D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A5AC4F-06B1-4965-BFE8-1FABC2DE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17519F-3BB0-40EB-8DF3-4A8A8D5B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5E1BA2-DB8A-4C34-9FDE-B427D765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3C88C4-5FE3-43E5-AD18-268A3EF3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B3928-3679-4EB1-88B2-1E632652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D3D87E-D394-4AFB-841F-3495ACC7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62E445-855A-4DD5-91E6-F973D05B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F2230A-927D-45CC-A0CA-3520EC84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F88DF7-FE59-4B64-8C72-25E4BE11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C6E603-2439-4590-A62A-A7731B37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C59C-5B9D-4A6D-B127-E8D3DA5F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B9AE7B-2396-4FC1-9610-A9D548A1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712C8-49E2-4172-9282-6F12FC66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5069C-4422-426D-9626-120EF50F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51A60-96D8-4AD0-B210-0F35C4C5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E2BF9-778D-4012-BFBA-49BB642D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F8ECC-B5DA-4BB5-A229-F6F9D786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2395B-8B23-4C50-9E96-E1C2DAD7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ECA23-0F65-4421-945D-85EDEC3F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BF3BB-31AF-4E4F-8970-E967398E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DEF16-3EC4-403F-8D87-22C3CCCA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52D0-982F-4912-8958-CE3D618A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0873A-5D00-4DC7-ACD2-6488BF65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06B68-9FC5-4B7B-9F50-40EFC97B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B729E-69B6-44BD-B0C2-76767B14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DD48C0-7B36-4A81-A030-EB2095D5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BB766D-7173-4508-965D-9A187654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2D4ED3-68A1-4A12-A92B-D181B576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1E0387-A11B-49BB-80C7-8C94B550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488C7B-0103-49FB-B471-EF42A36E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3B83B5-28DC-4AC0-A932-4E95D669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CCF81F-4649-4850-97EF-0E8088E0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629-D354-412C-B329-EE6003B3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317901-5696-4C4D-BC55-5A24F346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586A3A-A3E8-47AA-B212-328A68BD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BF2F7A-78AC-4B95-A1C2-854FEA80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181205-B7C7-4B4F-B3A1-2A981EC0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3C97FC-105D-48D5-9EF7-D676FD91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856D1-A192-4491-877E-5EF6AB85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BBDFC-124A-4DE2-8CB6-89812854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DD239-C209-41F4-97E8-6D535E68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253C9-C1CA-4E9F-BBC0-5B674FFD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D4D64-0037-4CB1-8E8D-A4D95FDA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FC61-57F8-4FAE-9B4B-63B450D2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EA651-D5EA-4BFE-8496-D6D53986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8C96E-2671-4644-8D4C-9B8C3FF4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FA9A3-117C-4DF7-BE50-B3D5DFA8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21891-E79F-4A85-91A5-C4C094D9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C2D7F-6591-4204-9737-ABF50EAA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F3C20-2462-4B20-82A9-38E820A2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191FF-FB3F-45FF-AD51-D82D013A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A047-E9BC-433C-9AD4-FC222969FE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A640-A7FD-4679-A314-AEF6F9D664A9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D339-9C43-4C15-B3E0-C207A6DF45D2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C9AE-CD4C-44FA-9582-90AA1D2046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9C36-5874-4D89-9B39-4F791CFC02A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F865-DD3A-4119-873B-29C4CC77D5D3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3665-9780-45F1-906D-D7F5FDB90DEA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D5EC-8B63-4E81-B5B7-A6D56198F05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ANEMIA IN PREGNANC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ALI MUMBO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REPRODUCTIVE HEALTH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rading of anem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re – less than 6gm/d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derate – 6 to 8 gm/d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ild – 8.1 to 9.9 gm/d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rity also determined b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esence of features of heart failure regardless of Hb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peed of dropping of Hb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reatment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overned by cause, severity, gestational a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re anemia – transfusion especially when symptomatic or near ter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derate – hematenics except when at term and with risk factor for bleed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ild – hematenics – or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eat related causative factors e.g. malaria, hookworm,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evention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b determination at 1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st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ANC vis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ull blood count for those with low Hb + other investigations to establish cau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aematenic supplements – for those with borderline or low H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evention of Malaria in pregnanc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creen for and treat other associated factors including diet, chronic ailm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utli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fini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tiolog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thogenes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ffects of pregnancy on anem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ffects of anemia on pregnanc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agnos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rad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eat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efinition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hemoglobin level less  than 11g/dl (WHO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 Africa, considered anemic at HB less than10g/d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velops most often in those who enter pregnancy with borderline or low HB or iron sto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B is lowest in 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n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rimester – a lower cut off point may be appli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Causes of anemia during pregnancy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cquire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ron deficienc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cute blood los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ronic diseases (inflammatory/malignant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lic acid deficienc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emolys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one marrow aplasia/hypoplas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ereditar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alassemi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ckle cell hemoglobinopath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ther hemoglobinopath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ereditary hemolytic anemia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athogenesis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creased demand for iron and folic acid in pregnancy – formation of RBC’s in fetus, increased needs in moth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Normal hematological change – increase in blood volume but increase in plasma volume exceeds that in red cells – dilutional anemi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creased rate of cell division: - folic acid deviated from hemopoiesis to general cell divisio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athogenesis contd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lacenta takes up from mother fetal requirements of both iron and folic regardless of available suppli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emolysis especially with malaria increases demands for folic acid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alaria and general ill health contribute to bone marrow depress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yperemesis gravidarum and other causes of poor feeding – reduced hemopoiesi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ffects of anemia on pregnanc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emia leads to reduced supply of oxygen to fetu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Degree of hypoxia depends on severity of anemi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ild anemia associated with delayed effec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ffects include:-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UGR, IUFD, SB, abor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yperplacentosis with risk of p/preav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etal distress in labour due to placental insufficienc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kes effects of PPH more seve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iagnosis - 1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ymptom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ethargy/weaknes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asy fatigua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alpita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eg swell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gn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allor of variable degre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dem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eatures of heart failur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iagnosis – 2: Investigations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emogram –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b reduc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BF – sizes, shapes, color, presence of Trophozoi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one marrow aspi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ool microscop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laria parasi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bstetric U/S – effect on fetu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5:48:01Z</dcterms:created>
  <dc:creator>aswani</dc:creator>
  <dc:description/>
  <dc:language>en-US</dc:language>
  <cp:lastModifiedBy>lenovo</cp:lastModifiedBy>
  <dcterms:modified xsi:type="dcterms:W3CDTF">2021-07-24T08:29:06Z</dcterms:modified>
  <cp:revision>7</cp:revision>
  <dc:subject/>
  <dc:title>DISEASES OF THE VULVAR</dc:title>
</cp:coreProperties>
</file>