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DD8-D974-4E08-BFF6-14C2616DA6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0BE8-B579-4041-9B12-EAFA3AB57D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Guardian TextSans Web"/>
              </a:rPr>
              <a:t>Thiamine should be administered prior to a glucose load because cases of Wernicke encephalopathy have been reported after glucose administration in thiamine-deficient pat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90AF-F4B1-4183-BF27-1B9CBAE18B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B561-B786-4D4D-9869-1D8D1183FC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2C8E-0609-4BAA-8528-C2303F302A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D14-8A34-4F60-8167-D435267B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80E-8B62-4ED9-A5E8-9F99BBCB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8ED-940F-4E20-B0C3-549C82F1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80B-1876-436C-9FE0-9AFD8386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40AC-04EE-4516-8B31-8CB662AA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586A-BC9A-41AA-A02D-AE7FFB94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0C92-4D85-4318-BE61-DC68DFD9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18E2-9825-41F4-8A76-7205C29C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D9B3-0202-45F7-AA5F-5F854DBF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0708-6120-4ECE-8847-B4AC198F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DEEB-FF1F-4D8E-911A-BF8EEB8E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532-A06F-4EB8-AF18-BEF085CA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AE3C-A462-4EC8-9B19-C276EFAC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6384-1A46-46FD-AC4B-A68AB429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4C92-F354-4BD6-BEA3-7745C7CA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2350-6C80-4970-BA53-2F5725A7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2D7F-7594-4E04-8947-2F5AD42A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785-50F7-44C1-BE5F-99DEE135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CC3-23CE-47AB-8EB6-6C43B45A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CDD-D3D2-4140-878A-3483D2DE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E7C-5349-41E3-B908-BCA73F75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DAC-6345-480F-A25E-C92B6552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B42-228D-47BA-BEA0-39C50546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FF4-C2A9-4C19-AC72-C0644DD8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224A-0832-4109-944C-2E459638CB1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5F3F-C5B0-48D3-B5E9-00164F42510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UNCONSIOUS PATIEN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35268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EL N. KIUR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TC LE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179280" y="0"/>
            <a:ext cx="8785440" cy="64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S OF C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u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ead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ypoxia/anoxia Cardiorespiratory arrest, cerebral ischaem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ingitis, encephalitis, cerebral malaria, abs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 Subarachnoid haemorrhage, subdural haemato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dural haematoma, cerebral haemorrhage, cerebral infar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bolic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ic ketoacidosis, Hyperosmolar Hyperglycemic State (HHS), hypoglycaem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-/hyponatraemia, hypo-/hyperthermia, hypercalca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0" y="765000"/>
            <a:ext cx="87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 fail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patic encephalopathy, renal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crin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roid storm, myxoedema coma, adrenal insu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lcohols, opiates, cocaine, carbon monoxide, benzodiazep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depressants, barbi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rainst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dural haemorrhage, extradural haemorrhage, intracrani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emorrhage, ischaemia with oedema, infection with oedema, trauma with o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itial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Cs of resuscitation are pertin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way must be kept open with positioning or even endotracheal intub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thing and adequate air exchange can be assessed by auscultation; hand bag respiratory assistance with oxygen may b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culation must be ensured by assessing pulse and blood pres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.IV line, Pulse oxy., oxygen supp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ravenous line is always necessar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luids, plasma, or blood may be required in cases of hypo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.Rapid neurological assessment: level of consciousness, pupi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Lab work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Empirical medical trea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Specific treatmen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to the pa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Diagnostic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250920" y="1341360"/>
            <a:ext cx="813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 of a comatose patient requires examination of four system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tor syst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pils and fund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ular mov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respiratory patter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task i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whether the etiology of coma is due to metabolic-toxic causes or structural da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b work 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BS/ fingerstick for glucose (hypoglycem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BC,ESR, electrolytes, Calcium, BGA, LFT’s, serum and urine tox screen, blood cultures if febr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pirical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xtrose (1 amp = 25 grams IV pus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amine 100 mg I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fic treatmen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to the pa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Hypogly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Status epilept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Head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Subarachenoid 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5480" y="1371240"/>
            <a:ext cx="76532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agnostic Tes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 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ut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occupying l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anothochromia (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yellowish appearance of cerebrospinal fluid that occurs several hours after bleeding into the subarachnoid space caused by certain medical conditions, most commonly subarachnoid hemorrhage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infar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lectroencephalo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Hypoglycemia: serum glucose level &lt; 50 mg/d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Causes of hypoglycemia are varied, but it is seen most often in diabetic patie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Initial Mx: 50 mL of 50% dextrose IV bolu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epilepti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be any continuing type of seizu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defini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inutes of continuous seizure activity or a series of seizures without return to full consc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Dextrose, Thi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 of the unconscious patient is never an easy task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ssment of the comatose patient is made difficult because of the many and varied causes as well as the limited time available for appropriate diagnosis and therapeutic judgemen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44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Lorazep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: 4 mg IV slowly at 2 mg/min; if seizure continues or recurs after 10-15 min, administer an additional 4 mg IV slowly at 2 mg/m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and children: 0.1 mg/kg IV slowly over 2-5 min; repeat prn in 10-15 min at 0.05 mg/kg; not to exceed 4 mg/d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Diazep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: 5-10 mg IV q10-20min; repeat in 2-4 h prn; not to exceed 30 mg/8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:0.05-0.3 mg/kg/dose IV over 2-3 min q15-30min; repeat in 2-4 h prn; not to exceed 10 m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Phenytoi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dult and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ing dose: 18mg/kg IV; hypotension may necessitate slowing administration rate; rate not to exceed 50 mg/min (hypotension and arrhythmias can otherwise occur); if status persists, may increase to total of 30 mg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 Phenoba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: Loading dose: 18 mg/kg IV; maximum infusion rate of 100 mg/m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: Loading dose: 18 mg/kg over 10-15 min I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itor the GCS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417680"/>
            <a:ext cx="8496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0 year old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 by shopkeeper when opening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p sleeping in shop doorway, w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ed to move on seemed a bit confuse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me progressively more drowsy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used to move from doorway so ambulance cal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are called to assess him in A&amp;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your thoughts and how will you proceed in managem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CDE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ss G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PU is an alternative quick assessment in triage or an emergen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-al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-responds to v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- responds to p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-unrespon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od gluco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&amp;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sweet drink, glucose infusion or glucag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T would probably depend on response to treat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rway pro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ing pressure 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ing neck and limbs from inj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vent compl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pi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ary brain inj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socomial inf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ye and mouth c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VT/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se2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3 year old man, h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en found at bottom of flight of stairs in h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has blood on the back of his head, and the ambulance crew have said that there was some blood coming from his left ear when they arrived at the sce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 unilateral fixed dilated pupi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going 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D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0560" y="1719360"/>
            <a:ext cx="8713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ome situations delay of a few hrs would result in irreversible neuronal dam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nical and investigatory approach should therefore be preci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ve laboratory tests giving indirect information should best be avoided in order to save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eep is unconsciousness from which the person can be aroused by sensory or other stimul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m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unconsciousness from which the person cannot be arous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Consciousness Is Dependent on an Intact Ascending Reticular Activating System (R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itatory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cated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icular substance of the upper mid-pons and mesencepha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ibitory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cated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icular substance of the lower mid-pons and med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900" spc="-1" strike="noStrike" u="sng">
                <a:solidFill>
                  <a:srgbClr val="7e9ce8"/>
                </a:solidFill>
                <a:uFillTx/>
                <a:latin typeface="Arial"/>
              </a:rPr>
              <a:t>RAS</a:t>
            </a:r>
            <a:r>
              <a:rPr b="1" lang="nb-NO" sz="39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showimage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40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0066"/>
                </a:solidFill>
                <a:uFillTx/>
                <a:latin typeface="Arial"/>
              </a:rPr>
              <a:t>COMA</a:t>
            </a:r>
            <a:r>
              <a:rPr b="1" lang="nb-NO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ssment of the level of Conscious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States of Altered Conscious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. GC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ahoma"/>
              </a:rPr>
              <a:t>States of Altered Consciousnes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24000" y="2174760"/>
            <a:ext cx="8820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tat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escription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thargy            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igued with minimal difficult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ing aler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tunded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rate reduction in alertness wit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d interest in environment,           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ve to stimuli other than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upor  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sponsiveness with arousal only to          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orous/painful stimulus, return to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sponsiveness with removal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mulu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lasgow Coma Scale 3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2190600"/>
            <a:ext cx="40194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ye 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v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p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verb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ntaneo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st Verb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n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pp wor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orien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en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876920" y="2781360"/>
            <a:ext cx="426708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st Motor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or Post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draw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e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21:57:39Z</dcterms:created>
  <dc:creator>Brukernavn</dc:creator>
  <dc:description/>
  <dc:language>en-US</dc:language>
  <cp:lastModifiedBy>sammiehngigs kiurire</cp:lastModifiedBy>
  <dcterms:modified xsi:type="dcterms:W3CDTF">2021-11-02T12:21:11Z</dcterms:modified>
  <cp:revision>241</cp:revision>
  <dc:subject/>
  <dc:title>Lysbilde 1</dc:title>
</cp:coreProperties>
</file>