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12193588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720E7-664E-4175-A945-0C8FD2EB4E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2E3E9-18D5-4915-AFFA-ACAC573A19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4118F-20FA-448B-9D3E-9302286DF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5f6368"/>
                </a:solidFill>
                <a:latin typeface="Arial"/>
              </a:rPr>
              <a:t>Ataxia</a:t>
            </a:r>
            <a:r>
              <a:rPr b="0" lang="en-US" sz="1200" spc="-1" strike="noStrike">
                <a:solidFill>
                  <a:srgbClr val="4d5156"/>
                </a:solidFill>
                <a:latin typeface="Arial"/>
              </a:rPr>
              <a:t> is a neurological sign consisting of lack of voluntary coordination of muscle movements that can include gait abnormality, speech changes, and abnormalities in eye mov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764EF-C6A9-4869-A1B8-C9B430B36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202124"/>
                </a:solidFill>
                <a:latin typeface="Arial"/>
              </a:rPr>
              <a:t>Niemann</a:t>
            </a:r>
            <a:r>
              <a:rPr b="0" lang="en-US" sz="1200" spc="-1" strike="noStrike">
                <a:solidFill>
                  <a:srgbClr val="202124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202124"/>
                </a:solidFill>
                <a:latin typeface="Arial"/>
              </a:rPr>
              <a:t>Pick</a:t>
            </a:r>
            <a:r>
              <a:rPr b="0" lang="en-US" sz="1200" spc="-1" strike="noStrike">
                <a:solidFill>
                  <a:srgbClr val="202124"/>
                </a:solidFill>
                <a:latin typeface="Arial"/>
              </a:rPr>
              <a:t> is a rare, inherited </a:t>
            </a:r>
            <a:r>
              <a:rPr b="1" lang="en-US" sz="1200" spc="-1" strike="noStrike">
                <a:solidFill>
                  <a:srgbClr val="202124"/>
                </a:solidFill>
                <a:latin typeface="Arial"/>
              </a:rPr>
              <a:t>disease</a:t>
            </a:r>
            <a:r>
              <a:rPr b="0" lang="en-US" sz="1200" spc="-1" strike="noStrike">
                <a:solidFill>
                  <a:srgbClr val="202124"/>
                </a:solidFill>
                <a:latin typeface="Arial"/>
              </a:rPr>
              <a:t> that affects the body's ability to metabolize fat (cholesterol and lipids) within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FA1D0-12EB-4AAE-8F03-8B9699767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202124"/>
                </a:solidFill>
                <a:latin typeface="Arial"/>
              </a:rPr>
              <a:t>Cysticercosis</a:t>
            </a:r>
            <a:r>
              <a:rPr b="0" lang="en-US" sz="1200" spc="-1" strike="noStrike">
                <a:solidFill>
                  <a:srgbClr val="202124"/>
                </a:solidFill>
                <a:latin typeface="Arial"/>
              </a:rPr>
              <a:t> is a parasitic tissue infection caused by larval cysts of the tapeworm Taenia solium. These larval cysts infect brain, muscle, or other tissue, and are a major cause of adult onset seizures in most low-income cou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FC0A2-985E-446E-829E-C9BAA673A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9F9B3-9C96-47F8-A609-C6762BC447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4F479-9A44-46A2-AF03-CB0DA5AEDE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A121E-B41B-4B91-9161-EB47BE2AB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06523-1E69-44EA-8949-069921FB9F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D02BB-541A-4E7C-ABB8-091F72E536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FCBBE-1E1A-4390-8840-E000CBA4C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6E510-A7E7-48E9-84CD-15573F1609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BF3B8-7B96-4874-89FD-2892772E7B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10B3E-2AD4-4B85-86CF-E8F80A6A1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B7E67-6F38-46AC-80CB-371280002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5736B-9878-411B-B8E8-7F736D597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A88C3-8DCA-449D-B954-9DB8DBC0B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BFEE2-C1ED-44D2-A088-55BF9388C0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F440C-B6CA-42C3-94F7-BB0CCE7E3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EB83C-2739-4890-833D-49DE86C1D5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F0EFC-1A20-4F76-A433-9180853BD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EEE41-3D06-48A7-B9FE-55F152406C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068EC-F6D1-4C2C-BD34-46D7263D7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A3CC4-CC32-43F9-B00F-8FD90D828A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E6649-F7E4-47AB-BF85-8F4F3F5008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1E0AE-0809-48B9-B04D-B2068C4B0C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7F48B-2DE8-4A3B-9F32-90A815859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F161F-074D-4F42-85BB-0EE800EBB2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902FF-D5CA-4134-837F-499A75FC0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E9A27-E197-4D58-A3B4-C0342DAC89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C071B-7CBF-4793-A3D3-FDCE7651FD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C9962-6BDF-43A8-AA57-049FEACB41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B2A77-571B-4EB0-84FB-61548FABC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2AE48-D940-4EFE-8074-937EC2446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A7553-60ED-4821-95FC-19C1B90DF7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456F3-0896-49E2-9EBB-B2BABD327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F5802-F559-4FA0-B423-3D68F88FA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6BEC7-C0A7-4E9E-9CB8-F2FC0FF8B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60B38-E6A8-4A59-AA6E-A429B9C7A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8040F-8F2A-4AD9-9BEE-3D0279E14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C7D3-206D-4CC3-B518-B021C26093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EEAA7-C4F3-4851-AE2F-2A464C98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4412E-E458-4A81-BE9E-5D78504B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844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C412A-C168-4219-B1E8-E83A5ACF8B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7DCCC-A106-4688-BEAB-09676F6FFD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4AA71-A057-4B38-96B7-96C55943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B8CEC-4F81-43B1-80F6-A6B6C65A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25061-C165-4FDE-9CCF-4F4350E5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4DDCC-79A9-4603-94EF-650EADFA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9AA91-5127-412B-A1A2-79D4B9E5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912AC-1C52-4827-A574-8EA11D1B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233DA-B63D-4354-893A-BE60175D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6389C-54A8-4C25-8E8B-5FFB651D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97A7D-BF4D-4EFA-97B1-196B9CEC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5CF94-8167-400B-B6D0-16A2EEAB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30B55-B8F8-45E8-9182-C51F536B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844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DAAA1-194B-4FAD-91B9-5A11D27B65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B447-C493-4567-A5C6-5244307723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EFF4-F0D4-4D0A-A34B-B8F2ACEB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F278-9A75-44F7-8847-3111212A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9E8C-132B-498B-B5A5-D6EB0250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AEF3-1BD1-44ED-8648-287EF56B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7505E-13B8-4C6B-A4E5-8572B5EA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9671-0A61-460C-A56F-F4404DC7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7E11-577B-44A6-8EFB-9F3FB7C5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FBB6-894A-4FA4-84CA-3FA5D693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FCCD-0080-4961-B291-F240A3E3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8FCE-BAB3-4843-8174-3F96B4FF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C6E8-2D18-4F78-96C0-A049E0FA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844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A638-3BCA-45AF-9389-9773F11558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3B11-05AD-4EAD-A545-8D862CC2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DEB6C-735C-41F2-8974-E4488119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7C246-0B5B-455C-AC06-F894367B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F6991-0F4F-48C5-9075-32152951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614BD-2BA9-4531-9922-56988954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C9155-846F-4834-8B25-8595C04B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4/8/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97609-608A-413E-87AA-00900FCFB25F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8920" bIns="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4/8/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64A74-6D8E-497F-BA31-5293F270FAD7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7720" y="1825200"/>
            <a:ext cx="5180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75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4/8/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A9192-3D13-468A-92E7-4EEB0B7E0164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836640"/>
            <a:ext cx="9252000" cy="26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alibri Light"/>
              </a:rPr>
              <a:t>EPILEPS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TATUS EPILEPTICUS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uel Ngigi 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M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EIZ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17080" indent="-215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t-ictal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phase may be absent, brief or may last several hours, and sometimes even 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usually a deep sleep and waking up with headache, tiredness, irritability, vomiting, confusion, muscular aches or atax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ent limb weakness and altered speech may occ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ered behaviour such as emotional outbursts and violent tendencies may also occ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ddition, among children, there may be dullness, lethargy and lack of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AUSES/ RISK FACTORS FOR EPILEP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f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ing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ephal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V/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rebral mal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xoplasm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ephalopath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brile illn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abol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yridoxine deficiency/depend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mann-Pick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born errors of metabolism &am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tochondrial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AUSES/ RISK FACTORS FOR EPILEP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u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th trau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ox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th asphyx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x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cohol and withdrawal from alcoh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bon monoxide poiso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ugs (high dose IV penicill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 poiso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o-phosphorus insectic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so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ace occupying le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mat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m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bercul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ysticerc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AUSES/ RISK FACTORS FOR EPILEP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690560"/>
            <a:ext cx="518184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irculatory disturb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rebro-vascular accident (strok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genital/gene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formations and develop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ects of the brain (hydrocephalus,microcephaly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scular anoma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berous scleros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171840" y="1690560"/>
            <a:ext cx="51814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urofibromatosis (von Recklinghausen dise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ephalo-trigeminal facial angiomatosis (eg Sturge-Weber Syndro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generative condi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ent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immune disorders e.g. S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RIGGERING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adherence to treatment (missed do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pping treatment sudde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eep depri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ute inf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ickering lights e.g. televisions, computers, disco lights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cohol intake/withdraw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tance abuse/withdraw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rmonal imbalances (catamenial-seizur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hyd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lyte imbalance like hyponatra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otional St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erventi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hau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hree major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al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ized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classified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OCAL SEIZ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originate in neural networks limited to one hemisphere that may be discrete or more diffuse and not necessarily confined to the corte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can spread to other regions of the brain to become generalized with loss of conscious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al seizures are commonly classified according to their clinical features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uras, Motor, Autonomic and Dys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OCAL SEIZ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ras are subjective and may be sensory or experiential and reflect the initial seizure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Sensory a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nsory aura involves a sensation without an objective clinical sign and is dependent on the area of the brain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matosensory aura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ngling, numbness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ura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ual halluc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uditory auras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zzing, ringing, dru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OCAL SEIZ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lfactory auras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pleasant o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ustatory auras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idic, bitter, salty, sweet, or metallic ta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pigastric auras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omfort, emptiness, tightness, chu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phalic auras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ghtheadedness or head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Experiential a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ffective auras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r, depression, joy and an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OCAL SEIZ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llusory a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nemonic aura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memory phenomena such as feelings of familiarity and unfamilia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llucinatory a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 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tor features involve motor manifestations presenting as an increase (positive) or decrease (negative) in muscl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ermotor, hypomotor, at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EFINITION OF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pilep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pilepsy is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ronic brain disord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eated unprovoked seiz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ccurring more than twice in a y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sorder may arise from many and varied causes, however in many cases no specific cause can be ident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OCAL SEIZ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 automatis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coordinated, repetitive motor activity usually occurring when cognition is impa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o-aliment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lip smacking, lip pursing, chewing, swallowing, cli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ual or ped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bilateral or unilateral distal or proximal movements, including fumbling, tapping, manipulating movements of hands or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stur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ften unilateral, fumbling or exploratory movements with the hand intended to lend emotional tone to commun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OCAL SEIZ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lastic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rsts of laughter or giggling, usually without appropriate affective tone and described as 'mirthless'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ocal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repetitive sounds such as shrieks or gr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bal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or repetitive words, phrases or brief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cryst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utbursts of cr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utonomic featur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characterized by autonomic phenomena, which can involve cardiovascular, gastrointestinal, vasomotor, and thermoregulatory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GENERALIZED SEIZ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nic – Cl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s of consciousness at the on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e tonic ph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cessation of breathing occurs as all the muscles go into spasm and may be accompanied by a c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e clonic pha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ulsive movements are marked by alternate contraction and relaxation of the mus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ngue biting and/or incontinence of urine/stool may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regaining consciousness the patient is confused and may feel tired or have a heada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GENERALIZED SEIZ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nic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s of conscious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dden stiffening of the extensor muscles and falling if sta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 fixes the limbs in a strained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ngue biting may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ghtening of the jaw/clenching of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GENERALIZED SEIZ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nic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a form of generalized seizures characterised by repeated rhythmic movements or je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yoclonic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consist of sudden brief muscle contractions that may occur singly or in cluster affecting any group of muscles unilaterally or bilateral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types of seizures may be repeated many times over a long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GENERALIZED SEIZ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10240" indent="-208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ab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024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ly affect children in the school going age between 5 -15 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024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manifest at onset with loss of consciousness, staring blankly with or without blinking or lip-smacking lasting for 5-10 seconds that may be mistaken for day drea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024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may go into spontaneous remission during adolesc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024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may co-exist with tonic-clonic seizures in the sam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0240" indent="-208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ypical abs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024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typical absence seizure has less abrupt onset and prolonged loss of consciousness of loss of awareness than typical absence seiz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GENERALIZED SEIZ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onic Seizures (Drop Attac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seizures are characterised by sudden onset of muscle flaccidity involving the head,(head drop) trunk or limbs with postural collapse. This may result in facial and other inju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very short, lasting only seconds and may occur several times in a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IAGNOSIS AND INVESTIGATION OF EPILEP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ailed Seizur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set, timing, frequency, trig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t Episode- pre, ictal and post ictal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izur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has been done until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natal, birth and post natal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al 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M/SH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y/social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5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IAGNOSIS AND INVESTIGATION OF EPILEP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 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tal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ull neurological examination should be d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ination of the cranial nerves and the motor system- symmetry of muscle power, muscle tone and tendon refle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for any signs of drug toxicity e.g. drowsiness, sleepiness, ataxia, nystagmus, and cerebellar dys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IAGNOSIS AND INVESTIGATION OF EPILEP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haem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um electrolytes (sodium, potassium, calcium and magnesi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urea 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er Function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reening for infections (e.g. malaria, H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rebrospinal fluid examination as long as there are no contra-indications for lumbar pun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EFINITION OF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amenial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izures occurring at specific times during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nstrual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tive epileps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wo or more unprovoked seizures, more than twenty four hours apart in on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eakthrough seiz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pileptic seizure that occurs despite adequate use of antiepileptic drugs . This is often as a result of changing drugs, another illness or other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IAGNOSIS AND INVESTIGATION OF EPILEP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T brain scan in acute deterioration or acute development of foca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-encephal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I brain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1024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treatment with one dru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024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treatment using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west recommended do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tible with the medication prepa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024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dually adjust dosag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 two to six week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als until complete seizure control or the maximum pharmacologically tolerated dose is reach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024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s is the patient’s minimum maintenance do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024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no seizure control is achieved after attaining the maximum dosage of the initial drug, a second drug should be added while considering gradually reducing or maintaining the initial drug depending on the clinical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enobarb (60-90 mg/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enytoin (200mg/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bamazepine (400mg/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votril (clonazepam) (1mg/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motrigine (100mg/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dium valproate (400-600mg/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baz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a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TATUS EPILEPTI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tus epileptic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ndition resulting either from the failure of the mechanisms responsible for seizure termination or from the initiation of mechanisms, which lead to abnormally, prolonged seiz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ulsive Status epilepticus is a common medical emergency and one of the most serious neurological emergencies associated with high mortality and morbid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characterized b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inuous, convulsive seizures lasting more than 5 minutes or two or more seizures during which the patient does not return to baseline conscious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ANAGEMENT OF STATUS EPILEPTI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irway, Breathing and Circula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be managed as per standard emergency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lucos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hypoglycaemia is confirmed or suspected, administer 2-5 mls/kg of 10% dextrose intravenously with thiam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azep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er 0.3mg/kg of diazepam intravenously over an approximate rate of 1mg/min, until seizures stop or 10m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ay be repeated after 10 minutes if the seizures per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ANAGEMENT OF STATUS EPILEPTI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intravenous access is difficult, diazepam may be given rectally via a catheter or syringe at a dose of 0.5 mg/kg or using diazepam rectal tu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.B. Do not give diazepam intramuscul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seizures persist 20 minutes after administration of the second dose of diazepam, consider us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enobarbital or phenyt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enyt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er a loading dose of phenytoin intravenously a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15-18 mg/kg over a period of 30 minutes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xceed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,000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ANAGEMENT OF STATUS EPILEPTI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3920" indent="-222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.B. Dextrose solutions may cause precipitation of phenytoin; therefore avoid administering phenytoin using the same IV line used for dextrose based maintenance flui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2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 not give phenytoin intramuscularly or in dextrose containing flu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2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enobarbi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2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mg/kg as a loading dose IM or slow IV infusion (when given IV, closely monitor the pulse, respiration and blood press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2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 not use phenobarbitone or phenytoin for patients with epilepsy who are currently using either drug as part of their epilepsy treat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2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ANAGEMENT OF STATUS EPILEPTI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tenance d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the loading dose is given, continue with the maintenance dose of the drug u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enytoin will be administered at 2.5mg/kg twice a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enobarbital at 3-5 mg/kg once a 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patient is able to tolerate oral medication, provide the maintenance or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ANAGEMENT OF STATUS EPILEPTI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B: If the seizures are refractory to second line treatment, consider use of continuous infusion of a benzodiazepine such a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dazol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use of anaesthetic agents lik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op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105156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End of Presenta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1960" y="4589280"/>
            <a:ext cx="105156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5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EFINITION OF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n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hythmic jerking involving a part of the body (usually a li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miclo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hythmic jerking involving only one side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muscle tone, usually lasting for seconds to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ASE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20 year old college student reports episodes of jerking of her angle of the mouth lasting for 5-10minutes which comes and goes on average twice a month, without loss of consciousness since she was 18 years old. She was born at full term a normal pregnancy and deliv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 has had febrile convulsions from the  age of 18 months up to the age of 3 years some which were prolon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vertheless she had normal development and has been doing well with her studies. Examination was normal in all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this young woman suffer from epileps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ype of seizure does she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classification of her seiz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in one of the episode the facial twiching is followed by generalized stretching, flinging of the all limbs and grunting. How will you classify her no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EFINITION OF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838080" y="1413000"/>
            <a:ext cx="1051560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pileptic sp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dden flexion, extension or mixed flexion-extension of proximal and truncal muscles, lasting 1-2 seconds, typically occurs in a s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yst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tained contractions of both agonist and antagonist muscles producing twisting movements, may produce abnormal pos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yocl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ingle or short cluster of brief muscle contractions (jerks). Each jerk is typically milliseconds in d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EIZ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iz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izure is a transient occurrence of signs and/or symptoms due to abnormal excessive or synchronous neuronal activity in the br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izure therefore represents the physical manifestations of this abnormal uncontrolled electrical activity of the brain cortex which is usually self -lim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izure manifestations are dependent on the site of the excessive neuronal discharge and may b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tor, sensory, psychic and/or autonom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EIZ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dromal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phase begins a few minutes to hours or even days before the actual seizure and should not be confused with the au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romal symptoms occur in up to 40% of subjects and may include headache, irritability, insomnia, bad temper, depression or increased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EIZ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38080" y="1413000"/>
            <a:ext cx="1051560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05560" indent="-204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4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ura precedes the clinically apparent seizure by seconds or a few minutes. It is the beginning of the seizure and signals the focal onset of the seiz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4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ymptoms depend on the location of this foc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4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eelings of the aura are often vague and indescribable, and may lead to extreme anxiety or f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4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nge Epigastric sensations, dreamlike experiences, unpleasant smells, etc. may occ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4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tient remembers the aura very well, and although he/she will not always be able to recount it, he/she can affirm the presence of it, as it happens before consciousness is l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EIZ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207720" indent="-206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izure (ic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7720" indent="-206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eizures where there is loss of consciousness, the patient is unable to give any information about the actual ict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7720" indent="-206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get the description of the ictus we have to depend on the account of the witnesses who have seen the actual seizure since the patient has no memory of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7720" indent="-206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ant characteristics to note include t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ation of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quency of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e of occurrence of the seizure and its relation to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5T23:10:36Z</dcterms:created>
  <dc:creator>Jebet</dc:creator>
  <dc:description/>
  <dc:language>en-US</dc:language>
  <cp:lastModifiedBy>sammiehngigs kiurire</cp:lastModifiedBy>
  <dcterms:modified xsi:type="dcterms:W3CDTF">2020-11-09T08:43:42Z</dcterms:modified>
  <cp:revision>78</cp:revision>
  <dc:subject/>
  <dc:title>MEDICAL EMERGENC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Widescreen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40</vt:r8>
  </property>
</Properties>
</file>