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828B-1B48-42EB-A616-4D825BFE8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s and cancer are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eading causes of death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s is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eading cause of mortality in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C27E-27C1-450A-A732-501D4715D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Atrial fibrillation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is an irregular and often rapid heart rate that occurs when the two upper chambers of your heart experience chaotic electrical signals. The result is a fast and irregular heart rhythm. The heart rate in 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atrial fibrillation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may range from 100 to 175 beats a min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72F9-0F92-4C74-BF9E-E3E0A3CAF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fontCogLatoBold"/>
              </a:rPr>
              <a:t>Spatial perception is the ability to be aware of your relationships with the environment around you (exteroceptive processes) and with yourself (interoceptive proce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60A8-CD98-4817-9834-2CD93B3BA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5156"/>
                </a:solidFill>
                <a:latin typeface="Arial"/>
              </a:rPr>
              <a:t>The partial thromboplastin time (</a:t>
            </a:r>
            <a:r>
              <a:rPr b="1" lang="en-US" sz="1200" spc="-1" strike="noStrike">
                <a:solidFill>
                  <a:srgbClr val="5f6368"/>
                </a:solidFill>
                <a:latin typeface="Arial"/>
              </a:rPr>
              <a:t>PTT</a:t>
            </a:r>
            <a:r>
              <a:rPr b="0" lang="en-US" sz="1200" spc="-1" strike="noStrike">
                <a:solidFill>
                  <a:srgbClr val="4d5156"/>
                </a:solidFill>
                <a:latin typeface="Arial"/>
              </a:rPr>
              <a:t>; also known as activated partial thromboplastin time (aPTT)) is a screening test that helps evaluate a person's ability to appropriately form blood clots. It measures the number of seconds it takes for a clot to form in a sample of blood after substances (reagents)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normal PTT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is between 25 to 35. 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PTT ranges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are used to classify heparin dosing schemes as low or high intensity and to ensure effective do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The international normalised ratio (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INR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) is a laboratory measurement of how long it takes blood to form a clot. It is used to determine the effects of oral anticoagulants on the clotting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An 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INR range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of 2.0 to 3.0 is generally an effective therapeutic </a:t>
            </a:r>
            <a:r>
              <a:rPr b="1" lang="en-US" sz="1200" spc="-1" strike="noStrike">
                <a:solidFill>
                  <a:srgbClr val="222222"/>
                </a:solidFill>
                <a:latin typeface="Arial"/>
              </a:rPr>
              <a:t>range</a:t>
            </a: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 for people taking warfarin for disorders such as atrial fibrillation or a blood clot in the leg or l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A61C-D639-4C19-92B5-D1657DEFA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DC3-5D06-4431-AC2F-5F2005E0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9E5-6C46-4ABB-97EF-D9A8DA68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12A-F425-45BE-89F3-F699A68F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DCB-A96C-4E05-A952-91871BDE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5CA7-BF22-4612-9A6A-0B5D13C5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A724-0C05-4B2B-9EA9-A12060C9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1083-F10F-44A7-B045-04EAB2C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71D8-57E8-4658-9F27-894FA7B4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712B-A617-402E-9819-4A87F117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6B06-875B-461A-9DFE-0B264360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D0A4-9605-4FBF-ACE8-0CABA88F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5A9-DDB9-45B3-B6A8-D64A8134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89C2-B0B5-4856-B848-1458929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593D-1105-423B-AC48-95E7C14F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96F2-A51A-484E-B066-F84F6D09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013D-CF9C-4D11-8198-4754056A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18E5-70A3-4B81-A7F1-D85BE7B6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2E5-D752-4BE1-9C55-81B272AC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674-0F16-4155-A3C7-AC008FCC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EAE-5BAF-480E-8A2F-CD0CF0E2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894-4E25-44E7-B6D0-EAAC032F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0B1-D923-4FDA-91CD-6267A2FA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6AC-1B51-41E2-862F-6DCBBF3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A11-8E04-4077-B759-5F9A17AA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2AAA-50FC-453E-9A21-AF89209B5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AC4E-2285-4F00-8274-6EE1284C9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REBROVASCULAR ACCIDENT/BRAIN AT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4290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UEL NGIGI 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M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ology:Cerebral cir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to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BF constant at 50ml/100g brain/minute mean of 60 to 160mmh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alues &lt;16 to 18 mL/100 g tissue per min cause infarction within an hou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bove increases CB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low  ischaemia and later on infar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so know as stroke and brain attacks, is a sudden loss of neurological function caused by an interruption of blood flow to the bra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is a non-traumatic brain injury caused by occlusion or rupture of cerebral blood vessels that results in sudden neurological deficit characterized by  loss of motor contr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rd leading cause of death in the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wide 2nd leading cause of mort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ke incidence has been declining world w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ed States African Americans twice the risk of dying from stroke than the Wh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–modif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(women more likely to di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ce (African Americ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y/ Family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iable 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ten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s stroke risk 3 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erates atheroscle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trokes occur 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hypertension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rderline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blood pressure -50% RR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relative risk reductio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iable 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ymptomatic carotid ste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betes melli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rt disease, atrial fibril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y alcohol consump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coagul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lipid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iable risk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contraceptiv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in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ckle cel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% increase in the risk of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rses health study showed reduction after quit smo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iology and Pathophys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in requires continuous supply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glucose for neurons to fun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lood flow is interrupted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logic metabolism is altered in 3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bolism stops in 2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death occurs in 5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herosclerosis is a major cause of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lead to thrombus formation and contribute to emboli 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s for Atheroscle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Fig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ent Ischemic At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orary focal loss of neurologic function caused by ischemia (analogous to angin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resolve within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due to micro-emboli that temporarily block blood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rning sign of progressive cerebrovascular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 of risk of stroke within 3mo but highest risk is within the first 2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An adult brain weighs between 1.35 and 1.4 kilograms (k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volume of about 1200 c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Brain size is not directly correlated with intellig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t is not the physical size of the brain th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etermines intelligence—it is the number of active synap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15-</a:t>
            </a:r>
            <a:fld id="{CC199C0E-4E48-444B-B43A-48348C5430A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ient Ischemic At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the core area of ischemia is a border zone of reduced blood flow where ischemia is potentially reversi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dequate blood flow can be restored early (&lt;3 hours) and the ischemic cascade can be interrup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brain damage and less neurologic function loss can be achie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cation based on underlying pathophysiologic find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che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mbo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o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morrha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Types of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Fig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chem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 of inadequate blood flow to brain due to partial or complete occlusion of an ar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itute 85% of all stro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atients with ischemic stroke do not have a decreased level of consciousness in the first 24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s often worsen during first 72 hours due to cerebral ed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chem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2949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tic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mbosis occurs in relation to injury to a blood vessel w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od cl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of thrombosis or narrowing of the blood ves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ommon cause of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tic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-thirds are associated with HTN and diabe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preceded by a T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chem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41732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bolic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bolus lodges in and occludes a cerebral ar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in infarction and edema of the area supplied by the ves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most common cause of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ity of emboli originate in the heart, with plaque breaking off from the endocardium and entering circu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chem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bolic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ith sudden, rapid occurrence of severe clinical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usually remains conscious although may have a headach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urrence is common unless the underlying cause is aggressively tre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orrhag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 for approximately 15% of all stro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 from bleeding into the brain tissue itself or into the subarachnoid space or ventr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orrhag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racerebral hemorrh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eding within the brain caused by a rupture of a vess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ypertension is the most important ca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only occurs during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orrhag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cerebral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Often a sudden onset of symptoms that  progress over minutes to hours because of ongoing bleed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festations include neurologic deficits, headache, decreased levels of consciousness, and HT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15_01aa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morrhagic Stro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arachnoid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eding into cerebrospinal space between the arachnoid and pia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caused by rupture of a cerebral aneurys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nical Manifestations of Strok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many body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r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lectual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tial-perceptual alt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Motor Func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bvious effect of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nclude impairment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y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 and spe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care abil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Motor Func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acteristic motor deficits (contra-later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s of skilled voluntary m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irment of integration of mov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ations in muscle tone (flacci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spast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ations in reflexes (hypo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hyp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Communicatio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may experience aphasia when stroke damages the dominant hemisphere of the b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hasia: total loss of comprehension and use of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sphasia: difficulty with comprehension and use of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Communicatio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sarthr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is a motor speech disorder in which the muscles that are used to produce speech are damaged, paralyzed, or weaken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The person with </a:t>
            </a:r>
            <a:r>
              <a:rPr b="1" lang="en-US" sz="2800" spc="-1" strike="noStrike">
                <a:solidFill>
                  <a:srgbClr val="222222"/>
                </a:solidFill>
                <a:latin typeface="Arial"/>
              </a:rPr>
              <a:t>dysarthria</a:t>
            </a: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 cannot control his or her tongue, larynx, vocal cords, and surrounding muscles, which makes it difficult for the person to form and pronounce w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ffect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 is feeling or e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have difficulty controlling their emo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al responses may be exaggerated or unpredict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ression , impaired body image and loss of function can make this w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frustrated by mobility and communication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Intellectual Functio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ory and judgment may be impa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ft-brain stroke: more likely to result in memory problems related to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festations of Right-Brain and Left-Brain Stroke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543800" y="6400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. 56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Fi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Spatial-Perceptual Alterations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ke on the right side of the brain is more likely to cause problems in spatial-perceptual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 this may occur with left-brain stroke as w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15_01ba"/>
          <p:cNvPicPr/>
          <p:nvPr/>
        </p:nvPicPr>
        <p:blipFill>
          <a:blip r:embed="rId1"/>
          <a:stretch/>
        </p:blipFill>
        <p:spPr>
          <a:xfrm>
            <a:off x="304920" y="1616040"/>
            <a:ext cx="8686800" cy="508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Spatial-Perceptual Alterations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41768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tial-perceptual problems may be divided into four categ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371600" indent="-5713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rect perception of self and illness (may deny illness or body p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71600" indent="-5713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neous perception of self in space (e.g., neglect all input from affected side; distance judge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71600" indent="-57132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bility to recognize an object by sight, touch, or he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71600" indent="-57132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bility to carry out learned sequential movements on com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Stud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is the primary diagnostic test used after a stro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tests may include, urinalysis, blood glucose level, full hemogram, blood chemistry, blood cholesterol and lipid profile, thyroid function test, cardiac evaluation and lumbar pun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Preven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tion and management of modifiable risk factors to prevent a stro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e management of patients with known risk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Prevention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platelet drugs (usually Aspirin) to prevent stroke in those with history of T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interventions for those with TIAs from carotid disease 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ranial-intracranial by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fi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ed level of consciousness; G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kness, numbness, or paraly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ch or visual disturb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head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r ↓ heart 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piratory di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equal pupi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al drooping on affected 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y 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dder or bowel incontin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usea and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entions – Initial: AB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patient airway is cl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den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pulse oxime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adequate oxyge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V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ain BP according to guid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treat if SBP &gt; 220 or MAP &gt; 13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 =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BP + 2 (DB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              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entions – Init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ediate CT scan to determine cause (ischemic vs hemorrhag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to control I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d &amp; neck in alignment (avoid flex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levate head of bed 30 </a:t>
            </a:r>
            <a:r>
              <a:rPr b="0" lang="en-US" sz="2400" spc="-1" strike="noStrike">
                <a:solidFill>
                  <a:srgbClr val="000000"/>
                </a:solidFill>
                <a:latin typeface="Abadi MT Condensed Light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if no symptoms of shock or inju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 management, diuretics if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entions – Initi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itute seizure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hyperthermia (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↑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rebral metabol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cipate thrombolytic/fibrinolytic therapy for ischemic strok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990720"/>
            <a:ext cx="853416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diate goal is to optimize cerebral perfusion in the surrounding ischemic penum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enting the common complications of bedridden pts—infections (pneumonia, urinary tract, and skin) and DVT and P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 should be lowered if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here is malignant hypertension(220/120mmH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5_01ca"/>
          <p:cNvPicPr/>
          <p:nvPr/>
        </p:nvPicPr>
        <p:blipFill>
          <a:blip r:embed="rId1"/>
          <a:stretch/>
        </p:blipFill>
        <p:spPr>
          <a:xfrm>
            <a:off x="152280" y="237960"/>
            <a:ext cx="8763120" cy="59342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A2CF-01DB-4D93-B1B6-03DCF207E1B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ver is detrimental and should be treated with antipyre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um glucose should be monitored and kept at &lt;11.1 mmol/L (200 mg/d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ema peaks on the second or third day but can cause mass effect for ~10 day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restriction and intravenous mannitol may be used to preven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lytic/fibrinolytic therapy with recombinant tissue plasminogen activator (tPA) is used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establish blood flow and prevent cell death in patients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sche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ro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lytic/fibrinolytic therapy given within 3 hours of the onset of symp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 ischemic strokes (24 hr after t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plate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coagulants (Heparin, coumad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maintain therapeutic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TT, IN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entions – Ongo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vital signs and neurologic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of conscious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r and sensory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pil size and reactiv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at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diac rhythm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Acute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pproximately 10-15% of patients who experience a stroke will have seizures, usually within 24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urgical interven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mmediate evacuation of hematomas that result from hemorrhagic 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p or wrap aneurysm to prevent rebl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aborative Care</a:t>
            </a:r>
            <a:br>
              <a:rPr sz="4400"/>
            </a:br>
            <a:r>
              <a:rPr b="0" i="1" lang="en-US" sz="3600" spc="-1" strike="noStrike">
                <a:solidFill>
                  <a:srgbClr val="ffff00"/>
                </a:solidFill>
                <a:latin typeface="Calibri"/>
              </a:rPr>
              <a:t>Rehabilitation 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the stroke has stabilized for 12-24 hours, collaborative care shifts from preserving life to lessening disability and attaining optimal 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read contraindications of thrombolytic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nd of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15_05a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5_06a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609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5_11"/>
          <p:cNvPicPr/>
          <p:nvPr/>
        </p:nvPicPr>
        <p:blipFill>
          <a:blip r:embed="rId1"/>
          <a:stretch/>
        </p:blipFill>
        <p:spPr>
          <a:xfrm>
            <a:off x="152280" y="22860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5_12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1:08:34Z</dcterms:created>
  <dc:creator>Amayo Erastus</dc:creator>
  <dc:description/>
  <dc:language>en-US</dc:language>
  <cp:lastModifiedBy>sammiehngigs kiurire</cp:lastModifiedBy>
  <dcterms:modified xsi:type="dcterms:W3CDTF">2020-09-24T11:00:55Z</dcterms:modified>
  <cp:revision>82</cp:revision>
  <dc:subject/>
  <dc:title>Cerebrovascular Diseases</dc:title>
</cp:coreProperties>
</file>