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0.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6.png" ContentType="image/png"/>
  <Override PartName="/ppt/media/image15.png" ContentType="image/png"/>
  <Override PartName="/ppt/media/image5.png" ContentType="image/png"/>
  <Override PartName="/ppt/media/image10.png" ContentType="image/png"/>
  <Override PartName="/ppt/media/image3.png" ContentType="image/png"/>
  <Override PartName="/ppt/media/image8.png" ContentType="image/png"/>
  <Override PartName="/ppt/media/image14.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897A-5E1C-46A4-89CB-29D6D6CA44D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08FC-7DFD-4112-919A-1C2F45871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ocalcemia is the main trigger of PTH</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239E-2FE7-42ED-B1E4-E7C1D9A02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9DF0-735C-4728-BB9C-1BBE276AF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E5DD-9F56-464E-9DF4-8BEECFECD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636F-D91D-4561-9C69-FCBF86112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3F79E-7B48-4F06-AB66-A0197A36A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3C180-714A-4B4E-97C6-5017594F6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ABD24-F840-41E5-8F42-030071313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77B2C-91CC-4B31-81E2-6E0DBC042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8E231-0305-45CC-B122-F4DED3406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C33F3-FDC0-44C7-929D-3ED89FCF3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35D61-2665-45B5-AC6F-85EAABC61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30FC1-974B-459F-B450-448A1F7F0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1BFE4-9446-48E8-8271-559DCE573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3CF29-E55D-4BAD-A217-680D48565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FBE28-FF1B-4AB8-8E60-43447A245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5FF50-B7FD-4CD6-B9E3-5BE3E3AA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9A896-83EE-43EB-B7D1-1A675F198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E8B1D-D459-430D-A94B-8F4BE05ED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6F4FD-2B14-484A-B5E4-B3E9BFC18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BF0DF-BF55-437A-99BF-CF2922711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AFDB1-1D9D-4334-9BDF-88A8C9EE9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2C4D14-2BD9-45BE-9004-8AC5D6A18B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75541-DD44-4F1E-AAEB-76786BAF2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0D957-11C1-4E77-97C1-667640724C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E51B5-C933-48BB-88FC-41F3DC0B9C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45867A-C69C-4163-B2D7-4B4C314AC2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D8080-B964-4023-B4F6-ECC02E28A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398AB7-A901-4373-8528-E91DE572B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A93C1-F6EC-42AB-A485-7B3EDFADF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9B931-157C-4DAB-965F-5A2583026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24DD2-2788-4E47-B20B-8489574DC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625B3-B48E-4BCD-938D-F8E655420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319A62-5469-45FF-A63F-8E533D1424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F3FA4A-E2DB-4E7F-AAD7-9C9A861C9B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136E19-3828-4458-AEDD-289E50B57C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EAF485-A054-47ED-8DBD-E40DC63DEE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87914-FE93-45FE-9E58-692F4D908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306B8-390E-41F5-85DE-63140C79C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504DAB-D6F0-42D5-AEAE-52FC769BA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E04705-814E-4530-AD6B-1D14F8C7A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EEF59B-9159-4019-B169-D194EF5DB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BF83C-3D02-479C-B65B-D504117F6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205C83-E6AF-40FA-AA4A-EC9D5DC42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A7D2E-794C-473B-A1B5-4B79387560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91C43-EF9A-4852-9194-A6E736E8EE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3566B0-475D-43EB-8D53-E952065854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72EEA-512E-4A8A-8796-D414B995F0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6F835-1E85-4130-AAC9-8C864052C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30CEF-00CC-4633-9E5E-0C6421122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09A4D-313B-4D08-9A1C-23B87CDBD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9093-E48D-4AB7-BCF0-256F49CD8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67D67-7B49-422E-820C-9C00AADD1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5FDA-08DD-402D-9048-5A452496FD5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D76A-A903-4E4D-A10E-188B58A72C1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FEBF-BC13-4FC3-AFBD-5169D806476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2488-470D-4531-97D6-0DA9EA35B16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6400" y="1371600"/>
            <a:ext cx="7858440" cy="182880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FLORENC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Kwashiorkor </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tein deprivation is relatively greater than the reduction in total calor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rked protein deprivation is associated with severe loss of the visceral protein component and the resultant hypoalbuminemia  gives rise to generalized or dependent edem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ight is typically 60% to 80% of norm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true loss of weight is masked by the increased fluid retention (edem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ive sparing of subcutaneous fat and muscle mas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acteristic skin lesions with alternating zones of hyperpigmentation , areas of desquamation and hypopigmentation , giving a flaky paint appearanc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ir changes include overall loss of colour or alternating bands of pale and darker hair, straightening, line texture, and loss of firm attachment to the scalp.</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larged fatty liv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pathy , listlessness , loss of appeti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  vitamin deficiencies pres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ects in immunity and secondary infec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ondary PEM</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on complication in advanced cancer and AI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ysical signs inclu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pletion of subcutaneous fat in the arms , chest wall , shoulders or metacarpal reg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sting of the quadriceps femoris  and deltoid musc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kle or sacral edem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orphology in PEM</a:t>
            </a:r>
            <a:br>
              <a:rPr sz="4500"/>
            </a:b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entral anatomic changes inclu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owth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ipheral edema in kwashiorko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ss of body fat and atrophy of muscle more marked in marasmu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Kwashiorkor</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ver is enlarged and fatty , superimposed cirrhosis is rar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all bowel shows a decrease in the mitotic index in the crypts of the glands , associated with mucosal atrophy and loss of villi and microvilli.</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current loss of small intestine enzymes occur most often manifested as disaccharidase deficienc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us infants may initially not respond to a full strength milk based die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th treatment mucosal changes are reversibl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ne marrow in both are hypoplastic mainly because of decreased no. of red cell precursor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emia is usually present , most often microcytic hypochromic.</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t a concurrent deficiency of folates may lead to a mixed microcytic macrocytic anaemi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ain: In some infants who suffer PEM during the first 1-2 years show cerebral atrophy, reduced number of neurons, impaired myelination of the white matter.</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changes: </a:t>
            </a:r>
            <a:endParaRPr b="0" lang="en-US" sz="2400" spc="-1" strike="noStrike">
              <a:solidFill>
                <a:srgbClr val="000000"/>
              </a:solidFill>
              <a:latin typeface="Constantia"/>
            </a:endParaRPr>
          </a:p>
          <a:p>
            <a:pPr marL="270000" indent="-2700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ymic and lymphoid atrophy (More marked in kwashiorkor).</a:t>
            </a:r>
            <a:endParaRPr b="0" lang="en-US" sz="2400" spc="-1" strike="noStrike">
              <a:solidFill>
                <a:srgbClr val="000000"/>
              </a:solidFill>
              <a:latin typeface="Constantia"/>
            </a:endParaRPr>
          </a:p>
          <a:p>
            <a:pPr marL="270000" indent="-2700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tomic alterations induced by intercurrent infections, </a:t>
            </a:r>
            <a:endParaRPr b="0" lang="en-US" sz="2400" spc="-1" strike="noStrike">
              <a:solidFill>
                <a:srgbClr val="000000"/>
              </a:solidFill>
              <a:latin typeface="Constantia"/>
            </a:endParaRPr>
          </a:p>
          <a:p>
            <a:pPr marL="270000" indent="-2700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ciencies of other required nutrients such as iodine and vitami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KWASHIORKOR</a:t>
            </a:r>
            <a:endParaRPr b="0" lang="en-US" sz="2400" spc="-1" strike="noStrike">
              <a:solidFill>
                <a:srgbClr val="000000"/>
              </a:solidFill>
              <a:latin typeface="Constantia"/>
            </a:endParaRPr>
          </a:p>
        </p:txBody>
      </p:sp>
      <p:sp>
        <p:nvSpPr>
          <p:cNvPr id="238"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17b"/>
              </a:solidFill>
              <a:latin typeface="Constantia"/>
            </a:endParaRPr>
          </a:p>
        </p:txBody>
      </p:sp>
      <p:sp>
        <p:nvSpPr>
          <p:cNvPr id="239"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infant shows generalised oedema, seen in the form of puffiness of the face, arms and legs.</a:t>
            </a:r>
            <a:endParaRPr b="0" lang="en-US" sz="2200" spc="-1" strike="noStrike">
              <a:solidFill>
                <a:srgbClr val="000000"/>
              </a:solidFill>
              <a:latin typeface="Constantia"/>
            </a:endParaRPr>
          </a:p>
        </p:txBody>
      </p:sp>
      <p:pic>
        <p:nvPicPr>
          <p:cNvPr id="240" name="Picture 2" descr=""/>
          <p:cNvPicPr/>
          <p:nvPr/>
        </p:nvPicPr>
        <p:blipFill>
          <a:blip r:embed="rId1"/>
          <a:stretch/>
        </p:blipFill>
        <p:spPr>
          <a:xfrm>
            <a:off x="4572000" y="568440"/>
            <a:ext cx="3276720" cy="605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Anorexia Nervosa and Bulimia</a:t>
            </a:r>
            <a:endParaRPr b="0" lang="en-US" sz="36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orexia nervosa is self-induced starvation, resulting in marked weight los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limia is a condition in which the patient binges on food and then induces vomiting.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eating disorders occur primarily in previously healthy young women who have developed an obsession with attaining thinnes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adequate diet should contain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Energy in the form of carbohydrates , fats , protein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Essential aminoacids and fatty acids to be used as building blocks for synthesis of structural and functional proteins and lipids.</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 Vitamins and minerals- as coenzymes or hormones in vital metabolic pathways</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nical finding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menorrhea,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common findings, related to decreased thyroid hormone release, include cold intolerance, bradycardia, constipation, and changes in the skin and hai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kin becomes dry' and scaly and may be yellow owing to excess carotene in the blood.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dy hair may be increased but is usually fine and pale (lanugo).</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ne density is decreased</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 expected with severe PEM, anemia, lymphopenia, and hypoalbuminemia may be present.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major complication of anorexia nervosa is an increased susceptibility to cardiac arrhythmia and sudden death, resulting in all likelihood from hypokalemia.</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ULIMIA</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bulimia, binge eating is the norm. Huge amounts of food, principally carbohydrates are ingested, only to be followed by induced vomi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though menstrual irregularities are common, amenorrhea occurs in less than 50% of bulimic patien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ajor medical complications  (1) electrolyte imbalances (hypokalemia),which predispose the patient to cardiac arrhythmias; (2) pulmonary aspiration of gastric contents; and (3) esophageal and stomach cardiac ruptur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Vitamin Deficiencies</a:t>
            </a:r>
            <a:endParaRPr b="0" lang="en-US" sz="36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teen vitamins are necessary for health; four-A, D, E, and K-are fat-soluble, and the remainder are water solu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ertain vitamins can be synthesized endogenously-vitamin D from precursor steroids, vitamin K and biotin by the intestinal microflora, and niacin from tryptophan, an essential amino acid.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VITAMIN A</a:t>
            </a:r>
            <a:endParaRPr b="0" lang="en-US" sz="4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fat-soluble vitamin A is actually a group of related natural and synthetic chemicals that exert a hormone-like activity or function. </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inol is the most important form of vitamin A; it is the transport form and, as the retinol ester, also the storage form. It is oxidized in vivo to the aldehyde retinal (the form used in visual pigment) and retinoic acid.</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ortant dietary sources of vitamin A are animal-derived (e.g., liver, fish, eggs, milk, butter). Yellow and leafy green vegetables such as carrots, squash, and spinach .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inoids, refers to both natural and synthetic chemicals that are structurally related to vitamin A but do not necessarily have vitamin A activit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 with all fats, the digestion and absorption of carotenes and retinoids require bile, pancreatic enzymes, and some level of antioxidant  activity in the foo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inol, whether derived from ingested esters or from </a:t>
            </a:r>
            <a:r>
              <a:rPr b="0" lang="el-GR" sz="2400" spc="-1" strike="noStrike">
                <a:solidFill>
                  <a:srgbClr val="000000"/>
                </a:solidFill>
                <a:latin typeface="Constantia"/>
              </a:rPr>
              <a:t>β</a:t>
            </a:r>
            <a:r>
              <a:rPr b="0" lang="en-US" sz="2400" spc="-1" strike="noStrike">
                <a:solidFill>
                  <a:srgbClr val="000000"/>
                </a:solidFill>
                <a:latin typeface="Constantia"/>
              </a:rPr>
              <a:t>-carotene , is transported in chylomicrons to the liver for esterification and storage.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than 90% of the body's vitamin A reserves are stored in the liver, predominantly in the perisinusoidal stellate (lto) cell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healthy persons who consume an adequate diet, these reserves are sufficient for at least 6 months' deprivatio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inoic acid, on the other hand, can be absorbed unchanged; it represents a small fraction of vitamin A in the blood and is active in epithelial differentiation and growth but not in the maintenance of vis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dietary intake of vitamin A is inadequate, the retinol esters in the liver are mobilized, and released retinol is then bound to a specific retinol-binding protein (RBP), synthesized in the liv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uptake of retinol by the various cells of the body is dependent on surface receptors specific for RBP, rather than for the retino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inol is transported across the cell membrane, where it binds to a cellular retinol-binding protein, and the RBP is released back into the bloo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humans, the best-defined functions of Vitamin A are:</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intaining normal vision in reduced light</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tentiating the differentiation of specialized epithelial cells, mainly mucus-secreting cells</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hancing immunity to infections, particularly in children and particularly measles</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tinoids, </a:t>
            </a:r>
            <a:r>
              <a:rPr b="0" lang="el-GR" sz="2400" spc="-1" strike="noStrike">
                <a:solidFill>
                  <a:srgbClr val="000000"/>
                </a:solidFill>
                <a:latin typeface="Constantia"/>
              </a:rPr>
              <a:t>β</a:t>
            </a:r>
            <a:r>
              <a:rPr b="0" lang="en-US" sz="2400" spc="-1" strike="noStrike">
                <a:solidFill>
                  <a:srgbClr val="000000"/>
                </a:solidFill>
                <a:latin typeface="Constantia"/>
              </a:rPr>
              <a:t>-carotene, and some related carotenoids have shown to function as photoprotective and antioxidant agent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visual process involves four forms of vitaminA-containing pigments: rhodopsin in the rods, and three iodopsins in cone cell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ynthesis of rhodopsin from retinol involves (1) oxidation to all-trans-retinal, (2) isomerization to 11-cis-retinal, and (3) interaction with the rod protein, opsin, to form rhodops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a photon of light impinges on the dark-adapted retina, rhodopsin undergoes a sequence of configurational changes to ultimately  yield all-trans-retinal and opsi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on  causes of undernutrition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Ignorance and povert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Chronic alcoholism</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Acute and chronic illness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Self- imposed dietary restriction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 less common causes are malabsorption syndromes, genetic diseases, specific drug therapies and total parenteral nutrition .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process, a nerve impulse is generated (by changes in membrane potential) that is transmitted via neurons from the retina to the br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ring dark adaptation, some of the all-trans-retinal is reconverted to 11-cis-retinal. but most is reduced to retinol and lost to the retina,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 A plays an important role in the orderly differentiation of mucus-secreting epithelium; when a deficiency state exists, the epithelium undergoes squamous metaplasia and differentiation to a keratinizing epithelium.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st resistance to infections, stimulate the immune system, possibly through the formation of a metabolite called 14-hydroxyretinol.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tamin A deficiency</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of the earliest manifestations of vitamin A deficiency is impaired vision, particularly in reduced light (night blindnes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cause vitamin A and retinoids are involved in maintaining the differentiation of epithelial cells, persistent deficiency gives rise to a series of change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llectively, the ocular changes are referred to as xerophthalmia (dry eye).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st, there is dryness of the conjunctiva (xerosis conjunctivae) as the normal lachrymal and mucus-secreting epithelium is replaced by keratinized epithelium.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is followed by the build-up of keratin debris in small opaque plaques (Bitot spots) and, eventually, erosion of the roughened corneal surface with softening and destruction of the cornea (keratomalacia) and total blindnes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TAMIN A DEFICIENCY</a:t>
            </a:r>
            <a:endParaRPr b="0" lang="en-US" sz="5000" spc="-1" strike="noStrike">
              <a:solidFill>
                <a:srgbClr val="04617b"/>
              </a:solidFill>
              <a:latin typeface="Calibri"/>
            </a:endParaRPr>
          </a:p>
        </p:txBody>
      </p:sp>
      <p:sp>
        <p:nvSpPr>
          <p:cNvPr id="272"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17b"/>
              </a:solidFill>
              <a:latin typeface="Constantia"/>
            </a:endParaRPr>
          </a:p>
        </p:txBody>
      </p:sp>
      <p:sp>
        <p:nvSpPr>
          <p:cNvPr id="273"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17b"/>
              </a:solidFill>
              <a:latin typeface="Constantia"/>
            </a:endParaRPr>
          </a:p>
        </p:txBody>
      </p:sp>
      <p:pic>
        <p:nvPicPr>
          <p:cNvPr id="274" name="Picture 2" descr=""/>
          <p:cNvPicPr/>
          <p:nvPr/>
        </p:nvPicPr>
        <p:blipFill>
          <a:blip r:embed="rId1"/>
          <a:stretch/>
        </p:blipFill>
        <p:spPr>
          <a:xfrm>
            <a:off x="1000080" y="2514600"/>
            <a:ext cx="2954520" cy="3846600"/>
          </a:xfrm>
          <a:prstGeom prst="rect">
            <a:avLst/>
          </a:prstGeom>
          <a:ln w="0">
            <a:noFill/>
          </a:ln>
        </p:spPr>
      </p:pic>
      <p:pic>
        <p:nvPicPr>
          <p:cNvPr id="275" name="Picture 3" descr=""/>
          <p:cNvPicPr/>
          <p:nvPr/>
        </p:nvPicPr>
        <p:blipFill>
          <a:blip r:embed="rId2"/>
          <a:stretch/>
        </p:blipFill>
        <p:spPr>
          <a:xfrm>
            <a:off x="4408560" y="2514600"/>
            <a:ext cx="4294080" cy="365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pithelium lining the upper respiratory passage and urinary tract is replaced by keratinizing squamous cells (squamous metaplasi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ss of the mucociliary epithelium of the airways predisposes to secondary pulmonary infections, and desquamation of keratin debris in the urinary tract predisposes to renal and urinary bladder stone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yperplasia and hyperkeratinization of the epidermis with plugging of the ducts of the adnexal glands may produce follicular or papular dermatos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Vitamin A Toxicity</a:t>
            </a:r>
            <a:endParaRPr b="0" lang="en-US" sz="54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th short- and long-term excesses of vitamin A may produce toxic manifestat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linical consequences of acute hypervitaminosis A include headache, vomiting, stupor, and papilledema, symptoms suggestive of brain tumo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ronic toxicity is associated with weight loss, nausea, and vomit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though synthetic retinoids used for the treatment of acne are not associated with the complications listed, their use in pregnancy should be avoided owing to a, well-established increase in the incidence of congenital malformat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TAMIN D</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ajor function of the fat-soluble vitamin D is the maintenance of normal plasma levels of calcium and phosphoru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th respect to tetany, vitamin D maintains the correct concentration of ionized calcium in the extracellular fluid compartment required for normal neural excitation and relaxation of musc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ufficient ionized calcium in the extracellular fluid results in continuous excitation of muscle, leading to the convulsive state, hypocalcemic tetany.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tabolism of Vitamin D</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major source of vitamin D for humans is endogenous synthesis in the skin by photochemical conversion of a precursor, 7-dehydrocholesterol, via the energy of solar or artificial ultraviolet (UV) light.</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pending on the skin's level of melanin pigmentation, which absorbs UV light, and the amount of exposure to sunlight, about 90% of the vitamin D needed is endogenously derived.</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nly the small remainder must be obtained from dietary sources, such as deep-sea fish, plants, and grains; this requires normal fat absorption. </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plant sources, vitamin D is present in its precursor form (ergosterol), which is converted to vitamin D in the body.</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tabolism of vitamin D as follows</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sorption of vitamin D along with other fats in the gut or synthesis from precursors in the skin.</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nding to plasma </a:t>
            </a:r>
            <a:r>
              <a:rPr b="0" lang="el-GR" sz="2400" spc="-1" strike="noStrike">
                <a:solidFill>
                  <a:srgbClr val="000000"/>
                </a:solidFill>
                <a:latin typeface="Constantia"/>
              </a:rPr>
              <a:t>α</a:t>
            </a:r>
            <a:r>
              <a:rPr b="0" lang="en-US" sz="2400" spc="-1" strike="noStrike">
                <a:solidFill>
                  <a:srgbClr val="000000"/>
                </a:solidFill>
                <a:latin typeface="Constantia"/>
              </a:rPr>
              <a:t>1-globulin (D-binding protein) and transport to liver.</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version to 25-hydroxyvitamin D (25-0H-D) by 25-hydroxylase in the liver.</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version of 25-0H-D to 1,25-dihydroxyvitamin D [1,25(OH)2-D] by </a:t>
            </a:r>
            <a:r>
              <a:rPr b="0" lang="el-GR" sz="2400" spc="-1" strike="noStrike">
                <a:solidFill>
                  <a:srgbClr val="000000"/>
                </a:solidFill>
                <a:latin typeface="Constantia"/>
              </a:rPr>
              <a:t>α</a:t>
            </a:r>
            <a:r>
              <a:rPr b="0" lang="en-US" sz="2400" spc="-1" strike="noStrike">
                <a:solidFill>
                  <a:srgbClr val="000000"/>
                </a:solidFill>
                <a:latin typeface="Constantia"/>
              </a:rPr>
              <a:t>1-hydroxylase in the kidney; biologically this is the most active form of vitamin 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M</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re PEM is a serious, often lethal diseas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common in third world countries, where up to 25% of children may be affected, and where it is a major factor in the high death rates among children younger than 5 year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M refers to  a range of clinical syndromes characterized by a dietary intake of protein and calories inadequate to meet the body's need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two ends of the spectrum are known as </a:t>
            </a:r>
            <a:r>
              <a:rPr b="1" i="1" lang="en-US" sz="2400" spc="-1" strike="noStrike">
                <a:solidFill>
                  <a:srgbClr val="000000"/>
                </a:solidFill>
                <a:latin typeface="Constantia"/>
              </a:rPr>
              <a:t>Marasmus</a:t>
            </a:r>
            <a:r>
              <a:rPr b="0" lang="en-US" sz="2400" spc="-1" strike="noStrike">
                <a:solidFill>
                  <a:srgbClr val="000000"/>
                </a:solidFill>
                <a:latin typeface="Constantia"/>
              </a:rPr>
              <a:t> and </a:t>
            </a:r>
            <a:r>
              <a:rPr b="1" i="1" lang="en-US" sz="2400" spc="-1" strike="noStrike">
                <a:solidFill>
                  <a:srgbClr val="000000"/>
                </a:solidFill>
                <a:latin typeface="Constantia"/>
              </a:rPr>
              <a:t>Kwashiorkor</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roduction of 1,25(OH)2-D by the kidney is regulated by three mechanisms:</a:t>
            </a:r>
            <a:endParaRPr b="0" lang="en-US" sz="2400" spc="-1" strike="noStrike">
              <a:solidFill>
                <a:srgbClr val="000000"/>
              </a:solidFill>
              <a:latin typeface="Constantia"/>
            </a:endParaRPr>
          </a:p>
          <a:p>
            <a:pPr marL="259200" indent="-259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 feedback loop, increased levels of 1,25(OH)2-D down-regulate synthesis of this metabolite by inhibiting the action of α1-hydroxylase, and decreased levels have the opposite effect.</a:t>
            </a:r>
            <a:endParaRPr b="0" lang="en-US" sz="2400" spc="-1" strike="noStrike">
              <a:solidFill>
                <a:srgbClr val="000000"/>
              </a:solidFill>
              <a:latin typeface="Constantia"/>
            </a:endParaRPr>
          </a:p>
          <a:p>
            <a:pPr marL="259200" indent="-259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ypocalcemia stimulates secretion of parathyroid hormone (PTH), which in turn augments the conversion of 25-0H-D to 1,25(OH)2-D by activating α1-hydroxylase.</a:t>
            </a:r>
            <a:endParaRPr b="0" lang="en-US" sz="2400" spc="-1" strike="noStrike">
              <a:solidFill>
                <a:srgbClr val="000000"/>
              </a:solidFill>
              <a:latin typeface="Constantia"/>
            </a:endParaRPr>
          </a:p>
          <a:p>
            <a:pPr marL="259200" indent="-25920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ypophosphatemia  directly activates </a:t>
            </a:r>
            <a:r>
              <a:rPr b="0" lang="el-GR" sz="2400" spc="-1" strike="noStrike">
                <a:solidFill>
                  <a:srgbClr val="000000"/>
                </a:solidFill>
                <a:latin typeface="Constantia"/>
              </a:rPr>
              <a:t>α</a:t>
            </a:r>
            <a:r>
              <a:rPr b="0" lang="en-US" sz="2400" spc="-1" strike="noStrike">
                <a:solidFill>
                  <a:srgbClr val="000000"/>
                </a:solidFill>
                <a:latin typeface="Constantia"/>
              </a:rPr>
              <a:t>1-hydroxylase and thus increases formation of 1,25(OH)2-D.</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4" descr="VitD_Metabolism"/>
          <p:cNvPicPr/>
          <p:nvPr/>
        </p:nvPicPr>
        <p:blipFill>
          <a:blip r:embed="rId1"/>
          <a:stretch/>
        </p:blipFill>
        <p:spPr>
          <a:xfrm>
            <a:off x="1371600" y="380880"/>
            <a:ext cx="6362640" cy="619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ctive form of vitamin D</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imulates intestinal absorption of calcium and phosphorus</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llaborates with PTH in the mobilization of calcium from bone</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imulates the PTH-dependent reabsorption of calcium in the distal renal tubul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ffects of vitamin D on bone depend on the plasma levels of calcium. On the one hand, with hypocalcemia, 1,25(OH)2-D collaborates with PTH in the resorption of calcium and phosphorus from bone to support blood level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 the other hand, vitamin D is required for normal mineralization of epiphyseal cartilage and osteoid matrix.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 D favors the formation of osteoclasts from their precursors (monocyt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ain function of vitamin D may be to maintain calcium and phosphorus at supersaturated levels in the plasma.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 D clearly activates osteoblasts to synthesize the calcium-binding protein, osteocalcin, involved in the deposition of calcium into osteoid matrix and may thus contribute to bone mineralization.</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 descr="VitD_Deficiency"/>
          <p:cNvPicPr/>
          <p:nvPr/>
        </p:nvPicPr>
        <p:blipFill>
          <a:blip r:embed="rId1"/>
          <a:stretch/>
        </p:blipFill>
        <p:spPr>
          <a:xfrm>
            <a:off x="1523880" y="457200"/>
            <a:ext cx="6581880" cy="6173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Vitamin D-deficiency</a:t>
            </a:r>
            <a:endParaRPr b="0" lang="en-US" sz="54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ckets in growing children and osteomalacia in adults are worldwide skeletal diseas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may result from deficient diets, but probably more important is limited exposure to sunlight (heavily veiled women, children born to vitamin D-deficient mothers, northern climates with scant sunligh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ickets : The bowing of legs in a toddler  due to the formation of poorly mineralized bone</a:t>
            </a:r>
            <a:endParaRPr b="0" lang="en-US" sz="2600" spc="-1" strike="noStrike">
              <a:solidFill>
                <a:srgbClr val="000000"/>
              </a:solidFill>
              <a:latin typeface="Constantia"/>
            </a:endParaRPr>
          </a:p>
        </p:txBody>
      </p:sp>
      <p:pic>
        <p:nvPicPr>
          <p:cNvPr id="300" name="Picture 2" descr=""/>
          <p:cNvPicPr/>
          <p:nvPr/>
        </p:nvPicPr>
        <p:blipFill>
          <a:blip r:embed="rId1"/>
          <a:stretch/>
        </p:blipFill>
        <p:spPr>
          <a:xfrm>
            <a:off x="5213520" y="1920960"/>
            <a:ext cx="2908080" cy="4433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deficiency of vitamin D tends to cause hypocalcemia. </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hypocalcemia occurs, PTH production is increased, which</a:t>
            </a:r>
            <a:endParaRPr b="0" lang="en-US" sz="2400" spc="-1" strike="noStrike">
              <a:solidFill>
                <a:srgbClr val="000000"/>
              </a:solidFill>
              <a:latin typeface="Constantia"/>
            </a:endParaRPr>
          </a:p>
          <a:p>
            <a:pPr marL="259200" indent="-259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tivates renal </a:t>
            </a:r>
            <a:r>
              <a:rPr b="0" lang="el-GR" sz="2400" spc="-1" strike="noStrike">
                <a:solidFill>
                  <a:srgbClr val="000000"/>
                </a:solidFill>
                <a:latin typeface="Constantia"/>
              </a:rPr>
              <a:t>α</a:t>
            </a:r>
            <a:r>
              <a:rPr b="0" lang="en-US" sz="2400" spc="-1" strike="noStrike">
                <a:solidFill>
                  <a:srgbClr val="000000"/>
                </a:solidFill>
                <a:latin typeface="Constantia"/>
              </a:rPr>
              <a:t>1-hydroxylase, thus increasing the amount of active vitamin D and calcium absorption; </a:t>
            </a:r>
            <a:endParaRPr b="0" lang="en-US" sz="2400" spc="-1" strike="noStrike">
              <a:solidFill>
                <a:srgbClr val="000000"/>
              </a:solidFill>
              <a:latin typeface="Constantia"/>
            </a:endParaRPr>
          </a:p>
          <a:p>
            <a:pPr marL="259200" indent="-259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bilizes calcium from bone; </a:t>
            </a:r>
            <a:endParaRPr b="0" lang="en-US" sz="2400" spc="-1" strike="noStrike">
              <a:solidFill>
                <a:srgbClr val="000000"/>
              </a:solidFill>
              <a:latin typeface="Constantia"/>
            </a:endParaRPr>
          </a:p>
          <a:p>
            <a:pPr marL="259200" indent="-259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creases renal calcium excretion; and</a:t>
            </a:r>
            <a:endParaRPr b="0" lang="en-US" sz="2400" spc="-1" strike="noStrike">
              <a:solidFill>
                <a:srgbClr val="000000"/>
              </a:solidFill>
              <a:latin typeface="Constantia"/>
            </a:endParaRPr>
          </a:p>
          <a:p>
            <a:pPr marL="259200" indent="-259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s renal excretion of phosphate.</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us, the serum level of calcium is restored to near normal, but hypophosphatemia persists, and so mineralization of bone is impaired.</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CAUSES OF RICKETS OR OSTEOMALACIA</a:t>
            </a:r>
            <a:endParaRPr b="0" lang="en-US" sz="32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Decreased endogenous synthesis of vitamin 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Inadequate exposure to sunligh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 Heavy melanin pigmentation of skin (black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 Decreased absorption of fat-soluble vitamin D in the intestin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Dietary lack</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 Biliary tract, pancreatic, or intestinal dysfunctio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 Enhanced degradation of vitamin D and 25-0H-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Phenytoin, phenobarbital, rifampin induction of cytochrome P-450 enzym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 Impaired synthesis of 25-0H-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Diffuse liver diseas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M inadequate dietary intake of protein and calories .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agnosis of PEM: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ody weight for a given heigh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t stor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scle mas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ckness of skin fold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asurement of serum protei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5. Decreased synthesis of 1,25(OH)2-D</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Advanced renal disease with failur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Vitamin D-dependent rickets type I (inherited deficiency of renal </a:t>
            </a:r>
            <a:r>
              <a:rPr b="0" lang="el-GR" sz="2200" spc="-1" strike="noStrike">
                <a:solidFill>
                  <a:srgbClr val="000000"/>
                </a:solidFill>
                <a:latin typeface="Constantia"/>
              </a:rPr>
              <a:t>α</a:t>
            </a:r>
            <a:r>
              <a:rPr b="0" lang="en-US" sz="2200" spc="-1" strike="noStrike">
                <a:solidFill>
                  <a:srgbClr val="000000"/>
                </a:solidFill>
                <a:latin typeface="Constantia"/>
              </a:rPr>
              <a:t>1-hydroxylase)</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6. Target organ resistance to 1,25(OH)2-D</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Vitamin D-dependent rickets type II (congenital lack of or defective receptors for active metabolite)</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7. Phosphate depletion</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Poor absorption-long-term use of antacids, which bind phosphates and render them insolubl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Renal tubular disorders, acquired or genetic, causing increased excretion</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phology</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is an excess of unmineralized matrix.</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vergrowth of epiphyseal cartilage due to inadequate provisional calcification and failure of the cartilage cells to mature and disintegr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sistence of  distorted, irregular masses of cartilage, many of which project into the marrow cav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osition of osteoid matrix on inadequately mineralized cartilaginous remnant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ruption of the orderly replacement of cartilage by osteoid matrix , with enlargement and lateral expansion of the osteochondral junc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normal overgrowth of capillaries and fibroblasts in the disorganized zone because of microfractures and stresses on the inadequately mineralized, weak , poorly formed bon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ormation of the skeleton due to loss of structural rigidity of the developing bon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aniotabe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ontal bossing due to excess osteoi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quared appearance of the hea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chitic rosar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igeon breast deform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rison’s groov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umbar lordos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wing of the leg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dul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steomalacia: The newly formed osteoid matrix laid down by osteoblasts is inadequately mineralized producing excess of persistent osteoi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ntours of the bone are not affected but the bone is weak and vulnerable to gross fractures or microfractur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 histological examination the unmineralized osteoid can be visualised as a thickened layer of matrix arranged about the more basophilic, normally mineralized trabecula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YPERVITAMINOSIS D</a:t>
            </a:r>
            <a:endParaRPr b="0" lang="en-US" sz="50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common cause is excess consumption of vitamin prepara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normal conversion of vit D to biologically active metabolites is occasionally seen in granulomatous diseases such as sarcoidos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onse to excess vitamin D is hypercalcaemia  resulting in nephrolithiasis, nephrocalcinosis, ectopic calcific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315200" cy="1523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tamin E</a:t>
            </a:r>
            <a:endParaRPr b="0" lang="en-US" sz="5000" spc="-1" strike="noStrike">
              <a:solidFill>
                <a:srgbClr val="04617b"/>
              </a:solidFill>
              <a:latin typeface="Calibri"/>
            </a:endParaRPr>
          </a:p>
        </p:txBody>
      </p:sp>
      <p:sp>
        <p:nvSpPr>
          <p:cNvPr id="318" name=""/>
          <p:cNvSpPr txBox="1"/>
          <p:nvPr/>
        </p:nvSpPr>
        <p:spPr>
          <a:xfrm>
            <a:off x="457200" y="1523520"/>
            <a:ext cx="8229600" cy="48006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 E is one of the group of antioxidants that serve to scavange free radicals formed in redox reactions throughout the bod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ctivity of this vitamin is found principally in </a:t>
            </a:r>
            <a:r>
              <a:rPr b="0" lang="el-GR" sz="2400" spc="-1" strike="noStrike">
                <a:solidFill>
                  <a:srgbClr val="000000"/>
                </a:solidFill>
                <a:latin typeface="Constantia"/>
              </a:rPr>
              <a:t>α</a:t>
            </a:r>
            <a:r>
              <a:rPr b="0" lang="en-US" sz="2400" spc="-1" strike="noStrike">
                <a:solidFill>
                  <a:srgbClr val="000000"/>
                </a:solidFill>
                <a:latin typeface="Constantia"/>
              </a:rPr>
              <a:t>- tocopherol.</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uses of deficienc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t malabsorption that accompanies cholestasis , Cystic fibrosis  ,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w birth weight infant with immature liver and GI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etalipoproteinemia</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re autosomal recessive syndrome of impaired vitamin E metabolism.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rvous system:</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generation of the axons in the posterior columns of the spinal cord, with focal accumulation of lipopigment and loss of nerve cells in the dorsal root ganglia, attributed to a dying-back type of axonapathy. </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yelin degeneration in sensory axons of peripheral nerves </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eatures of both primary and degenerative muscle disease of skeletal muscle may be present .</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tamin E-deficient erythrocytes are more susceptible to oxidative stress and have  a shorter half-life in the circulating blood.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632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tamin K</a:t>
            </a:r>
            <a:endParaRPr b="0" lang="en-US" sz="5000" spc="-1" strike="noStrike">
              <a:solidFill>
                <a:srgbClr val="04617b"/>
              </a:solidFill>
              <a:latin typeface="Calibri"/>
            </a:endParaRPr>
          </a:p>
        </p:txBody>
      </p:sp>
      <p:sp>
        <p:nvSpPr>
          <p:cNvPr id="324" name=""/>
          <p:cNvSpPr txBox="1"/>
          <p:nvPr/>
        </p:nvSpPr>
        <p:spPr>
          <a:xfrm>
            <a:off x="380880" y="1218960"/>
            <a:ext cx="8229600" cy="5638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 K is a cofactor for a liver microsomal carboxylase that is necessary to convert glutamyl residues  in certain protein precursors to </a:t>
            </a:r>
            <a:r>
              <a:rPr b="0" lang="el-GR" sz="2400" spc="-1" strike="noStrike">
                <a:solidFill>
                  <a:srgbClr val="000000"/>
                </a:solidFill>
                <a:latin typeface="Constantia"/>
              </a:rPr>
              <a:t>γ</a:t>
            </a:r>
            <a:r>
              <a:rPr b="0" lang="en-US" sz="2400" spc="-1" strike="noStrike">
                <a:solidFill>
                  <a:srgbClr val="000000"/>
                </a:solidFill>
                <a:latin typeface="Constantia"/>
              </a:rPr>
              <a:t>-carboxyglutama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otting factors VII, IX, and X and prothrombin  all require carboxylation of glutamate residues for functional activ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tivation of anticoagulant proteins C and S also requires glutamate carboxyl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dogenous intestinal bacterial flor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e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two protein compartments in the body: </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omatic protein compartment, represented by skeletal muscles, if the somatic protein is catabolized,resultant  reduction in muscle mass is reflected by reduced circumference of the midarm.</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visceral protein compartment, represented by protein stores in the visceral organs, primarily the liver. Measurement of serum proteins provides a measure of adequacy of visceral proteins compartmen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860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tamin K Deficiency</a:t>
            </a:r>
            <a:endParaRPr b="0" lang="en-US" sz="5000" spc="-1" strike="noStrike">
              <a:solidFill>
                <a:srgbClr val="04617b"/>
              </a:solidFill>
              <a:latin typeface="Calibri"/>
            </a:endParaRPr>
          </a:p>
        </p:txBody>
      </p:sp>
      <p:sp>
        <p:nvSpPr>
          <p:cNvPr id="326" name=""/>
          <p:cNvSpPr txBox="1"/>
          <p:nvPr/>
        </p:nvSpPr>
        <p:spPr>
          <a:xfrm>
            <a:off x="457200" y="1218960"/>
            <a:ext cx="8229600" cy="510516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uses</a:t>
            </a:r>
            <a:endParaRPr b="0" lang="en-US" sz="26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t malabsorption</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duced gut bacterial flora</a:t>
            </a:r>
            <a:endParaRPr b="0" lang="en-US" sz="2400" spc="-1" strike="noStrike">
              <a:solidFill>
                <a:srgbClr val="000000"/>
              </a:solidFill>
              <a:latin typeface="Constantia"/>
            </a:endParaRPr>
          </a:p>
          <a:p>
            <a:pPr lvl="2" marL="886680" indent="-23868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dministration of wide spectrum antibiotics</a:t>
            </a:r>
            <a:endParaRPr b="0" lang="en-US" sz="2100" spc="-1" strike="noStrike">
              <a:solidFill>
                <a:srgbClr val="000000"/>
              </a:solidFill>
              <a:latin typeface="Constantia"/>
            </a:endParaRPr>
          </a:p>
          <a:p>
            <a:pPr lvl="2" marL="886680" indent="-23868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eonatal period before gut is colonized</a:t>
            </a:r>
            <a:endParaRPr b="0" lang="en-US" sz="21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ver disease with reduced recycling of vitamin K</a:t>
            </a:r>
            <a:endParaRPr b="0" lang="en-US" sz="24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ffects of vitamin K deficiency</a:t>
            </a:r>
            <a:endParaRPr b="0" lang="en-US" sz="26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eeding diathesis characterised by hematomas , hematuria , malena , ecchymoses , and bleeding from the gums.</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imated 3% prevalence of vitamin K-dependent bleeding diathesis among neonates warrants routine prophylactic vitamin K therapy for all newborn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Complex Vitamins</a:t>
            </a:r>
            <a:endParaRPr b="0" lang="en-US" sz="44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 1 (thiamine), B 2 (riboflavin), B 3 (niacin), B 5 (pantothenic acid), B 6 (pyridoxine), B 7 (biotin), B 12 and folat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ll function as coenzymes</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hiamine (B 1 ) Deficiency</a:t>
            </a:r>
            <a:endParaRPr b="0" lang="en-US" sz="4400" spc="-1" strike="noStrike">
              <a:solidFill>
                <a:srgbClr val="04617b"/>
              </a:solidFill>
              <a:latin typeface="Calibri"/>
            </a:endParaRPr>
          </a:p>
        </p:txBody>
      </p:sp>
      <p:sp>
        <p:nvSpPr>
          <p:cNvPr id="330"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common on a dietary basis in developed countries (widely available in diet) seen in alcoholic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ill occurs in developing countries where polished (white) rice is main diet.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ring absorption from the gut , thiamine undergoes phophorylation to produce thiamine pyrophosphate, the functionally active coenzyme form of the vitamin.</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amine pyrophosphate has 3 major functions;</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gulates oxidative decarboxylation of </a:t>
            </a:r>
            <a:r>
              <a:rPr b="0" lang="el-GR" sz="2400" spc="-1" strike="noStrike">
                <a:solidFill>
                  <a:srgbClr val="000000"/>
                </a:solidFill>
                <a:latin typeface="Constantia"/>
              </a:rPr>
              <a:t>α</a:t>
            </a:r>
            <a:r>
              <a:rPr b="0" lang="en-US" sz="2400" spc="-1" strike="noStrike">
                <a:solidFill>
                  <a:srgbClr val="000000"/>
                </a:solidFill>
                <a:latin typeface="Constantia"/>
              </a:rPr>
              <a:t> ketoacids , leading to the synthesis of adenosine triphosphate.</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ts as a cofactor for transketolase in the pentose phosphate pathway. </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intains neural membranes and normal nerve conduc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eriberi (Thiamine Deficiency)</a:t>
            </a:r>
            <a:endParaRPr b="0" lang="en-US" sz="4400" spc="-1" strike="noStrike">
              <a:solidFill>
                <a:srgbClr val="04617b"/>
              </a:solidFill>
              <a:latin typeface="Calibri"/>
            </a:endParaRPr>
          </a:p>
        </p:txBody>
      </p:sp>
      <p:sp>
        <p:nvSpPr>
          <p:cNvPr id="33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on in alcoholics (25% of those admitte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also occur i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nicious vomiting of pregnanc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bilitating diseases that impair appetit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tended iv glucose therapy without supplemental vitamin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jor targets of deficiency are nerves, heart and brain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ry beriberi (polyneuropathy)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t beriberi (cardiovascular)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rnicke-Korsakoff syndrom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ry beriberi</a:t>
            </a:r>
            <a:endParaRPr b="0" lang="en-US" sz="5000" spc="-1" strike="noStrike">
              <a:solidFill>
                <a:srgbClr val="04617b"/>
              </a:solidFill>
              <a:latin typeface="Calibri"/>
            </a:endParaRPr>
          </a:p>
        </p:txBody>
      </p:sp>
      <p:sp>
        <p:nvSpPr>
          <p:cNvPr id="33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lyneuropathy is usually symmetric and takes the form of a nonspecific peripheral neuropathy with myelin degeneration and disruption of axons involving the motor, sensory and reflex arc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assically presents with toe drop , foot drop , and wrist drop .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rogressive sensory loss is accompanied by muscle weakness and hyporeflexia or areflexi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et beriberi</a:t>
            </a:r>
            <a:endParaRPr b="0" lang="en-US" sz="5000" spc="-1" strike="noStrike">
              <a:solidFill>
                <a:srgbClr val="04617b"/>
              </a:solidFill>
              <a:latin typeface="Calibri"/>
            </a:endParaRPr>
          </a:p>
        </p:txBody>
      </p:sp>
      <p:sp>
        <p:nvSpPr>
          <p:cNvPr id="3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ipheral vasodilatation , leading to more rapid arterio-venous shunting of bloo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 output cardiac failure an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ipheral edem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ilatation thins the ventricular wall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ral thrombi are often present in the dilated atri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
          <p:cNvSpPr txBox="1"/>
          <p:nvPr/>
        </p:nvSpPr>
        <p:spPr>
          <a:xfrm>
            <a:off x="380880" y="1676160"/>
            <a:ext cx="8305920" cy="46479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severe deficiency states ,most often in chronic alcoholic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rnicke – korsakoff’s syndrome appea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rnicke encephalopathy is marked by ophthalmoplegia ; nystagmus ; ataxia of gait and stance ; and derangement of mental function , characterized by global confusion, apathy, listlessness, and disorient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orsakoff’s psychosis takes the form of serious impairment of remote recall, inability to acquire new information, and confabul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iboflavin (B 2)</a:t>
            </a:r>
            <a:endParaRPr b="0" lang="en-US" sz="4400" spc="-1" strike="noStrike">
              <a:solidFill>
                <a:srgbClr val="04617b"/>
              </a:solidFill>
              <a:latin typeface="Calibri"/>
            </a:endParaRPr>
          </a:p>
        </p:txBody>
      </p:sp>
      <p:sp>
        <p:nvSpPr>
          <p:cNvPr id="34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boflavin is a critical component of the coenzymes flavin mononucleotide and flavin adenine dinucleotide , which participate in wide range of oxidation-reduction rea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s: meat, dairy, vegetabl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sorbed in upper GI tract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iagnosis of PEM is obvious in its most severe form.</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mild to moderate forms, the usual approach is to compare the body weight for a given height with standard tables; other parameters are also helpful, including evaluation of fat stores, muscle mass, and serum protein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th a loss of fat, the thickness of skinfolds (which includes skin and subcutaneous tissue) is reduce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child whose weight falls to less than 80% of normal is considered malnourishe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346" name=""/>
          <p:cNvSpPr txBox="1"/>
          <p:nvPr/>
        </p:nvSpPr>
        <p:spPr>
          <a:xfrm>
            <a:off x="457200" y="1295280"/>
            <a:ext cx="8229600" cy="4648320"/>
          </a:xfrm>
          <a:prstGeom prst="rect">
            <a:avLst/>
          </a:prstGeom>
          <a:noFill/>
          <a:ln w="0">
            <a:noFill/>
          </a:ln>
        </p:spPr>
        <p:txBody>
          <a:bodyPr anchor="t">
            <a:normAutofit fontScale="91000"/>
          </a:bodyPr>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iboflavinosis </a:t>
            </a:r>
            <a:endParaRPr b="0" lang="en-US" sz="2400" spc="-1" strike="noStrike">
              <a:solidFill>
                <a:srgbClr val="000000"/>
              </a:solidFill>
              <a:latin typeface="Constantia"/>
            </a:endParaRPr>
          </a:p>
          <a:p>
            <a:pPr lvl="3" marL="1080360" indent="-1904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sons in economically deprived developing countries </a:t>
            </a:r>
            <a:endParaRPr b="0" lang="en-US" sz="2400" spc="-1" strike="noStrike">
              <a:solidFill>
                <a:srgbClr val="000000"/>
              </a:solidFill>
              <a:latin typeface="Constantia"/>
            </a:endParaRPr>
          </a:p>
          <a:p>
            <a:pPr lvl="3" marL="1080360" indent="-1904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coholics, chronic infections, advanced cancer and other debilitating diseases, anorexics and individuals who avoid milk </a:t>
            </a:r>
            <a:endParaRPr b="0" lang="en-US" sz="2400" spc="-1" strike="noStrike">
              <a:solidFill>
                <a:srgbClr val="000000"/>
              </a:solidFill>
              <a:latin typeface="Constantia"/>
            </a:endParaRPr>
          </a:p>
          <a:p>
            <a:pPr lvl="2" marL="831960" indent="-22392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phology </a:t>
            </a:r>
            <a:endParaRPr b="0" lang="en-US" sz="2400" spc="-1" strike="noStrike">
              <a:solidFill>
                <a:srgbClr val="000000"/>
              </a:solidFill>
              <a:latin typeface="Constantia"/>
            </a:endParaRPr>
          </a:p>
          <a:p>
            <a:pPr lvl="3" marL="1080360" indent="-1904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eliosis (cracks and fissures at angles of mouth) </a:t>
            </a:r>
            <a:endParaRPr b="0" lang="en-US" sz="2400" spc="-1" strike="noStrike">
              <a:solidFill>
                <a:srgbClr val="000000"/>
              </a:solidFill>
              <a:latin typeface="Constantia"/>
            </a:endParaRPr>
          </a:p>
          <a:p>
            <a:pPr lvl="3" marL="1080360" indent="-1904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lossitis (atrophic tongue) </a:t>
            </a:r>
            <a:endParaRPr b="0" lang="en-US" sz="2400" spc="-1" strike="noStrike">
              <a:solidFill>
                <a:srgbClr val="000000"/>
              </a:solidFill>
              <a:latin typeface="Constantia"/>
            </a:endParaRPr>
          </a:p>
          <a:p>
            <a:pPr lvl="3" marL="1080360" indent="-1904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rneal opacities and ulcerations </a:t>
            </a:r>
            <a:endParaRPr b="0" lang="en-US" sz="2400" spc="-1" strike="noStrike">
              <a:solidFill>
                <a:srgbClr val="000000"/>
              </a:solidFill>
              <a:latin typeface="Constantia"/>
            </a:endParaRPr>
          </a:p>
          <a:p>
            <a:pPr lvl="3" marL="1080360" indent="-1904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rmatitis </a:t>
            </a:r>
            <a:endParaRPr b="0" lang="en-US" sz="2400" spc="-1" strike="noStrike">
              <a:solidFill>
                <a:srgbClr val="000000"/>
              </a:solidFill>
              <a:latin typeface="Constantia"/>
            </a:endParaRPr>
          </a:p>
          <a:p>
            <a:pPr lvl="3" marL="1080360" indent="-1904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rythroid hypoplasia in the bone marrow</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Niacin (B 3 )</a:t>
            </a:r>
            <a:endParaRPr b="0" lang="en-US" sz="4400" spc="-1" strike="noStrike">
              <a:solidFill>
                <a:srgbClr val="04617b"/>
              </a:solidFill>
              <a:latin typeface="Calibri"/>
            </a:endParaRPr>
          </a:p>
        </p:txBody>
      </p:sp>
      <p:sp>
        <p:nvSpPr>
          <p:cNvPr id="34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iacin refers to 2 chemically distinct compounds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icotinic acid and nicotinamide. Which are derived from dietary niacin or biosynthesized from  available tryptophan.</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iacin plays a major role in the formation of  NAD and its phosphate NAD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D functions as a coenzyme  for a variety of dehydrogenases involved in the metabolism of fat , carbohydrates and amino acids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DP – dehydrogenases reac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
          <p:cNvSpPr txBox="1"/>
          <p:nvPr/>
        </p:nvSpPr>
        <p:spPr>
          <a:xfrm>
            <a:off x="457200" y="1934640"/>
            <a:ext cx="8229600" cy="4389480"/>
          </a:xfrm>
          <a:prstGeom prst="rect">
            <a:avLst/>
          </a:prstGeom>
          <a:noFill/>
          <a:ln w="0">
            <a:noFill/>
          </a:ln>
        </p:spPr>
        <p:txBody>
          <a:bodyPr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s </a:t>
            </a:r>
            <a:endParaRPr b="0" lang="en-US" sz="2400" spc="-1" strike="noStrike">
              <a:solidFill>
                <a:srgbClr val="000000"/>
              </a:solidFill>
              <a:latin typeface="Constantia"/>
            </a:endParaRPr>
          </a:p>
          <a:p>
            <a:pPr lvl="2" marL="859320" indent="-23112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ins, legumes, seed oils (small quantities in meats) </a:t>
            </a:r>
            <a:endParaRPr b="0" lang="en-US" sz="2400" spc="-1" strike="noStrike">
              <a:solidFill>
                <a:srgbClr val="000000"/>
              </a:solidFill>
              <a:latin typeface="Constantia"/>
            </a:endParaRPr>
          </a:p>
          <a:p>
            <a:pPr lvl="3" marL="1116000" indent="-19692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iacin in corn is in a bound form and unabsorbable </a:t>
            </a:r>
            <a:endParaRPr b="0" lang="en-US" sz="2400" spc="-1" strike="noStrike">
              <a:solidFill>
                <a:srgbClr val="000000"/>
              </a:solidFill>
              <a:latin typeface="Constantia"/>
            </a:endParaRPr>
          </a:p>
          <a:p>
            <a:pPr lvl="4" marL="1374120" indent="-196920">
              <a:spcBef>
                <a:spcPts val="60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ciency can be seen where corn is most of the diet  </a:t>
            </a:r>
            <a:endParaRPr b="0" lang="en-US" sz="2400" spc="-1" strike="noStrike">
              <a:solidFill>
                <a:srgbClr val="000000"/>
              </a:solidFill>
              <a:latin typeface="Constantia"/>
            </a:endParaRPr>
          </a:p>
          <a:p>
            <a:pPr lvl="3" marL="1116000" indent="-19692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deficiency of tryptophan can mimic niacin deficiency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ciency (pellagra) </a:t>
            </a:r>
            <a:endParaRPr b="0" lang="en-US" sz="2400" spc="-1" strike="noStrike">
              <a:solidFill>
                <a:srgbClr val="000000"/>
              </a:solidFill>
              <a:latin typeface="Constantia"/>
            </a:endParaRPr>
          </a:p>
          <a:p>
            <a:pPr lvl="2" marL="859320" indent="-23112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coholics, chronic debilitating diseases ( e.g ., HIV)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Niacin (B 3 ) Deficiency (Pellagra)</a:t>
            </a:r>
            <a:endParaRPr b="0" lang="en-US" sz="4000" spc="-1" strike="noStrike">
              <a:solidFill>
                <a:srgbClr val="04617b"/>
              </a:solidFill>
              <a:latin typeface="Calibri"/>
            </a:endParaRPr>
          </a:p>
        </p:txBody>
      </p:sp>
      <p:sp>
        <p:nvSpPr>
          <p:cNvPr id="352"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ee D’s: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rmatitis </a:t>
            </a:r>
            <a:endParaRPr b="0" lang="en-US" sz="2400" spc="-1" strike="noStrike">
              <a:solidFill>
                <a:srgbClr val="000000"/>
              </a:solidFill>
              <a:latin typeface="Constantia"/>
            </a:endParaRPr>
          </a:p>
          <a:p>
            <a:pPr lvl="3" marL="1187280" indent="-20952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ckened red rough skin, bilaterally symmetric on exposed areas of the body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arrhea </a:t>
            </a:r>
            <a:endParaRPr b="0" lang="en-US" sz="2400" spc="-1" strike="noStrike">
              <a:solidFill>
                <a:srgbClr val="000000"/>
              </a:solidFill>
              <a:latin typeface="Constantia"/>
            </a:endParaRPr>
          </a:p>
          <a:p>
            <a:pPr lvl="3" marL="1187280" indent="-20952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rophy of columnar epithelium of GI tract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mentia – results from degeration of the neurons in the brain accompanied by degeneration of the corresponding tracts in the spinal cor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yridoxine (B 6 )</a:t>
            </a:r>
            <a:endParaRPr b="0" lang="en-US" sz="4400" spc="-1" strike="noStrike">
              <a:solidFill>
                <a:srgbClr val="04617b"/>
              </a:solidFill>
              <a:latin typeface="Calibri"/>
            </a:endParaRPr>
          </a:p>
        </p:txBody>
      </p:sp>
      <p:sp>
        <p:nvSpPr>
          <p:cNvPr id="354" name=""/>
          <p:cNvSpPr txBox="1"/>
          <p:nvPr/>
        </p:nvSpPr>
        <p:spPr>
          <a:xfrm>
            <a:off x="457200" y="1934640"/>
            <a:ext cx="8229600" cy="4389480"/>
          </a:xfrm>
          <a:prstGeom prst="rect">
            <a:avLst/>
          </a:prstGeom>
          <a:noFill/>
          <a:ln w="0">
            <a:noFill/>
          </a:ln>
        </p:spPr>
        <p:txBody>
          <a:bodyPr anchor="t">
            <a:normAutofit fontScale="93000"/>
          </a:bodyPr>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 B6 activity is found in three related , naturally occuring compounds : pyridoxine , pyridoxal , and pyridoxamine.</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yridoxine is converted to pyridoxal phosphate ., a coenzyme for many enzymes , including transaminases and carboxylase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nically overt deficiency of vitamin B 6 is rare in humans </a:t>
            </a:r>
            <a:endParaRPr b="0" lang="en-US" sz="2400" spc="-1" strike="noStrike">
              <a:solidFill>
                <a:srgbClr val="000000"/>
              </a:solidFill>
              <a:latin typeface="Constantia"/>
            </a:endParaRPr>
          </a:p>
          <a:p>
            <a:pPr lvl="2" marL="850320" indent="-22896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dings resemble riboflavin (B 2 ) and niacin (B 3 ) deficiency . –seborrheic dermatitis, cheilosis, glossitis, peripheral neuropathy and sometimes convulsions.</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Vitamin C (Ascorbic Acid)</a:t>
            </a:r>
            <a:endParaRPr b="0" lang="en-US" sz="44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corbic acid is a powerful biological reducing agent involved in many oxidation-reduction reactions and in proton transfe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ondroitin sulfate synthesi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line hydroxylation to form the hydroxyproline  of collage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vents oxidation of tetrahydrofolate and augments absorption of iron from the gu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und healing and immune function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curvy (Vitamin C Deficiency)</a:t>
            </a:r>
            <a:endParaRPr b="0" lang="en-US" sz="4000" spc="-1" strike="noStrike">
              <a:solidFill>
                <a:srgbClr val="04617b"/>
              </a:solidFill>
              <a:latin typeface="Calibri"/>
            </a:endParaRPr>
          </a:p>
        </p:txBody>
      </p:sp>
      <p:sp>
        <p:nvSpPr>
          <p:cNvPr id="358" name=""/>
          <p:cNvSpPr txBox="1"/>
          <p:nvPr/>
        </p:nvSpPr>
        <p:spPr>
          <a:xfrm>
            <a:off x="457200" y="1934640"/>
            <a:ext cx="8229600" cy="4389480"/>
          </a:xfrm>
          <a:prstGeom prst="rect">
            <a:avLst/>
          </a:prstGeom>
          <a:noFill/>
          <a:ln w="0">
            <a:noFill/>
          </a:ln>
        </p:spPr>
        <p:txBody>
          <a:bodyPr anchor="t">
            <a:normAutofit fontScale="96000"/>
          </a:bodyPr>
          <a:p>
            <a:pPr lvl="1" marL="613800" indent="-235800">
              <a:lnSpc>
                <a:spcPct val="8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Poor wound healing – poor collagen synthesis </a:t>
            </a:r>
            <a:endParaRPr b="0" lang="en-US" sz="2700" spc="-1" strike="noStrike">
              <a:solidFill>
                <a:srgbClr val="000000"/>
              </a:solidFill>
              <a:latin typeface="Constantia"/>
            </a:endParaRPr>
          </a:p>
          <a:p>
            <a:pPr lvl="2" marL="877680" indent="-23616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chymoses and purpura in skin and gingival mucosa (small vessels have defective collagen) </a:t>
            </a:r>
            <a:endParaRPr b="0" lang="en-US" sz="2400" spc="-1" strike="noStrike">
              <a:solidFill>
                <a:srgbClr val="000000"/>
              </a:solidFill>
              <a:latin typeface="Constantia"/>
            </a:endParaRPr>
          </a:p>
          <a:p>
            <a:pPr lvl="3" marL="1139760" indent="-200880">
              <a:lnSpc>
                <a:spcPct val="80000"/>
              </a:lnSpc>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wollen , bleeding gums – classical.</a:t>
            </a:r>
            <a:endParaRPr b="0" lang="en-US" sz="2400" spc="-1" strike="noStrike">
              <a:solidFill>
                <a:srgbClr val="000000"/>
              </a:solidFill>
              <a:latin typeface="Constantia"/>
            </a:endParaRPr>
          </a:p>
          <a:p>
            <a:pPr lvl="2" marL="877680" indent="-23616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periosteal hematomas and hemarthrosis after minimal trauma </a:t>
            </a:r>
            <a:endParaRPr b="0" lang="en-US" sz="2400" spc="-1" strike="noStrike">
              <a:solidFill>
                <a:srgbClr val="000000"/>
              </a:solidFill>
              <a:latin typeface="Constantia"/>
            </a:endParaRPr>
          </a:p>
          <a:p>
            <a:pPr lvl="2" marL="877680" indent="-23616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robulbar, subarachnoid and intracerebral hemorrhages (can be fatal) </a:t>
            </a:r>
            <a:endParaRPr b="0" lang="en-US" sz="2400" spc="-1" strike="noStrike">
              <a:solidFill>
                <a:srgbClr val="000000"/>
              </a:solidFill>
              <a:latin typeface="Constantia"/>
            </a:endParaRPr>
          </a:p>
          <a:p>
            <a:pPr lvl="2" marL="877680" indent="-23616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eletal changes due to insufficient osteoid matrix </a:t>
            </a:r>
            <a:endParaRPr b="0" lang="en-US" sz="2400" spc="-1" strike="noStrike">
              <a:solidFill>
                <a:srgbClr val="000000"/>
              </a:solidFill>
              <a:latin typeface="Constantia"/>
            </a:endParaRPr>
          </a:p>
          <a:p>
            <a:pPr lvl="3" marL="1139760" indent="-200880">
              <a:lnSpc>
                <a:spcPct val="80000"/>
              </a:lnSpc>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owing children: bowing of long bones, depression of the sternum with outward projection of the ends of the ribs </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60" name="Picture 2" descr=""/>
          <p:cNvPicPr/>
          <p:nvPr/>
        </p:nvPicPr>
        <p:blipFill>
          <a:blip r:embed="rId1"/>
          <a:stretch/>
        </p:blipFill>
        <p:spPr>
          <a:xfrm>
            <a:off x="54000" y="1295280"/>
            <a:ext cx="8982000" cy="50292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2"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ngitudinal section of  scorbutic costochondral junction with widening of epiphyseal cartilage and projection of masses of cartilage into the adjacent bone</a:t>
            </a:r>
            <a:endParaRPr b="0" lang="en-US" sz="2000" spc="-1" strike="noStrike">
              <a:solidFill>
                <a:srgbClr val="000000"/>
              </a:solidFill>
              <a:latin typeface="Constantia"/>
            </a:endParaRPr>
          </a:p>
        </p:txBody>
      </p:sp>
      <p:pic>
        <p:nvPicPr>
          <p:cNvPr id="363" name="Picture 2" descr=""/>
          <p:cNvPicPr/>
          <p:nvPr/>
        </p:nvPicPr>
        <p:blipFill>
          <a:blip r:embed="rId1"/>
          <a:stretch/>
        </p:blipFill>
        <p:spPr>
          <a:xfrm>
            <a:off x="5057640" y="1920960"/>
            <a:ext cx="3219480" cy="44337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late</a:t>
            </a:r>
            <a:endParaRPr b="0" lang="en-US" sz="5000" spc="-1" strike="noStrike">
              <a:solidFill>
                <a:srgbClr val="04617b"/>
              </a:solidFill>
              <a:latin typeface="Calibri"/>
            </a:endParaRPr>
          </a:p>
        </p:txBody>
      </p:sp>
      <p:sp>
        <p:nvSpPr>
          <p:cNvPr id="36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ciency is commonly dietary in orig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ources </a:t>
            </a:r>
            <a:br>
              <a:rPr sz="2400"/>
            </a:br>
            <a:r>
              <a:rPr b="0" lang="en-US" sz="2400" spc="-1" strike="noStrike">
                <a:solidFill>
                  <a:srgbClr val="000000"/>
                </a:solidFill>
                <a:latin typeface="Constantia"/>
              </a:rPr>
              <a:t>Whole-wheat flour, beans, nuts, liver, green leafy vegetables .</a:t>
            </a:r>
            <a:br>
              <a:rPr sz="2400"/>
            </a:br>
            <a:r>
              <a:rPr b="0" lang="en-US" sz="2400" spc="-1" strike="noStrike">
                <a:solidFill>
                  <a:srgbClr val="000000"/>
                </a:solidFill>
                <a:latin typeface="Constantia"/>
              </a:rPr>
              <a:t>Depleted in cooked and processed food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quirement is increased during pregnancy! </a:t>
            </a:r>
            <a:br>
              <a:rPr sz="2400"/>
            </a:br>
            <a:r>
              <a:rPr b="0" lang="en-US" sz="2400" spc="-1" strike="noStrike">
                <a:solidFill>
                  <a:srgbClr val="000000"/>
                </a:solidFill>
                <a:latin typeface="Constantia"/>
              </a:rPr>
              <a:t>Deficiency can predispose to fetal neural tube defect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asmus  refers to malnutrition caused primarily by severe reduction in calorie intak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in greater than 60% reduction in body weight adjusted for height and sex.</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with marasmus suffers growth retardation and a loss of muscle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cutaneous fat is also mobilize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xtremities appear emaciated , by comparison , the head appears too large for the body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Vitamin B 12 Deficiency</a:t>
            </a:r>
            <a:endParaRPr b="0" lang="en-US" sz="4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ciency of vitamin B12 are almost always seen in cases of pernicious anemia  and result from lack of secretion of intrinsic factor in the stomach , which prevents absorption of vitamin in the ileum.</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s – animal foods- meat , milk , egg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asitization of the small intestine by the fish tapeworm diphyllobothrium latum may lead to vitamin B12 deficienc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ciency of both vitamin B12 and folic acid are associated with megaloblastic anemi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nicious anemia is complicated by subacute combined degeneration of the spinal cor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acute combined degeneration of the spinal cord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otentially reversible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umbness and tingling in the lower extremities progressing to spastic weakness and then paraplegia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generation of both ascending and descending tracts of the spinal cord </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ineral Deficiencies</a:t>
            </a:r>
            <a:endParaRPr b="0" lang="en-US" sz="4400" spc="-1" strike="noStrike">
              <a:solidFill>
                <a:srgbClr val="04617b"/>
              </a:solidFill>
              <a:latin typeface="Calibri"/>
            </a:endParaRPr>
          </a:p>
        </p:txBody>
      </p:sp>
      <p:sp>
        <p:nvSpPr>
          <p:cNvPr id="371"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trace minerals are found within the bod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ciencies can occur due to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adequate supplementation in total parenteral nutrition (TPN)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terference with absorption by dietary constituents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born errors of metabolism leading to abnormal absorption </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ineral Deficiencies</a:t>
            </a:r>
            <a:endParaRPr b="0" lang="en-US" sz="4400" spc="-1" strike="noStrike">
              <a:solidFill>
                <a:srgbClr val="04617b"/>
              </a:solidFill>
              <a:latin typeface="Calibri"/>
            </a:endParaRPr>
          </a:p>
        </p:txBody>
      </p:sp>
      <p:sp>
        <p:nvSpPr>
          <p:cNvPr id="373"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minerals are associated with well-characterized deficiency states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ron, zinc, copper, selenium and iodine </a:t>
            </a:r>
            <a:endParaRPr b="0" lang="en-US" sz="2100" spc="-1" strike="noStrike">
              <a:solidFill>
                <a:srgbClr val="000000"/>
              </a:solidFill>
              <a:latin typeface="Constantia"/>
            </a:endParaRPr>
          </a:p>
          <a:p>
            <a:pPr lvl="3" marL="1187280" indent="-20952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ron deficiency is most common in U.S. </a:t>
            </a:r>
            <a:endParaRPr b="0" lang="en-US" sz="2000" spc="-1" strike="noStrike">
              <a:solidFill>
                <a:srgbClr val="000000"/>
              </a:solidFill>
              <a:latin typeface="Constantia"/>
            </a:endParaRPr>
          </a:p>
          <a:p>
            <a:pPr lvl="4" marL="1461960" indent="-209520">
              <a:spcBef>
                <a:spcPts val="499"/>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children, usually inadequate intake </a:t>
            </a:r>
            <a:endParaRPr b="0" lang="en-US" sz="2000" spc="-1" strike="noStrike">
              <a:solidFill>
                <a:srgbClr val="000000"/>
              </a:solidFill>
              <a:latin typeface="Constantia"/>
            </a:endParaRPr>
          </a:p>
          <a:p>
            <a:pPr lvl="4" marL="1461960" indent="-209520">
              <a:spcBef>
                <a:spcPts val="499"/>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adults, usually blood loss or pregnancy </a:t>
            </a:r>
            <a:endParaRPr b="0" lang="en-US" sz="2000" spc="-1" strike="noStrike">
              <a:solidFill>
                <a:srgbClr val="000000"/>
              </a:solidFill>
              <a:latin typeface="Constantia"/>
            </a:endParaRPr>
          </a:p>
          <a:p>
            <a:pPr lvl="4" marL="1461960" indent="-209520">
              <a:spcBef>
                <a:spcPts val="499"/>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ypochromic microcytic anemia (defective heme synthesis)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Zinc Deficiency</a:t>
            </a:r>
            <a:endParaRPr b="0" lang="en-US" sz="4400" spc="-1" strike="noStrike">
              <a:solidFill>
                <a:srgbClr val="04617b"/>
              </a:solidFill>
              <a:latin typeface="Calibri"/>
            </a:endParaRPr>
          </a:p>
        </p:txBody>
      </p:sp>
      <p:sp>
        <p:nvSpPr>
          <p:cNvPr id="375"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undant in the diet: meat, shellfish, fish, whole-grain cereals, legum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ciency usually due to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PN unsupplemented by zinc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genital zinc deficiency (auto recessive, rare) </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dings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crodermatitis enteropathica </a:t>
            </a:r>
            <a:endParaRPr b="0" lang="en-US" sz="2100" spc="-1" strike="noStrike">
              <a:solidFill>
                <a:srgbClr val="000000"/>
              </a:solidFill>
              <a:latin typeface="Constantia"/>
            </a:endParaRPr>
          </a:p>
          <a:p>
            <a:pPr lvl="3" marL="1187280" indent="-20952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sh around eyes, nose mouth and anus </a:t>
            </a:r>
            <a:endParaRPr b="0" lang="en-US" sz="2000" spc="-1" strike="noStrike">
              <a:solidFill>
                <a:srgbClr val="000000"/>
              </a:solidFill>
              <a:latin typeface="Constantia"/>
            </a:endParaRPr>
          </a:p>
          <a:p>
            <a:pPr lvl="4" marL="1461960" indent="-209520">
              <a:spcBef>
                <a:spcPts val="499"/>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orexia, diarrhea, growth retardation Hypochromic microcytic anemia (defective heme synthesis) </a:t>
            </a:r>
            <a:endParaRPr b="0" lang="en-US" sz="20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aired night vision, depressed mental function </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elenium Deficiency</a:t>
            </a:r>
            <a:endParaRPr b="0" lang="en-US" sz="4400" spc="-1" strike="noStrike">
              <a:solidFill>
                <a:srgbClr val="04617b"/>
              </a:solidFill>
              <a:latin typeface="Calibri"/>
            </a:endParaRPr>
          </a:p>
        </p:txBody>
      </p:sp>
      <p:sp>
        <p:nvSpPr>
          <p:cNvPr id="37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ti-oxidant (like vitamin E and C) , protects against oxidative damage of membrane lipid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ciency is known as Keshan diseas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sults from low level in soil, water and food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gestive cardiomyopathy </a:t>
            </a:r>
            <a:endParaRPr b="0" lang="en-US" sz="2100" spc="-1" strike="noStrike">
              <a:solidFill>
                <a:srgbClr val="000000"/>
              </a:solidFill>
              <a:latin typeface="Constantia"/>
            </a:endParaRPr>
          </a:p>
          <a:p>
            <a:pPr lvl="3" marL="1187280" indent="-20952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inly in children and young women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besity</a:t>
            </a:r>
            <a:endParaRPr b="0" lang="en-US" sz="5000" spc="-1" strike="noStrike">
              <a:solidFill>
                <a:srgbClr val="04617b"/>
              </a:solidFill>
              <a:latin typeface="Calibri"/>
            </a:endParaRPr>
          </a:p>
        </p:txBody>
      </p:sp>
      <p:sp>
        <p:nvSpPr>
          <p:cNvPr id="37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Over half of Americans between20 and 75 years of age are overweigh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obesity is highly correlated with an increased incidence of several diseases (e.g., diabetes, hypertensio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esity is defined as a state of increased body weight, due to adipose tissue accumulation, that is of sufficient magnitude to produce adverse health effect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thods to measure fat accumulatio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ody mass index (BMI)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kinfold measurement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arious body circumferences, particularly the ratio of the waist-hip circumference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MI, expressed in kilograms per square meter, is closely correlated with body fat.</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A BMI of approximately 25 kg/m2 is considered normal.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dividuals with BMI &gt;30kg/m2 = obes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untoward effects of obesity are related not only to the total body weight but also to the distribution of the stored fat.</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entral, or visceral, obesity, in which fat accumulates in the trunk and in the abdominal cavity  is associated with a much higher risk for several diseases than is excess accumulation of fat diffusely in subcutaneous tissu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tiology of obesity is complex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volved are genetic, environmental and psychologic factor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two sides of the energy equation, intake and expenditure  are finely regulated b y neural and hormonal mechanisms .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parently, this fine balance is maintained by an internal set point, or "lipostat," that can sense the quantity of the energy stores (adipose tissue) and appropriately regulate the food intake as well as the energy expenditur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everal "obesity genes" have been identified. That encode the molecular components of the physiologic system that regulates energy balanc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key player in energy homeostasisis the Db gene and its product, leptin. This unique member of the cytokine family, secreted by adipocytes, regulates both sides of the energy equation- intake of food and expenditure of energ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emia and manifestations of multivitamin deficiencies are present, and there is evidence of immune deficiency, particularly T cell- mediated immunit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nce, concurrent infections are usually presen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urohumoral mechanisms  that regulate energy equation and thus influence the body weight</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fferent system that generates humoral signals from the adipose tissue (leptin), pancreas ( insulin ) and stomach (ghrelin).</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entral processing unit , located in the hypothalamus which integrates the afferent signal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ffector system that carries out orders from the hypothalamic nuclei in the form of feeding behaviour and energy expenditur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ptin exerts its actions through a complex cascade of signaling pathways referred to as the leptin-regulated central melanocortin circui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ptin actions are initiated by binding to specific receptors on two classes of neurons in the hypothalamu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class of leptin-sensitive neurons produces the feeding-inducing (orexigenic) neuropeptides, neuropeptideY (NPY) and agouti-related protein (AgRP).</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ther class of leptin receptor-bearing neurons produces anorexigenic peptides, a melanocyte-stimulating hormone (a-MSH) and cocaine and amphetamine related transcript (CAR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two molecules reduce food intake.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ctions of the orexigenic and anorexigenic neuropeptides are exerted by binding to another set of receptors, the two most important being the NPY receptor and the melanocortin 4 recepto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lications of Obesity</a:t>
            </a:r>
            <a:endParaRPr b="0" lang="en-US" sz="4400" spc="-1" strike="noStrike">
              <a:solidFill>
                <a:srgbClr val="04617b"/>
              </a:solidFill>
              <a:latin typeface="Calibri"/>
            </a:endParaRPr>
          </a:p>
        </p:txBody>
      </p:sp>
      <p:sp>
        <p:nvSpPr>
          <p:cNvPr id="393" name=""/>
          <p:cNvSpPr txBox="1"/>
          <p:nvPr/>
        </p:nvSpPr>
        <p:spPr>
          <a:xfrm>
            <a:off x="457200" y="1934640"/>
            <a:ext cx="8229600" cy="4389480"/>
          </a:xfrm>
          <a:prstGeom prst="rect">
            <a:avLst/>
          </a:prstGeom>
          <a:noFill/>
          <a:ln w="0">
            <a:noFill/>
          </a:ln>
        </p:spPr>
        <p:txBody>
          <a:bodyPr anchor="t">
            <a:normAutofit fontScale="97000"/>
          </a:bodyPr>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yndrome X (metabolic syndrome) </a:t>
            </a:r>
            <a:endParaRPr b="0" lang="en-US" sz="2200" spc="-1" strike="noStrike">
              <a:solidFill>
                <a:srgbClr val="000000"/>
              </a:solidFill>
              <a:latin typeface="Constantia"/>
            </a:endParaRPr>
          </a:p>
          <a:p>
            <a:pPr lvl="2" marL="886680" indent="-23868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bdominal obesity, insulin resistance, hypertriglyceridemia, low HDL, hypertension, coronary artery disease </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allstones, pancreatitis, fatty liver, </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gestive heart failure, arrhythmias, deep vein thrombosis (and subsequent pulmonary embolus), ischemic stroke </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besity hypoventilation syndrome, sleep apnea </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steoarthritis, gout </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ndometrial cancer (excess estrogen, difficulty in screening)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95" name="" descr=""/>
          <p:cNvPicPr/>
          <p:nvPr/>
        </p:nvPicPr>
        <p:blipFill>
          <a:blip r:embed="rId1"/>
          <a:stretch/>
        </p:blipFill>
        <p:spPr>
          <a:xfrm>
            <a:off x="457200" y="1934640"/>
            <a:ext cx="8229600" cy="4389480"/>
          </a:xfrm>
          <a:prstGeom prst="rect">
            <a:avLst/>
          </a:prstGeom>
          <a:ln w="0">
            <a:noFill/>
          </a:ln>
        </p:spPr>
      </p:pic>
      <p:pic>
        <p:nvPicPr>
          <p:cNvPr id="396" name="Rectangle 3" descr=""/>
          <p:cNvPicPr/>
          <p:nvPr/>
        </p:nvPicPr>
        <p:blipFill>
          <a:blip r:embed="rId2"/>
          <a:stretch/>
        </p:blipFill>
        <p:spPr>
          <a:xfrm>
            <a:off x="2066760" y="2968560"/>
            <a:ext cx="429120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2</dc:creator>
  <dc:description/>
  <dc:language>en-US</dc:language>
  <cp:lastModifiedBy>hp</cp:lastModifiedBy>
  <dcterms:modified xsi:type="dcterms:W3CDTF">2021-05-22T20:30:14Z</dcterms:modified>
  <cp:revision>45</cp:revision>
  <dc:subject/>
  <dc:title>NUTRITIONAL DISORDERS</dc:title>
</cp:coreProperties>
</file>