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Click to move the slide</a:t>
            </a:r>
            <a:endParaRPr b="1" lang="en-US" sz="3200" spc="-1" strike="noStrike">
              <a:solidFill>
                <a:srgbClr val="f5d759"/>
              </a:solidFill>
              <a:latin typeface="Verdana"/>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80BB-BAF1-4A89-BECB-CB7A3A662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57160" y="685800"/>
            <a:ext cx="514368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nal Disease in Hypertension: Epidemiology</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Hypertension is an important factor in progressive loss of renal function.  Epidemiology has provided sound scientific evidence for the core concepts of progressive renal damage secondary to hypertension.  Multiple risk factors, such as age, atherosclerosis, diabetes and race, are associated with progressive damage to the kidney.  Because of its major contribution to hypertension-related renal damage, diabetes has been a major focus of epidemiological studies.  Improved medical care for patients with chronic renal disease has contributed to annual increases in the numbers of patients who survive with end stage renal disease (ESRD). Most patients with ESRD have hypertens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nited States Renal Data System (USRDS) 2000 Annual Data Report. NIH National Institute of Diabetes and Digestive and Kidney Diseases – Division of Kidney, Urologic and Hematologic Diseases.  USRDS Coordinating Center operated by the Minneapolis Medical Research Foundation.  Internet Address: www.usrds.or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7160" y="685800"/>
            <a:ext cx="514368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nefit of Calcium Channel Blockers in Diabetes: Important Findings of 2 Major Clinical Tri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 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three or more drugs to achieve the specified target levels of blood pressure control. 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itially, some studies indicated an excess of selected cardiac events in patients treated with dihydropyridine calcium channel blockers (DCCBs) compared with ACE inhibitors.  But, two important clinical trials – the Hypertension Optimal Treatment (HOT) Study and the Systolic Hypertension in Europe (Syst-Eur) Trial – added new findings.  DCCBs in combination with ACE inhibitors, beta-blockers, and diuretics in HOT and Syst-Eur were not associated with increased cardiovascular morbidity.  Furthermore, the diabetic cohorts in both trials have contributed important new safety data about DCCB-based treatment in hypertensive diabetics.  Ongoing trials, including the amlodipine treatment group in the Antihypertensive and Lipid-Lowering Treatment to Prevent Heart Attack Trial (ALLHAT) should also help to resolve issues about the cardiovascular outcomes of diabetics treated with DCCB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auz-Pacheco C, Parrott MA, Raskin P. The treatment of hypertension in adult patients with diabetes. Diabetes Care. 2002;25(1):134-147.</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ansson L, Zanchetti A, Carruthers SG, Dahlof B, Elmfeldt D, Julius S, Menard J, Rahn KH, Wedel H, Westerling S. Effects of intensive blood-pressure lowering and low-dose aspirin in patients with hypertension: principal results of the Hypertension Optimal Treatment (HOT) randomised trial. HOT Study Group. Lancet. 1998;351(9118):1755-1762.</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aessen JA, Fagard R, Thijs L, Celis H, Arabidze GG, Birkenhager WH, Bulpitt CJ, de Leeuw PW, Dollery CT, Fletcher AE, Forette F, Leonett G, Nachev C, O'Brien ET, Rosenfeld J, Rodicio JL, Tuomilehto J, Zanchetti A. Randomised double-blind comparison of placebo and active treatment for older patients with isolated systolic hypertension. The Systolic Hypertension in Europe (Syst-Eur) Trial Investigators. Lancet. 1997;350(9080):757-76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uomilehto J, Rastenyte D, Birkenhager WH, Thijs L, Antikainen R, Bulpitt CJ, Fletcher AE, Forette F, Goldhaber A, Palatini P, Sarti C, Fagard R. Effects of calcium-channel blockade in older patients with diabetes and systolic hypertension. Systolic Hypertension in Europe Trial Investigators. N Engl J Med. 1999;340(9):677-68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57160" y="685800"/>
            <a:ext cx="514368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nefit of Calcium Channel Blockers in Diabetes: Important Findings of 2 Major Clinical Tri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 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three or more drugs to achieve the specified target levels of blood pressure control. 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itially, some studies indicated an excess of selected cardiac events in patients treated with dihydropyridine calcium channel blockers (DCCBs) compared with ACE inhibitors.  But, two important clinical trials – the Hypertension Optimal Treatment (HOT) Study and the Systolic Hypertension in Europe (Syst-Eur) Trial – added new findings.  DCCBs in combination with ACE inhibitors, beta-blockers, and diuretics in HOT and Syst-Eur were not associated with increased cardiovascular morbidity.  Furthermore, the diabetic cohorts in both trials have contributed important new safety data about DCCB-based treatment in hypertensive diabetics.  Ongoing trials, including the amlodipine treatment group in the Antihypertensive and Lipid-Lowering Treatment to Prevent Heart Attack Trial (ALLHAT) should also help to resolve issues about the cardiovascular outcomes of diabetics treated with DCCB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auz-Pacheco C, Parrott MA, Raskin P. The treatment of hypertension in adult patients with diabetes. Diabetes Care. 2002;25(1):134-147.</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ansson L, Zanchetti A, Carruthers SG, Dahlof B, Elmfeldt D, Julius S, Menard J, Rahn KH, Wedel H, Westerling S. Effects of intensive blood-pressure lowering and low-dose aspirin in patients with hypertension: principal results of the Hypertension Optimal Treatment (HOT) randomised trial. HOT Study Group. Lancet. 1998;351(9118):1755-1762.</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aessen JA, Fagard R, Thijs L, Celis H, Arabidze GG, Birkenhager WH, Bulpitt CJ, de Leeuw PW, Dollery CT, Fletcher AE, Forette F, Leonett G, Nachev C, O'Brien ET, Rosenfeld J, Rodicio JL, Tuomilehto J, Zanchetti A. Randomised double-blind comparison of placebo and active treatment for older patients with isolated systolic hypertension. The Systolic Hypertension in Europe (Syst-Eur) Trial Investigators. Lancet. 1997;350(9080):757-76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uomilehto J, Rastenyte D, Birkenhager WH, Thijs L, Antikainen R, Bulpitt CJ, Fletcher AE, Forette F, Goldhaber A, Palatini P, Sarti C, Fagard R. Effects of calcium-channel blockade in older patients with diabetes and systolic hypertension. Systolic Hypertension in Europe Trial Investigators. N Engl J Med. 1999;340(9):677-68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57160" y="685800"/>
            <a:ext cx="514368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nefit of Diuretics in Diabetes: Important Findings of 2 Major Clinical Tri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 designed randomized clinical trials have demonstrated the effectiveness of aggressive treatment of hypertension in reducing both types of diabetes complications.  There are a number of trials that demonstrate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three or more drugs to achieve the specified target levels of blood pressure control. 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benzothiadiazine (thiazide) diuretics have an antihypertensive effect, which has been used clinically for more than 45 years.  The efficacy of diuretics for the reduction of elevated systolic and diastolic BP has been clearly established.  Although the mechanism(s) of action of thiazides and related drugs is (are) not wholly clear, sodium and water depletion appear to provide a basis for the antihypertensive effect.  In most, if not all treatment guidelines for hypertension, a diuretic is obligatory when three or more drugs are required, which is typical for the control of BP to &lt;130/80 mmHg in diabetics.  Under usual circumstances, the benefits of diuretics for BP control outweigh the potential adverse metabolic effects, such as hyperglycemia.  Chlorthalidone, rather than a thiazide diuretic, was utilized in the only two major, randomized clinical trials with significant cohorts of diabetics treated with a diuretic – the Systolic Hypertension in the Elderly Program (SHEP) and the Antihypertensive and Lipid-Lowering Treatment to Prevent Heart Attack Trial (ALLHAT).  Chlorthalidone is a benzenesulfonamide diuretic that differs chemically from thiazide diuretics in that a double ring system is incorporated in its structure.  Presumably, the mechanism(s) of action for chlorthalidone does(do) not differ from the thiazide diuretics.  In either case, these drugs are believed to benefit morbidity and mortality in hypertension primarily, if not exclusively, through the reduction of elevated blood pressure.</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auz-Pacheco C, Parrott MA, Raskin P. The treatment of hypertension in adult patients with diabetes. Diabetes Care. 2002;25(1):134-147.</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EP Cooperative Research Group. Prevention of stroke by antihypertensive drug treatment in older persons with isolated systolic hypertension. Final results of the Systolic Hypertension in the Elderly Program (SHEP). JAMA. 1991;265(24):3255-326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urb JD, Pressel SL, Cutler JA, Savage PJ, Applegate WB, Black H, Camel G, Davis BR, Frost PH, Gonzalez N, Guthrie G, Oberman A, Rutan GH, Stamler J. Effect of diuretic-based antihypertensive treatment on cardiovascular disease risk in older diabetic patients with isolated systolic hypertension. Systolic Hypertension in the Elderly Program Cooperative Research Group. JAMA. 1996;276(23):1886-1892.</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vis BR, Cutler JA, Gordon DJ, Furberg CD, Wright JT Jr, Cushman WC, Grimm RH, LaRosa J, Whelton PK, Perry HM, Alderman MH, Ford CE, Oparil S, Francis C, Proschan M, Pressel S, Black HR, Hawkins CM. Rationale and design for the Antihypertensive and Lipid Lowering Treatment to Prevent Heart Attack Trial (ALLHAT). ALLHAT Research Group. Am J Hypertens. 1996;9(4 Pt 1):342-360.</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jor cardiovascular events in hypertensive patients randomized to doxazosin vs chlorthalidone: the antihypertensive and lipid-lowering treatment to prevent heart attack trial (ALLHAT). ALLHAT Collaborative Research Group. JAMA. 2000;283(15):1967-1975.</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rzilay JI, Jones CL, Davis BR, Basile JN, Goff DC Jr, Ciocon JO, Sweeney ME, Randall OS. Baseline characteristics of the diabetic participants in the Antihypertensive and Lipid-Lowering Treatment to Prevent Heart Attack Trial (ALLHAT). Diabetes Care. 2001;24(4):654-658.</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7160" y="685800"/>
            <a:ext cx="514368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nefit of Diuretics in Diabetes: Important Findings of 2 Major Clinical Trial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 designed randomized clinical trials have demonstrated the effectiveness of aggressive treatment of hypertension in reducing both types of diabetes complications.  There are a number of trials that demonstrate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three or more drugs to achieve the specified target levels of blood pressure control. 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benzothiadiazine (thiazide) diuretics have an antihypertensive effect, which has been used clinically for more than 45 years.  The efficacy of diuretics for the reduction of elevated systolic and diastolic BP has been clearly established.  Although the mechanism(s) of action of thiazides and related drugs is (are) not wholly clear, sodium and water depletion appear to provide a basis for the antihypertensive effect.  In most, if not all treatment guidelines for hypertension, a diuretic is obligatory when three or more drugs are required, which is typical for the control of BP to &lt;130/80 mmHg in diabetics.  Under usual circumstances, the benefits of diuretics for BP control outweigh the potential adverse metabolic effects, such as hyperglycemia.  Chlorthalidone, rather than a thiazide diuretic, was utilized in the only two major, randomized clinical trials with significant cohorts of diabetics treated with a diuretic – the Systolic Hypertension in the Elderly Program (SHEP) and the Antihypertensive and Lipid-Lowering Treatment to Prevent Heart Attack Trial (ALLHAT).  Chlorthalidone is a benzenesulfonamide diuretic that differs chemically from thiazide diuretics in that a double ring system is incorporated in its structure.  Presumably, the mechanism(s) of action for chlorthalidone does(do) not differ from the thiazide diuretics.  In either case, these drugs are believed to benefit morbidity and mortality in hypertension primarily, if not exclusively, through the reduction of elevated blood pressure.</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auz-Pacheco C, Parrott MA, Raskin P. The treatment of hypertension in adult patients with diabetes. Diabetes Care. 2002;25(1):134-147.</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HEP Cooperative Research Group. Prevention of stroke by antihypertensive drug treatment in older persons with isolated systolic hypertension. Final results of the Systolic Hypertension in the Elderly Program (SHEP). JAMA. 1991;265(24):3255-3264.</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urb JD, Pressel SL, Cutler JA, Savage PJ, Applegate WB, Black H, Camel G, Davis BR, Frost PH, Gonzalez N, Guthrie G, Oberman A, Rutan GH, Stamler J. Effect of diuretic-based antihypertensive treatment on cardiovascular disease risk in older diabetic patients with isolated systolic hypertension. Systolic Hypertension in the Elderly Program Cooperative Research Group. JAMA. 1996;276(23):1886-1892.</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vis BR, Cutler JA, Gordon DJ, Furberg CD, Wright JT Jr, Cushman WC, Grimm RH, LaRosa J, Whelton PK, Perry HM, Alderman MH, Ford CE, Oparil S, Francis C, Proschan M, Pressel S, Black HR, Hawkins CM. Rationale and design for the Antihypertensive and Lipid Lowering Treatment to Prevent Heart Attack Trial (ALLHAT). ALLHAT Research Group. Am J Hypertens. 1996;9(4 Pt 1):342-360.</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jor cardiovascular events in hypertensive patients randomized to doxazosin vs chlorthalidone: the antihypertensive and lipid-lowering treatment to prevent heart attack trial (ALLHAT). ALLHAT Collaborative Research Group. JAMA. 2000;283(15):1967-1975.</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rzilay JI, Jones CL, Davis BR, Basile JN, Goff DC Jr, Ciocon JO, Sweeney ME, Randall OS. Baseline characteristics of the diabetic participants in the Antihypertensive and Lipid-Lowering Treatment to Prevent Heart Attack Trial (ALLHAT). Diabetes Care. 2001;24(4):654-658.</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57160" y="685800"/>
            <a:ext cx="514368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ld and New Antihypertensive Therapy and Diabetes: Important Findings of 4 Major Studies </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3 or more drugs to achieve the specified target levels of blood pressure control. </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Many studies of combinations of antihypertensive agents have been published. The superiority of one combination regimen over another in diabetes has not been documented. Diuretic agents in combination with adrenergic blockers have been used in UKPDS, SHEP and several nephropathy studies. ACE inhibitors have been used in combination with diuretics and calcium channel blockers (CCBs).  CCBs in combination with diuretics or ACE inhibitors have been reported. Recently, studies have also been published that compare “older” antihypertensive agents, such as thiazide diuretics and beta-blockers, which have been available for the past 3 to 4 decades, to “newer” agents, such as ACE inhibitors and CCBs.  STOP-2, INSIGHT, NORDIL, and ARIC are 4 major, new trials with such comparisons.</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ferences:</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rauz-Pacheco C, Parrott MA, Raskin P. The treatment of hypertension in adult patients with diabetes. Diabetes Care. 2002;25(1):134-147.</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Julius S, Majahalme S, Palatini P. Antihypertensive treatment of patients with diabetes and hypertension. Am J Hypertens. 2001;14(11 Pt 2):310S-316S.</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Hansson L, Lindholm LH, Ekbom T, Dahlof B, Lanke J, Schersten B, Wester PO, Hedner T, de Faire U. Randomised trial of old and new antihypertensive drugs in elderly patients: cardiovascular mortality and morbidity the Swedish Trial in Old Patients with Hypertension-2 study. Lancet. 1999;354(9192):1751-1756.</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rown MJ, Palmer CR, Castaigne A, de Leeuw PW, Mancia G, Rosenthal T, Ruilope LM. Morbidity and mortality in patients randomised to double-blind treatment with a long-acting calcium-channel blocker or diuretic in the International Nifedipine GITS study: Intervention as a Goal in Hypertension Treatment (INSIGHT). Lancet. 2000;356(9227):366-372.</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Hansson L, Hedner T, Lund-Johansen P, Kjeldsen SE, Lindholm LH, Syvertsen JO, Lanke J, de Faire U, Dahlof B, Karlberg BE. Randomised trial of effects of calcium antagonists compared with diuretics and beta-blockers on cardiovascular morbidity and mortality in hypertension: the Nordic Diltiazem (NORDIL) study. Lancet. 2000;356(9227):359-365.</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ress TW, Nieto FJ, Shahar E, Wofford MR, Brancati FL. Hypertension and antihypertensive therapy as risk factors for type 2 diabetes mellitus. Atherosclerosis Risk in Communities Study. N Engl J Med. 2000;342(13):905-912.</a:t>
            </a:r>
            <a:endParaRPr b="0" lang="en-US" sz="900" spc="-1" strike="noStrike">
              <a:solidFill>
                <a:srgbClr val="000000"/>
              </a:solidFill>
              <a:latin typeface="Verdana"/>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57160" y="685800"/>
            <a:ext cx="514368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200" rIns="88200" tIns="43920" bIns="4392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ld and New Antihypertensive Therapy and Diabetes: Important Findings of 4 Major Studies </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3 or more drugs to achieve the specified target levels of blood pressure control. </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any studies of combinations of antihypertensive agents have been published.  The superiority of one combination regime over another in diabetes has not been documented.  Diuretic agents in combination with adrenergic blockers have been used in UKPDS, SHEP and several nephropathy studies. ACE inhibitors have been used in combination with diuretics and calcium channel blockers (CCBs).  CCBs in combination with diuretics or ACE inhibitors have been reported. Recently, studies have also been published that compare “older” antihypertensive agents, such as thiazide diuretics and beta-blockers, which have been available for the past 3 to 4 decades, to “newer” agents, such as ACE inhibitors and CCBs.  STOP-2, INSIGHT, NORDIL, and ARIC are 4 major, new trials with such comparisons.</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eferences:</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Arauz-Pacheco C, Parrott MA, Raskin P. The treatment of hypertension in adult patients with diabetes. Diabetes Care. 2002 Jan.;25(1):134-147.</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ulius S, Majahalme S, Palatini P. Antihypertensive treatment of patients with diabetes and hypertension. Am J Hypertens. 2001;14(11 Pt 2):310S-316S.</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Lindholm LH, Ekbom T, Dahlof B, Lanke J, Schersten B, Wester PO, Hedner T, de Faire U. Randomised trial of old and new antihypertensive drugs in elderly patients: cardiovascular mortality and morbidity the Swedish Trial in Old Patients with Hypertension-2 study. Lancet. 1999;354(9192):1751-1756.</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rown MJ, Palmer CR, Castaigne A, de Leeuw PW, Mancia G, Rosenthal T, Ruilope LM. Morbidity and mortality in patients randomised to double-blind treatment with a long-acting calcium-channel blocker or diuretic in the International Nifedipine GITS study: Intervention as a Goal in Hypertension Treatment (INSIGHT). Lancet. 2000;356(9227):366-372.</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Hedner T, Lund-Johansen P, Kjeldsen SE, Lindholm LH, Syvertsen JO, Lanke J, de Faire U, Dahlof B, Karlberg BE. Randomised trial of effects of calcium antagonists compared with diuretics and beta-blockers on cardiovascular morbidity and mortality in hypertension: the Nordic Diltiazem (NORDIL) study. Lancet. 2000;356(9227):359-365.</a:t>
            </a: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Gress TW, Nieto FJ, Shahar E, Wofford MR, Brancati FL. Hypertension and antihypertensive therapy as risk factors for type 2 diabetes mellitus. Atherosclerosis Risk in Communities Study. N Engl J Med. 2000;342(13):905-912.</a:t>
            </a:r>
            <a:endParaRPr b="0" lang="en-US" sz="8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7160" y="685800"/>
            <a:ext cx="514368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ld and New Antihypertensive Therapy and Diabetes: Important Findings of 4 Major Studies </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3 or more drugs to achieve the specified target levels of blood pressure control. </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any studies of combinations of antihypertensive agents have been published. The superiority of one combination regime over another in diabetes has not been documented.  Diuretic agents in combination with adrenergic blockers have been used in UKPDS, SHEP and several nephropathy studies. ACE inhibitors have been used in combination with diuretics and calcium channel blockers (CCBs).  CCBs in combination with diuretics or ACE inhibitors have been reported. Recently, studies have also been published that compare “older” antihypertensive agents, such as thiazide diuretics and beta-blockers, which have been available for the past 3 to 4 decades, to “newer” agents, such as ACE inhibitors and CCBs.  STOP-2, INSIGHT, NORDIL, and ARIC are 4 major, new trials with such comparison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eference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Arauz-Pacheco C, Parrott MA, Raskin P. The treatment of hypertension in adult patients with diabetes. Diabetes Care. 2002 Jan.;25(1):134-147.</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ulius S, Majahalme S, Palatini P. Antihypertensive treatment of patients with diabetes and hypertension. Am J Hypertens. 2001;14(11 Pt 2):310S-316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Lindholm LH, Ekbom T, Dahlof B, Lanke J, Schersten B, Wester PO, Hedner T, de Faire U. Randomised trial of old and new antihypertensive drugs in elderly patients: cardiovascular mortality and morbidity the Swedish Trial in Old Patients with Hypertension-2 study. Lancet. 1999;354(9192):1751-1756.</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rown MJ, Palmer CR, Castaigne A, de Leeuw PW, Mancia G, Rosenthal T, Ruilope LM. Morbidity and mortality in patients randomised to double-blind treatment with a long-acting calcium-channel blocker or diuretic in the International Nifedipine GITS study: Intervention as a Goal in Hypertension Treatment (INSIGHT). Lancet. 2000;356(9227):366-372.</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Hedner T, Lund-Johansen P, Kjeldsen SE, Lindholm LH, Syvertsen JO, Lanke J, de Faire U, Dahlof B, Karlberg BE. Randomised trial of effects of calcium antagonists compared with diuretics and beta-blockers on cardiovascular morbidity and mortality in hypertension: the Nordic Diltiazem (NORDIL) study. Lancet. 2000;356(9227):359-365.</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Gress TW, Nieto FJ, Shahar E, Wofford MR, Brancati FL. Hypertension and antihypertensive therapy as risk factors for type 2 diabetes mellitus. Atherosclerosis Risk in Communities Study. N Engl J Med. 2000;342(13):905-912.</a:t>
            </a:r>
            <a:endParaRPr b="0" lang="en-US" sz="8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57160" y="685800"/>
            <a:ext cx="514368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ld and New Antihypertensive Therapy and Diabetes: Important Findings of 4 Major Studies </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3 or more drugs to achieve the specified target levels of blood pressure control. </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any studies of combinations of antihypertensive agents have been published. The superiority of one combination regime over another in diabetes has not been documented. Diuretic agents in combination with adrenergic blockers have been used in UKPDS, SHEP and several nephropathy studies. ACE inhibitors have been used in combination with diuretics and calcium channel blockers (CCBs).  CCBs in combination with diuretics or ACE inhibitors have been reported. Recently, studies have also been published that compare “older” antihypertensive agents, such as thiazide diuretics and beta-blockers, which have been available for the past 3 to 4 decades, to “newer” agents, such as ACE inhibitors and CCBs.  STOP-2, INSIGHT, NORDIL, and ARIC are 4 major, new trials with such comparison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eference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Arauz-Pacheco C, Parrott MA, Raskin P. The treatment of hypertension in adult patients with diabetes. Diabetes Care. 2002 Jan.;25(1):134-147.</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ulius S, Majahalme S, Palatini P. Antihypertensive treatment of patients with diabetes and hypertension. Am J Hypertens. 2001;14(11 Pt 2):310S-316S.</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Lindholm LH, Ekbom T, Dahlof B, Lanke J, Schersten B, Wester PO, Hedner T, de Faire U. Randomised trial of old and new antihypertensive drugs in elderly patients: cardiovascular mortality and morbidity the Swedish Trial in Old Patients with Hypertension-2 study. Lancet. 1999;354(9192):1751-1756.</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rown MJ, Palmer CR, Castaigne A, de Leeuw PW, Mancia G, Rosenthal T, Ruilope LM. Morbidity and mortality in patients randomised to double-blind treatment with a long-acting calcium-channel blocker or diuretic in the International Nifedipine GITS study: Intervention as a Goal in Hypertension Treatment (INSIGHT). Lancet. 2000;356(9227):366-372.</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ansson L, Hedner T, Lund-Johansen P, Kjeldsen SE, Lindholm LH, Syvertsen JO, Lanke J, de Faire U, Dahlof B, Karlberg BE. Randomised trial of effects of calcium antagonists compared with diuretics and beta-blockers on cardiovascular morbidity and mortality in hypertension: the Nordic Diltiazem (NORDIL) study. Lancet. 2000;356(9227):359-365.</a:t>
            </a: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Gress TW, Nieto FJ, Shahar E, Wofford MR, Brancati FL. Hypertension and antihypertensive therapy as risk factors for type 2 diabetes mellitus. Atherosclerosis Risk in Communities Study. N Engl J Med. 2000;342(13):905-912.</a:t>
            </a:r>
            <a:endParaRPr b="0" lang="en-US" sz="8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57160" y="685800"/>
            <a:ext cx="514368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nefit of Beta-Blockers in Diabetes: Important Findings of 1 Major Clinical Trial</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ypertension (BP ≥140/90 mmHg) is an extremely common co-morbid condition in diabetes, affecting from 20 to 60% of patients with diabetes, depending on obesity, ethnicity, and age.  Hypertension substantially increases the risk of both macrovascular and microvascular complications, including stroke, coronary artery disease, peripheral vascular disease, retinopathy, nephropathy, and possibly neuropathy.  In recent years, adequate data from well-designed randomized clinical trials have demonstrated the effectiveness of aggressive treatment of hypertension in reducing both types of diabetes complications.  There are a number of trials demonstrating the superiority of drug therapy versus placebo in reducing outcomes, including cardiovascular events and microvascular complications of retinopathy and progression of nephropathy. These studies used different drug classes, including angiotensin converting enzyme (ACE) inhibitors, angiotensin receptor blockers (ARBs), and diuretics, as the initial step in therapy.  All of these agents were superior to placebo; however, it must be noted that many patients required three or more drugs to achieve the specified target levels of blood pressure control. Overall there is strong evidence that pharmacologic therapy of hypertension in patients with diabetes is effective in producing substantial decreases in cardiovascular and microvascular diseases.  There are limited data from trials comparing different classes of drugs in patients with diabetes and hypertension. With ACE inhibitors and ARBs, there has also emerged the concept that cardiovascular effects may be mediated by mechanisms other than blood pressure reduction.</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r beta-blockers, there is very limited clinical trial data to separate specific benefits of beta-adrenoceptor antagonism from the reduction of blood pressure alone on primary outcomes. However, there is one large prospective observational study which provides a comparison of a beta-blocker to an ACE inhibitor for primary and secondary outcomes during 8 years of similar blood pressure control. The UKPDS patients randomized to the tight blood pressure control group showed no significant difference in outcomes for treatment based on an ACE inhibitor (captopril) compared with a beta-blocker (atenolol).  But, there were slightly more withdrawals due to side effects and there was more weight gain in the beta-blocker group. In post-myocardial infarction patients, beta-blockers have been shown to reduce mortality in diabetics as well as non-diabetic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s:</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rauz-Pacheco C, Parrott MA, Raskin P. The treatment of hypertension in adult patients with diabetes. Diabetes Care. 2002;25(1):134-147.</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fficacy of atenolol and captopril in reducing risk of macrovascular and microvascular complications in type 2 diabetes: UKPDS 39. UK Prospective Diabetes Study Group. BMJ. 1998;317(7160):713-720.</a:t>
            </a: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7160" y="685800"/>
            <a:ext cx="514368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e-Adjusted Prevalence of Diabetes by Race/Ethnicity in the US</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In 2000, the age-adjusted prevalence of diabetes for people </a:t>
            </a:r>
            <a:r>
              <a:rPr b="0" lang="en-US" sz="900" spc="-1" strike="noStrike">
                <a:solidFill>
                  <a:srgbClr val="000000"/>
                </a:solidFill>
                <a:latin typeface="Symbol"/>
                <a:ea typeface="Symbol"/>
              </a:rPr>
              <a:t></a:t>
            </a:r>
            <a:r>
              <a:rPr b="0" lang="en-US" sz="900" spc="-1" strike="noStrike">
                <a:solidFill>
                  <a:srgbClr val="000000"/>
                </a:solidFill>
                <a:latin typeface="Verdana"/>
              </a:rPr>
              <a:t>20 years old was 18.8% among American Indians and Alaska Natives, 15.0% among non-Hispanic blacks, 13.6% among Hispanic/Latino Americans, and 7.4% among non-Hispanic whites. It is estimated that 11.4 million non-Hispanic whites, 3.0 million non-Hispanic blacks, 2.0 million Hispanic/Latino Americans, and 105,000 American Indians and Alaska Natives who receive care from the Indian Health Service had diabetes. Non-Hispanic blacks and Hispanic/Latino Americans were 2 times more likely, while American Indian and Alaska Natives were 2.6 times more likely, to have diabetes than non-Hispanic whites. </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ference:</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 Centers for Disease Control and Prevention. National diabetes fact sheet: general information and national estimates on diabetes in the United States, 2000. Atlanta, GA: U.S. Department of Health and Human Services, Centers for Disease Control and Prevention, 2002.</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57160" y="685800"/>
            <a:ext cx="514368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Unicode MS"/>
              </a:rPr>
              <a:t>Risk Factors for Progression of Renal Disea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mong the 332,544 men screened for the Multiple Risk Factor Intervention Trial (MRFIT) from 1973 to 1975, older age, lower income, higher serum cholesterol concentrations, cigarette smoking, diabetes mellitus, a history of hypertension, and black race were also associated with an increased risk of end stage renal disease.  The Third National Health and Nutrition Examination Survey (NHANES III) has added new insights to serum creatinine and hemoglobin concentrations as risk factors for ESRD. Intervention trials for each risk factor that can be modified have not been completed. Accordingly, improvements in certain risk factors (eg, anemia) have not been shown to impact on the progression of renal disease.</a:t>
            </a:r>
            <a:endParaRPr b="0" lang="en-US" sz="1000" spc="-1" strike="noStrike">
              <a:solidFill>
                <a:srgbClr val="000000"/>
              </a:solidFill>
              <a:latin typeface="Verdana"/>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s:</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Klag MJ, Whelton PK, Randall BL, Neaton JD, Brancati FL, Ford CE et al. Blood pressure and end-stage renal disease in men. N Engl J Med. 1996;334(1):13-18.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Jones CA, McQuillan GM, Kusek JW, Eberhardt MS, Herman WH, Coresh J et al. Serum creatinine levels in the US population: Third National Health and Nutrition Examination Survey. Am J Kidney Dis. 1998;32(6):992-999.</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57160" y="685800"/>
            <a:ext cx="514368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istribution by Ethnicity of Persons With Self-Reported Diabetes</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 third National Health and Nutrition Examination Survey (NHANES III) was a national examination study conducted in the United States with the goals of: estimating the prevalence of selected diseases and risk factors; estimating population reference distributions of certain health parameters; documenting and investigating reasons for secular trends in selected diseases and risk factors; contributing to an understanding of disease etiology; and investigating the natural history of selected diseases. The NHANES III sample was selected from 81 counties between 1988 and 1994. Approximately 40,000 people </a:t>
            </a:r>
            <a:r>
              <a:rPr b="0" lang="en-US" sz="900" spc="-1" strike="noStrike">
                <a:solidFill>
                  <a:srgbClr val="000000"/>
                </a:solidFill>
                <a:latin typeface="Symbol"/>
                <a:ea typeface="Symbol"/>
              </a:rPr>
              <a:t></a:t>
            </a:r>
            <a:r>
              <a:rPr b="0" lang="en-US" sz="900" spc="-1" strike="noStrike">
                <a:solidFill>
                  <a:srgbClr val="000000"/>
                </a:solidFill>
                <a:latin typeface="Verdana"/>
              </a:rPr>
              <a:t>2 months old were selected to be interviewed and have a physical examination in a mobile examination center. Accordingly, data from NHANES III were self-reported or obtained during a physical exam. NHANES III included 16,705 participants 18 to 75 years old, with 1,026 participants reporting having received a physician’s diagnosis of diabetes prior to participation. </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RFSS is an on-going data collection program in which all states, the District of Columbia, and three territories have been participating since 1994. BRFSS data are collected by random-digit telephone surveys and designed to monitor state-level prevalence of the major behavioral risks among adults associated with premature morbidity and mortality. BRFSS data are self-reported. In 1995, there were 103,929 participants 18 to 75 years old. A total of 3,059 reported receiving a physician’s diagnosis of diabetes and completed the diabetes module. </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ference:</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aaddine JB, Engelgau MM, Beckles GL, Gregg EW, Thompson TJ, Narayan KM. A diabetes report card for the United States: quality of care in the 1990s. Ann Intern Med. 2002 Apr 16;136(8):565-574.</a:t>
            </a:r>
            <a:endParaRPr b="0" lang="en-US" sz="900" spc="-1" strike="noStrike">
              <a:solidFill>
                <a:srgbClr val="000000"/>
              </a:solidFill>
              <a:latin typeface="Verdan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7160" y="685800"/>
            <a:ext cx="514368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Unicode MS"/>
              </a:rPr>
              <a:t>Persons Initiating Treatment for ESRD Related to Diabetes in the U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Diabetes is clearly a growing public health threat in the US.  Diabetes is a major cause of morbidity and mortality in the US, including end stage renal disease (ESRD). During the 12-year period (1984-1996), there was a 5-fold increase in the number of persons initiating dialysis or renal transplant for ESRD related to diabetes.  And the prevalence of diabetes rose from 4.9% in 1990 to 6.5% in 1998—an increase of 33%. Increases were observed in both sexes, all ages, all ethnic groups, all education levels, and nearly all states. Changes in prevalence varied by state. The prevalence of diabetes was highly correlated with the prevalence of obesity.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s:</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Times New Roman"/>
              </a:rPr>
              <a:t>Mokdad AH, Ford ES, Bowman BA, Nelson DE, Engelgau MM, Vinicor F et al. </a:t>
            </a:r>
            <a:r>
              <a:rPr b="0" lang="en-US" sz="1000" spc="-1" strike="noStrike">
                <a:solidFill>
                  <a:srgbClr val="000000"/>
                </a:solidFill>
                <a:latin typeface="Verdana"/>
                <a:ea typeface="Times New Roman"/>
              </a:rPr>
              <a:t>The continuing increase of diabetes in the US. Diabetes Care. 2001;24(2):412.</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Times New Roman"/>
              </a:rPr>
              <a:t>Mokdad AH, Ford ES, Bowman BA, Nelson DE, Engelgau MM, Vinicor F et al. </a:t>
            </a:r>
            <a:r>
              <a:rPr b="0" lang="en-US" sz="1000" spc="-1" strike="noStrike">
                <a:solidFill>
                  <a:srgbClr val="000000"/>
                </a:solidFill>
                <a:latin typeface="Verdana"/>
                <a:ea typeface="Times New Roman"/>
              </a:rPr>
              <a:t>Diabetes trends in the U.S.: 1990-1998. </a:t>
            </a:r>
            <a:r>
              <a:rPr b="0" lang="fr-FR" sz="1000" spc="-1" strike="noStrike">
                <a:solidFill>
                  <a:srgbClr val="000000"/>
                </a:solidFill>
                <a:latin typeface="Verdana"/>
                <a:ea typeface="Times New Roman"/>
              </a:rPr>
              <a:t>Diabetes Care. 2000;23(9):1278-1283.</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nited States Renal Data System (USRDS) 1997 Annual Data Repo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7160" y="685800"/>
            <a:ext cx="514368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Global Estimates and Projections for Incidence of Diabetes Mellitu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ype 2 diabetes is a global health problem of enormous magnitude, especially in newly industrialized nations and among minorities in developed countries. The majority of the new cases of diabetes will be those with type 2 diabetes, and the majority of these will be in China, the Indian subcontinent and Africa.  Type 2 diabetes is much more prevalent than type 1 diabetes.  In 1997, type 2 was 34 times more common than type 1. By the year 2010, global projections are that there will be a 2-fold increase in diabetes to over 200 million worldwide.  Type 2 diabetes will become 40 times more common than type 1. The proportionate increase in type 2 diabetes will be 15 % greater than type 1 diabetes. Diabetes mellitus is the leading cause of end stage renal disease (ESR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s:</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Zimmet P. Globalization, coca-colonization and the chronic disease epidemic: can the Doomsday scenario be averted? J Intern Med. 2000;247(3):301-310.</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mos A, McCarty D, Zimmet P. The rising global burden of diabetes and its complications: estimates and projections to the year 2010. Diabetic Medicine. 1997;14 (Suppl5):S1-8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57160" y="685800"/>
            <a:ext cx="514368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Odds Ratio for ESRD by Rac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African Americans have the highest risk for end-stage renal disease when compared to whites, with the lowest risk, and Native Americans with an intermediate risk.  Complete explanations for these racial differences are not known, but certain factors are known.  Hypertension is the most common cause of renal failure in African Americans. Among Native Americans, diabetes is the most common cause of renal failu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nited States Renal Data System (USRDS) 2000 Annual Data Report. National Institutes of Health, National Institute of Diabetes and Digestive and Kidney Diseases – Division of Kidney, Urologic and Hematologic Diseases.  USRDS Coordinating Center operated by the Minneapolis Medical Research Foundation.  Internet Address: www.usrds.or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7160" y="685800"/>
            <a:ext cx="514368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Crude Incidence Rates of End Stage Renal Disease, by Race</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he likelihood of developing end stage renal disease (ESRD) is rank ordered as: African-American (Black) &gt; Native American (Native) &gt; Asian American (Asian) &gt; White.  The greater incidence of ESRD among African Americans compared to whites was maintained over the eight years depicted.  The incidence rates of ESRD have continued to steadily increase over the past decade, regardless of ethnicity.</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nited States Renal Data System (USRDS) 2000 Annual Data Report. National Institutes of Health, National Institute of Diabetes and Digestive and Kidney Diseases – Division of Kidney, Urologic and Hematologic Diseases.  USRDS Coordinating Center operated by the Minneapolis Medical Research Foundation.  Internet Address: </a:t>
            </a:r>
            <a:r>
              <a:rPr b="0" lang="en-US" sz="1000" spc="-1" strike="noStrike">
                <a:solidFill>
                  <a:srgbClr val="000000"/>
                </a:solidFill>
                <a:latin typeface="Verdana"/>
                <a:ea typeface="Times New Roman"/>
              </a:rPr>
              <a:t>www.usrds.org</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7160" y="685800"/>
            <a:ext cx="514368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acial Distribution for Comorbidities in Dialysis Patients (1999)</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ince 1995, the percentage of patients with no reported comorbidity or only one co-morbid condition has decreased.  Almost 50% of new patients have three or more co-morbid conditions when they initiate end stage renal disease (ESRD) therapy. Hypertension (73.9%) and diabetes (64.4%) are the complicating co-morbid conditions found most often in new patients, followed by congestive heart failure (33.4%) and ischemic heart disease (24.6%).  In all races, hypertension and diabetes are the two most prominent non-cardiac comorbidities at initiation.  As shown in this slide, a higher percentage of Native Americans have diabetes than Asian, African American or white patients on dialysis.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United States Renal Data System (USRDS) 2000 Annual Data Report. National Institutes of Health, National Institute of Diabetes and Digestive and Kidney Diseases – Division of Kidney, Urologic and Hematologic Diseases.  USRDS Coordinating Center operated by the Minneapolis Medical Research Foundation.  Internet Address: www.usrds.org</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57160" y="685800"/>
            <a:ext cx="514368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CV Mortality in General Population (GP) and Dialysis Patients, by Race</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These data provide preliminary information on the excess of cardiovascular disease (CV) mortality in end stage renal disease (ESRD) as compared to the general population.  In this slide, cardiovascular mortality is defined by death due to arrhythmias, cardiomyopathy, cardiac arrest, myocardial infarction, atherosclerotic heart disease, and pulmonary edema in the general population (GP) [from the National Center for Health Statistics, ICD9 codes 402, 404, 410–414, and 425–429, 1993] compared to ESRD treated by dialysis (US Renal Data System special data request HCFA Form 2746 numbers 23, 26–29, and 31, 1994-1996). Data are stratified by age, race, and gender. After stratification for age, CVD mortality remains 10 times higher in the dialysis population as compared to the general population, even in the older age groups. Although diabetes is a risk factor in each group, CVD mortality in diabetic patients on dialysis (not shown here) is much higher than in diabetic patients in the general population.</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eferences:</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Foley RN, Parfrey PS, Sarnak M. Clinical epidemiology of cardio-vascular disease in chronic renal disease. Am J Kidney Dis.</a:t>
            </a:r>
            <a:r>
              <a:rPr b="0" i="1"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1998</a:t>
            </a:r>
            <a:r>
              <a:rPr b="0" i="1" lang="en-US" sz="1000" spc="-1" strike="noStrike">
                <a:solidFill>
                  <a:srgbClr val="000000"/>
                </a:solidFill>
                <a:latin typeface="Verdana"/>
                <a:ea typeface="Times New Roman"/>
              </a:rPr>
              <a:t>;</a:t>
            </a:r>
            <a:r>
              <a:rPr b="0" lang="en-US" sz="1000" spc="-1" strike="noStrike">
                <a:solidFill>
                  <a:srgbClr val="000000"/>
                </a:solidFill>
                <a:latin typeface="Verdana"/>
                <a:ea typeface="Times New Roman"/>
              </a:rPr>
              <a:t>32(Suppl):S112–S115.</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Sarnak MJ, Levey AS. Epidemiology of Cardiac Disease in Dialysis Patients. Semin Dial. 1999;12:69-76.</a:t>
            </a:r>
            <a:r>
              <a:rPr b="0" lang="en-US" sz="1000" spc="-1" strike="noStrike">
                <a:solidFill>
                  <a:srgbClr val="000000"/>
                </a:solidFill>
                <a:latin typeface="Verdana"/>
                <a:ea typeface="Times New Roman"/>
              </a:rPr>
              <a:t>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7160" y="685800"/>
            <a:ext cx="514368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nal Diseases in Hypertension Core Concepts of Treatm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lood pressure levels are reliable predictors of renal outcome. Absolute systolic and diastolic blood pressure levels correlate with renal risk. In patients with renal disease, blood pressure reduction clearly affects  renal outcome. Proteinuria is an independent predictor of progression of renal disease, independent of absolute blood pressure levels. In both diabetic and non-diabetic patients, blood pressure reduction provides protection against a progressive decline in renal function.  The absolute level of blood pressure reduction is important. African Americans may be at greater risk compared to other racial/ethnic groups. Relative renal hypoperfusion during initial stages of hypertension correlates with a transient limited rise in serum creatinine, however, this phenomenon has become a deterrent to effective therapy rather than a hallmark of appropriate anti-hypertensive management. The reduction of blood pressure and proteinuria has an impact on both cardiovascular and renal risk for, thus far, unexplained reason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eferenc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garwal R. Treatment of hypertension in patients with diabetes: lessons from recent trials. Cardiol Rev. 2001;9(1):36-44.</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kris GL, Williams M, Dworkin L, Elliott WJ, Epstein M, Toto R, Tuttle K, Douglas J, Hsueh W, Sowers J. Preserving renal function in adults with hypertension and diabetes: a consensus approach. National Kidney Foundation Hypertension and Diabetes Executive Committees Working Group. Am J Kidney Dis. 2000;36(3):646-661.</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ianchi S, Bigazzi R, Campese VM. Microalbuminuria in essential hypertension: significance, pathophysiology, and therapeutic implications. Am J Kidney Dis. 1999;34(6):973-99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eane WF. Proteinuria: its clinical importance and role in progressive renal disease. Am J Kidney Dis. 2000;35(4suppl1):S97-S10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Yusuf S, Sleight P, Pogue J, Bosch J, Davies R, Dagenais G. Effects of an angiotensin-converting-enzyme inhibitor, ramipril, on cardiovascular events in high-risk patients. The Heart Outcomes Prevention Evaluation Study Investigators. N Engl J Med. 2000;342(3):145-153.</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24" name="PlaceHolder 2"/>
          <p:cNvSpPr>
            <a:spLocks noGrp="1"/>
          </p:cNvSpPr>
          <p:nvPr>
            <p:ph/>
          </p:nvPr>
        </p:nvSpPr>
        <p:spPr>
          <a:xfrm>
            <a:off x="771120" y="167652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PlaceHolder 3"/>
          <p:cNvSpPr>
            <a:spLocks noGrp="1"/>
          </p:cNvSpPr>
          <p:nvPr>
            <p:ph/>
          </p:nvPr>
        </p:nvSpPr>
        <p:spPr>
          <a:xfrm>
            <a:off x="771120" y="382608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27"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PlaceHolder 4"/>
          <p:cNvSpPr>
            <a:spLocks noGrp="1"/>
          </p:cNvSpPr>
          <p:nvPr>
            <p:ph/>
          </p:nvPr>
        </p:nvSpPr>
        <p:spPr>
          <a:xfrm>
            <a:off x="77112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PlaceHolder 5"/>
          <p:cNvSpPr>
            <a:spLocks noGrp="1"/>
          </p:cNvSpPr>
          <p:nvPr>
            <p:ph/>
          </p:nvPr>
        </p:nvSpPr>
        <p:spPr>
          <a:xfrm>
            <a:off x="525204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32" name="PlaceHolder 2"/>
          <p:cNvSpPr>
            <a:spLocks noGrp="1"/>
          </p:cNvSpPr>
          <p:nvPr>
            <p:ph/>
          </p:nvPr>
        </p:nvSpPr>
        <p:spPr>
          <a:xfrm>
            <a:off x="77112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PlaceHolder 3"/>
          <p:cNvSpPr>
            <a:spLocks noGrp="1"/>
          </p:cNvSpPr>
          <p:nvPr>
            <p:ph/>
          </p:nvPr>
        </p:nvSpPr>
        <p:spPr>
          <a:xfrm>
            <a:off x="372744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PlaceHolder 4"/>
          <p:cNvSpPr>
            <a:spLocks noGrp="1"/>
          </p:cNvSpPr>
          <p:nvPr>
            <p:ph/>
          </p:nvPr>
        </p:nvSpPr>
        <p:spPr>
          <a:xfrm>
            <a:off x="668376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PlaceHolder 5"/>
          <p:cNvSpPr>
            <a:spLocks noGrp="1"/>
          </p:cNvSpPr>
          <p:nvPr>
            <p:ph/>
          </p:nvPr>
        </p:nvSpPr>
        <p:spPr>
          <a:xfrm>
            <a:off x="77112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PlaceHolder 6"/>
          <p:cNvSpPr>
            <a:spLocks noGrp="1"/>
          </p:cNvSpPr>
          <p:nvPr>
            <p:ph/>
          </p:nvPr>
        </p:nvSpPr>
        <p:spPr>
          <a:xfrm>
            <a:off x="372744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PlaceHolder 7"/>
          <p:cNvSpPr>
            <a:spLocks noGrp="1"/>
          </p:cNvSpPr>
          <p:nvPr>
            <p:ph/>
          </p:nvPr>
        </p:nvSpPr>
        <p:spPr>
          <a:xfrm>
            <a:off x="668376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40" name="PlaceHolder 2"/>
          <p:cNvSpPr>
            <a:spLocks noGrp="1"/>
          </p:cNvSpPr>
          <p:nvPr>
            <p:ph type="subTitle"/>
          </p:nvPr>
        </p:nvSpPr>
        <p:spPr>
          <a:xfrm>
            <a:off x="771120" y="1676520"/>
            <a:ext cx="874404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42" name="PlaceHolder 2"/>
          <p:cNvSpPr>
            <a:spLocks noGrp="1"/>
          </p:cNvSpPr>
          <p:nvPr>
            <p:ph/>
          </p:nvPr>
        </p:nvSpPr>
        <p:spPr>
          <a:xfrm>
            <a:off x="771120" y="1676520"/>
            <a:ext cx="8744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44" name="PlaceHolder 2"/>
          <p:cNvSpPr>
            <a:spLocks noGrp="1"/>
          </p:cNvSpPr>
          <p:nvPr>
            <p:ph/>
          </p:nvPr>
        </p:nvSpPr>
        <p:spPr>
          <a:xfrm>
            <a:off x="77112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5" name="PlaceHolder 3"/>
          <p:cNvSpPr>
            <a:spLocks noGrp="1"/>
          </p:cNvSpPr>
          <p:nvPr>
            <p:ph/>
          </p:nvPr>
        </p:nvSpPr>
        <p:spPr>
          <a:xfrm>
            <a:off x="525204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762120" y="228240"/>
            <a:ext cx="8743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49"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0" name="PlaceHolder 3"/>
          <p:cNvSpPr>
            <a:spLocks noGrp="1"/>
          </p:cNvSpPr>
          <p:nvPr>
            <p:ph/>
          </p:nvPr>
        </p:nvSpPr>
        <p:spPr>
          <a:xfrm>
            <a:off x="525204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1" name="PlaceHolder 4"/>
          <p:cNvSpPr>
            <a:spLocks noGrp="1"/>
          </p:cNvSpPr>
          <p:nvPr>
            <p:ph/>
          </p:nvPr>
        </p:nvSpPr>
        <p:spPr>
          <a:xfrm>
            <a:off x="77112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3" name="PlaceHolder 2"/>
          <p:cNvSpPr>
            <a:spLocks noGrp="1"/>
          </p:cNvSpPr>
          <p:nvPr>
            <p:ph type="subTitle"/>
          </p:nvPr>
        </p:nvSpPr>
        <p:spPr>
          <a:xfrm>
            <a:off x="771120" y="1676520"/>
            <a:ext cx="874404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53" name="PlaceHolder 2"/>
          <p:cNvSpPr>
            <a:spLocks noGrp="1"/>
          </p:cNvSpPr>
          <p:nvPr>
            <p:ph/>
          </p:nvPr>
        </p:nvSpPr>
        <p:spPr>
          <a:xfrm>
            <a:off x="77112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4"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5" name="PlaceHolder 4"/>
          <p:cNvSpPr>
            <a:spLocks noGrp="1"/>
          </p:cNvSpPr>
          <p:nvPr>
            <p:ph/>
          </p:nvPr>
        </p:nvSpPr>
        <p:spPr>
          <a:xfrm>
            <a:off x="525204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57"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8"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 name="PlaceHolder 4"/>
          <p:cNvSpPr>
            <a:spLocks noGrp="1"/>
          </p:cNvSpPr>
          <p:nvPr>
            <p:ph/>
          </p:nvPr>
        </p:nvSpPr>
        <p:spPr>
          <a:xfrm>
            <a:off x="771120" y="382608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61" name="PlaceHolder 2"/>
          <p:cNvSpPr>
            <a:spLocks noGrp="1"/>
          </p:cNvSpPr>
          <p:nvPr>
            <p:ph/>
          </p:nvPr>
        </p:nvSpPr>
        <p:spPr>
          <a:xfrm>
            <a:off x="771120" y="167652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PlaceHolder 3"/>
          <p:cNvSpPr>
            <a:spLocks noGrp="1"/>
          </p:cNvSpPr>
          <p:nvPr>
            <p:ph/>
          </p:nvPr>
        </p:nvSpPr>
        <p:spPr>
          <a:xfrm>
            <a:off x="771120" y="382608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64"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5"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PlaceHolder 4"/>
          <p:cNvSpPr>
            <a:spLocks noGrp="1"/>
          </p:cNvSpPr>
          <p:nvPr>
            <p:ph/>
          </p:nvPr>
        </p:nvSpPr>
        <p:spPr>
          <a:xfrm>
            <a:off x="77112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PlaceHolder 5"/>
          <p:cNvSpPr>
            <a:spLocks noGrp="1"/>
          </p:cNvSpPr>
          <p:nvPr>
            <p:ph/>
          </p:nvPr>
        </p:nvSpPr>
        <p:spPr>
          <a:xfrm>
            <a:off x="525204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69" name="PlaceHolder 2"/>
          <p:cNvSpPr>
            <a:spLocks noGrp="1"/>
          </p:cNvSpPr>
          <p:nvPr>
            <p:ph/>
          </p:nvPr>
        </p:nvSpPr>
        <p:spPr>
          <a:xfrm>
            <a:off x="77112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PlaceHolder 3"/>
          <p:cNvSpPr>
            <a:spLocks noGrp="1"/>
          </p:cNvSpPr>
          <p:nvPr>
            <p:ph/>
          </p:nvPr>
        </p:nvSpPr>
        <p:spPr>
          <a:xfrm>
            <a:off x="372744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1" name="PlaceHolder 4"/>
          <p:cNvSpPr>
            <a:spLocks noGrp="1"/>
          </p:cNvSpPr>
          <p:nvPr>
            <p:ph/>
          </p:nvPr>
        </p:nvSpPr>
        <p:spPr>
          <a:xfrm>
            <a:off x="6683760" y="167652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2" name="PlaceHolder 5"/>
          <p:cNvSpPr>
            <a:spLocks noGrp="1"/>
          </p:cNvSpPr>
          <p:nvPr>
            <p:ph/>
          </p:nvPr>
        </p:nvSpPr>
        <p:spPr>
          <a:xfrm>
            <a:off x="77112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PlaceHolder 6"/>
          <p:cNvSpPr>
            <a:spLocks noGrp="1"/>
          </p:cNvSpPr>
          <p:nvPr>
            <p:ph/>
          </p:nvPr>
        </p:nvSpPr>
        <p:spPr>
          <a:xfrm>
            <a:off x="372744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PlaceHolder 7"/>
          <p:cNvSpPr>
            <a:spLocks noGrp="1"/>
          </p:cNvSpPr>
          <p:nvPr>
            <p:ph/>
          </p:nvPr>
        </p:nvSpPr>
        <p:spPr>
          <a:xfrm>
            <a:off x="6683760" y="3826080"/>
            <a:ext cx="28152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5" name="PlaceHolder 2"/>
          <p:cNvSpPr>
            <a:spLocks noGrp="1"/>
          </p:cNvSpPr>
          <p:nvPr>
            <p:ph/>
          </p:nvPr>
        </p:nvSpPr>
        <p:spPr>
          <a:xfrm>
            <a:off x="771120" y="1676520"/>
            <a:ext cx="87440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7" name="PlaceHolder 2"/>
          <p:cNvSpPr>
            <a:spLocks noGrp="1"/>
          </p:cNvSpPr>
          <p:nvPr>
            <p:ph/>
          </p:nvPr>
        </p:nvSpPr>
        <p:spPr>
          <a:xfrm>
            <a:off x="77112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PlaceHolder 3"/>
          <p:cNvSpPr>
            <a:spLocks noGrp="1"/>
          </p:cNvSpPr>
          <p:nvPr>
            <p:ph/>
          </p:nvPr>
        </p:nvSpPr>
        <p:spPr>
          <a:xfrm>
            <a:off x="525204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228240"/>
            <a:ext cx="87436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12"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PlaceHolder 3"/>
          <p:cNvSpPr>
            <a:spLocks noGrp="1"/>
          </p:cNvSpPr>
          <p:nvPr>
            <p:ph/>
          </p:nvPr>
        </p:nvSpPr>
        <p:spPr>
          <a:xfrm>
            <a:off x="525204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PlaceHolder 4"/>
          <p:cNvSpPr>
            <a:spLocks noGrp="1"/>
          </p:cNvSpPr>
          <p:nvPr>
            <p:ph/>
          </p:nvPr>
        </p:nvSpPr>
        <p:spPr>
          <a:xfrm>
            <a:off x="77112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16" name="PlaceHolder 2"/>
          <p:cNvSpPr>
            <a:spLocks noGrp="1"/>
          </p:cNvSpPr>
          <p:nvPr>
            <p:ph/>
          </p:nvPr>
        </p:nvSpPr>
        <p:spPr>
          <a:xfrm>
            <a:off x="771120" y="1676520"/>
            <a:ext cx="42670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PlaceHolder 4"/>
          <p:cNvSpPr>
            <a:spLocks noGrp="1"/>
          </p:cNvSpPr>
          <p:nvPr>
            <p:ph/>
          </p:nvPr>
        </p:nvSpPr>
        <p:spPr>
          <a:xfrm>
            <a:off x="5252040" y="382608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5d759"/>
              </a:solidFill>
              <a:latin typeface="Verdana"/>
            </a:endParaRPr>
          </a:p>
        </p:txBody>
      </p:sp>
      <p:sp>
        <p:nvSpPr>
          <p:cNvPr id="20" name="PlaceHolder 2"/>
          <p:cNvSpPr>
            <a:spLocks noGrp="1"/>
          </p:cNvSpPr>
          <p:nvPr>
            <p:ph/>
          </p:nvPr>
        </p:nvSpPr>
        <p:spPr>
          <a:xfrm>
            <a:off x="77112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PlaceHolder 3"/>
          <p:cNvSpPr>
            <a:spLocks noGrp="1"/>
          </p:cNvSpPr>
          <p:nvPr>
            <p:ph/>
          </p:nvPr>
        </p:nvSpPr>
        <p:spPr>
          <a:xfrm>
            <a:off x="5252040" y="1676520"/>
            <a:ext cx="42670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PlaceHolder 4"/>
          <p:cNvSpPr>
            <a:spLocks noGrp="1"/>
          </p:cNvSpPr>
          <p:nvPr>
            <p:ph/>
          </p:nvPr>
        </p:nvSpPr>
        <p:spPr>
          <a:xfrm>
            <a:off x="771120" y="3826080"/>
            <a:ext cx="87440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Click to edit the title text format</a:t>
            </a:r>
            <a:endParaRPr b="1" lang="en-US" sz="3200" spc="-1" strike="noStrike">
              <a:solidFill>
                <a:srgbClr val="f5d759"/>
              </a:solidFill>
              <a:latin typeface="Verdana"/>
            </a:endParaRPr>
          </a:p>
        </p:txBody>
      </p:sp>
      <p:sp>
        <p:nvSpPr>
          <p:cNvPr id="1" name="PlaceHolder 2"/>
          <p:cNvSpPr>
            <a:spLocks noGrp="1"/>
          </p:cNvSpPr>
          <p:nvPr>
            <p:ph type="body"/>
          </p:nvPr>
        </p:nvSpPr>
        <p:spPr>
          <a:xfrm>
            <a:off x="771120" y="1676520"/>
            <a:ext cx="874404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105160" y="0"/>
            <a:ext cx="518148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Click to edit the title text format</a:t>
            </a:r>
            <a:endParaRPr b="1" lang="en-US" sz="3200" spc="-1" strike="noStrike">
              <a:solidFill>
                <a:srgbClr val="f5d75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Renal Disease in Hypertension</a:t>
            </a:r>
            <a:br>
              <a:rPr sz="3200"/>
            </a:br>
            <a:r>
              <a:rPr b="1" lang="en-US" sz="3200" spc="-1" strike="noStrike">
                <a:solidFill>
                  <a:srgbClr val="ff9900"/>
                </a:solidFill>
                <a:latin typeface="Verdana"/>
              </a:rPr>
              <a:t>Epidemiology</a:t>
            </a:r>
            <a:endParaRPr b="1" lang="en-US" sz="3200" spc="-1" strike="noStrike">
              <a:solidFill>
                <a:srgbClr val="f5d759"/>
              </a:solidFill>
              <a:latin typeface="Verdana"/>
            </a:endParaRPr>
          </a:p>
        </p:txBody>
      </p:sp>
      <p:sp>
        <p:nvSpPr>
          <p:cNvPr id="83" name="PlaceHolder 2"/>
          <p:cNvSpPr>
            <a:spLocks noGrp="1"/>
          </p:cNvSpPr>
          <p:nvPr>
            <p:ph/>
          </p:nvPr>
        </p:nvSpPr>
        <p:spPr>
          <a:xfrm>
            <a:off x="771120" y="1676160"/>
            <a:ext cx="8829720" cy="4724280"/>
          </a:xfrm>
          <a:prstGeom prst="rect">
            <a:avLst/>
          </a:prstGeom>
          <a:noFill/>
          <a:ln w="0">
            <a:noFill/>
          </a:ln>
        </p:spPr>
        <p:txBody>
          <a:bodyPr lIns="90000" rIns="90000" tIns="46800" bIns="46800" anchor="t">
            <a:normAutofit/>
          </a:bodyPr>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ffects of hypertension on the kidney</a:t>
            </a:r>
            <a:endParaRPr b="0" lang="en-US" sz="2200" spc="-1" strike="noStrike">
              <a:solidFill>
                <a:srgbClr val="ffffff"/>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teractions of hypertension and concomitant conditions on the kidney</a:t>
            </a:r>
            <a:endParaRPr b="0" lang="en-US" sz="22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herosclerosi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abetes mellitu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rbidity &amp; mortality associated with chronic renal disease</a:t>
            </a: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onary artery disease</a:t>
            </a:r>
            <a:endParaRPr b="0" lang="en-US" sz="2000" spc="-1" strike="noStrike">
              <a:solidFill>
                <a:srgbClr val="ffffff"/>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gression of chronic renal disease</a:t>
            </a:r>
            <a:endParaRPr b="0" lang="en-US" sz="22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d Stage Renal Disease (ESRD)</a:t>
            </a:r>
            <a:endParaRPr b="0" lang="en-US" sz="2000" spc="-1" strike="noStrike">
              <a:solidFill>
                <a:srgbClr val="ffffff"/>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Hypertension as a consequence of ESRD</a:t>
            </a:r>
            <a:endParaRPr b="0" lang="en-US" sz="2200" spc="-1" strike="noStrike">
              <a:solidFill>
                <a:srgbClr val="ffffff"/>
              </a:solidFill>
              <a:latin typeface="Verdana"/>
            </a:endParaRPr>
          </a:p>
        </p:txBody>
      </p:sp>
      <p:sp>
        <p:nvSpPr>
          <p:cNvPr id="84"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Benefit of Calcium Channel Blockers in Diabetes:</a:t>
            </a:r>
            <a:br>
              <a:rPr sz="2400"/>
            </a:br>
            <a:r>
              <a:rPr b="1" lang="en-US" sz="2400" spc="-1" strike="noStrike">
                <a:solidFill>
                  <a:srgbClr val="f5d759"/>
                </a:solidFill>
                <a:latin typeface="Verdana"/>
              </a:rPr>
              <a:t>Important Findings of 2 Major Clinical Trials</a:t>
            </a:r>
            <a:endParaRPr b="1" lang="en-US" sz="2400" spc="-1" strike="noStrike">
              <a:solidFill>
                <a:srgbClr val="f5d759"/>
              </a:solidFill>
              <a:latin typeface="Verdana"/>
            </a:endParaRPr>
          </a:p>
        </p:txBody>
      </p:sp>
      <p:sp>
        <p:nvSpPr>
          <p:cNvPr id="144" name="PlaceHolder 2"/>
          <p:cNvSpPr>
            <a:spLocks noGrp="1"/>
          </p:cNvSpPr>
          <p:nvPr>
            <p:ph/>
          </p:nvPr>
        </p:nvSpPr>
        <p:spPr>
          <a:xfrm>
            <a:off x="733320" y="1447920"/>
            <a:ext cx="875376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T (1998)</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nsive diastolic blood pressure lowering (based on comparison of diastolic blood pressures of 80 vs 85 vs 90 mmHg) with the calcium channel blocker felodipine lead to fewer cardiovascular events and less cardiovascular mortality</a:t>
            </a:r>
            <a:endParaRPr b="0" lang="en-US" sz="2000" spc="-1" strike="noStrike">
              <a:solidFill>
                <a:srgbClr val="ffffff"/>
              </a:solidFill>
              <a:latin typeface="Verdana"/>
            </a:endParaRPr>
          </a:p>
          <a:p>
            <a:pPr marL="343080" indent="-34308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Syst-Eur (1997) </a:t>
            </a:r>
            <a:endParaRPr b="0" lang="en-US" sz="2000" spc="-1" strike="noStrike">
              <a:solidFill>
                <a:srgbClr val="ffffff"/>
              </a:solidFill>
              <a:latin typeface="Verdana"/>
            </a:endParaRPr>
          </a:p>
          <a:p>
            <a:pPr lvl="1" marL="743040" indent="-28584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Treatment with the calcium channel blocker nitrendipine significantly decreased rate of cardiovascular complications in diabetics </a:t>
            </a:r>
            <a:endParaRPr b="0" lang="en-US" sz="2000" spc="-1" strike="noStrike">
              <a:solidFill>
                <a:srgbClr val="ffffff"/>
              </a:solidFill>
              <a:latin typeface="Verdana"/>
            </a:endParaRPr>
          </a:p>
          <a:p>
            <a:pPr lvl="1" marL="743040" indent="-28584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In older diabetic patients with isolated systolic hypertension, dihydropyridine-based calcium channel blocker treatment with nitrendipine was beneficial (1999)</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Benefit of Calcium Channel Blockers in Diabetes:</a:t>
            </a:r>
            <a:br>
              <a:rPr sz="2400"/>
            </a:br>
            <a:r>
              <a:rPr b="1" lang="en-US" sz="2400" spc="-1" strike="noStrike">
                <a:solidFill>
                  <a:srgbClr val="f5d759"/>
                </a:solidFill>
                <a:latin typeface="Verdana"/>
              </a:rPr>
              <a:t>Important Findings of 2 Major Clinical Trials</a:t>
            </a:r>
            <a:endParaRPr b="1" lang="en-US" sz="2400" spc="-1" strike="noStrike">
              <a:solidFill>
                <a:srgbClr val="f5d759"/>
              </a:solidFill>
              <a:latin typeface="Verdana"/>
            </a:endParaRPr>
          </a:p>
        </p:txBody>
      </p:sp>
      <p:sp>
        <p:nvSpPr>
          <p:cNvPr id="147" name="PlaceHolder 2"/>
          <p:cNvSpPr>
            <a:spLocks noGrp="1"/>
          </p:cNvSpPr>
          <p:nvPr>
            <p:ph/>
          </p:nvPr>
        </p:nvSpPr>
        <p:spPr>
          <a:xfrm>
            <a:off x="733320" y="1447920"/>
            <a:ext cx="8753760" cy="5029200"/>
          </a:xfrm>
          <a:prstGeom prst="rect">
            <a:avLst/>
          </a:prstGeom>
          <a:noFill/>
          <a:ln w="0">
            <a:noFill/>
          </a:ln>
        </p:spPr>
        <p:txBody>
          <a:bodyPr lIns="90000" rIns="90000" tIns="46800" bIns="46800" anchor="t">
            <a:normAutofit/>
          </a:bodyPr>
          <a:p>
            <a:pPr marL="343080" indent="-34308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HOT (1998)</a:t>
            </a:r>
            <a:endParaRPr b="0" lang="en-US" sz="2000" spc="-1" strike="noStrike">
              <a:solidFill>
                <a:srgbClr val="ffffff"/>
              </a:solidFill>
              <a:latin typeface="Verdana"/>
            </a:endParaRPr>
          </a:p>
          <a:p>
            <a:pPr lvl="1" marL="743040" indent="-28584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Intensive diastolic blood pressure lowering (based on comparison of diastolic blood pressures of 80 vs 85 vs 90 mmHg) with the calcium channel blocker felodipine lead to fewer cardiovascular events and less cardiovascular mortality</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yst-Eur (1997)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reatment with the calcium channel blocker nitrendipine significantly decreased rate of cardiovascular complications in diabetic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older diabetic patients with isolated systolic hypertension, dihydropyridine-based calcium channel blocker treatment with nitrendipine was beneficial (1999)</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240"/>
            <a:ext cx="967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Benefit of Diuretics in Diabetes:</a:t>
            </a:r>
            <a:br>
              <a:rPr sz="2400"/>
            </a:br>
            <a:r>
              <a:rPr b="1" lang="en-US" sz="2400" spc="-1" strike="noStrike">
                <a:solidFill>
                  <a:srgbClr val="f5d759"/>
                </a:solidFill>
                <a:latin typeface="Verdana"/>
              </a:rPr>
              <a:t>Important Findings of 2 Major Clinical Trials</a:t>
            </a:r>
            <a:endParaRPr b="1" lang="en-US" sz="2400" spc="-1" strike="noStrike">
              <a:solidFill>
                <a:srgbClr val="f5d759"/>
              </a:solidFill>
              <a:latin typeface="Verdana"/>
            </a:endParaRPr>
          </a:p>
        </p:txBody>
      </p:sp>
      <p:sp>
        <p:nvSpPr>
          <p:cNvPr id="150" name="PlaceHolder 2"/>
          <p:cNvSpPr>
            <a:spLocks noGrp="1"/>
          </p:cNvSpPr>
          <p:nvPr>
            <p:ph/>
          </p:nvPr>
        </p:nvSpPr>
        <p:spPr>
          <a:xfrm>
            <a:off x="771120" y="1447920"/>
            <a:ext cx="8744040" cy="44956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HEP (1991)</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w doses of the diuretic chlorthalidone compared to placebo reduced the risk of stroke in elderly patients with isolated systolic hypertension</a:t>
            </a:r>
            <a:endParaRPr b="0" lang="en-US" sz="2000" spc="-1" strike="noStrike">
              <a:solidFill>
                <a:srgbClr val="ffffff"/>
              </a:solidFill>
              <a:latin typeface="Verdana"/>
            </a:endParaRPr>
          </a:p>
          <a:p>
            <a:pPr marL="343080" indent="-34308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ALLHAT (2000)</a:t>
            </a:r>
            <a:endParaRPr b="0" lang="en-US" sz="2000" spc="-1" strike="noStrike">
              <a:solidFill>
                <a:srgbClr val="ffffff"/>
              </a:solidFill>
              <a:latin typeface="Verdana"/>
            </a:endParaRPr>
          </a:p>
          <a:p>
            <a:pPr lvl="1" marL="743040" indent="-28584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Verdana"/>
              </a:rPr>
              <a:t>In high-risk patients, the diuretic chlorthalidone compared to the alpha-blocker doxazosin yielded equal risk of coronary heart disease death and non-fatal myocardial infarction, but significantly reduced the risk of combined cardiovascular disease events, in particular congestive heart failure</a:t>
            </a:r>
            <a:r>
              <a:rPr b="1" lang="en-US" sz="2000" spc="-1" strike="noStrike">
                <a:solidFill>
                  <a:srgbClr val="ffffff"/>
                </a:solidFill>
                <a:latin typeface="Verdana"/>
              </a:rPr>
              <a:t> </a:t>
            </a:r>
            <a:endParaRPr b="0" lang="en-US" sz="2000" spc="-1" strike="noStrike">
              <a:solidFill>
                <a:srgbClr val="ffffff"/>
              </a:solidFill>
              <a:latin typeface="Verdana"/>
            </a:endParaRPr>
          </a:p>
        </p:txBody>
      </p:sp>
      <p:sp>
        <p:nvSpPr>
          <p:cNvPr id="151"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240"/>
            <a:ext cx="967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Benefit of Diuretics in Diabetes:</a:t>
            </a:r>
            <a:br>
              <a:rPr sz="2400"/>
            </a:br>
            <a:r>
              <a:rPr b="1" lang="en-US" sz="2400" spc="-1" strike="noStrike">
                <a:solidFill>
                  <a:srgbClr val="f5d759"/>
                </a:solidFill>
                <a:latin typeface="Verdana"/>
              </a:rPr>
              <a:t>Important Findings of 2 Major Clinical Trials</a:t>
            </a:r>
            <a:endParaRPr b="1" lang="en-US" sz="2400" spc="-1" strike="noStrike">
              <a:solidFill>
                <a:srgbClr val="f5d759"/>
              </a:solidFill>
              <a:latin typeface="Verdana"/>
            </a:endParaRPr>
          </a:p>
        </p:txBody>
      </p:sp>
      <p:sp>
        <p:nvSpPr>
          <p:cNvPr id="153" name="PlaceHolder 2"/>
          <p:cNvSpPr>
            <a:spLocks noGrp="1"/>
          </p:cNvSpPr>
          <p:nvPr>
            <p:ph/>
          </p:nvPr>
        </p:nvSpPr>
        <p:spPr>
          <a:xfrm>
            <a:off x="771120" y="1447920"/>
            <a:ext cx="8744040" cy="4495680"/>
          </a:xfrm>
          <a:prstGeom prst="rect">
            <a:avLst/>
          </a:prstGeom>
          <a:noFill/>
          <a:ln w="0">
            <a:noFill/>
          </a:ln>
        </p:spPr>
        <p:txBody>
          <a:bodyPr lIns="90000" rIns="90000" tIns="46800" bIns="46800" anchor="t">
            <a:normAutofit/>
          </a:bodyPr>
          <a:p>
            <a:pPr marL="343080" indent="-34308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Verdana"/>
              </a:rPr>
              <a:t>SHEP (1991)</a:t>
            </a:r>
            <a:endParaRPr b="0" lang="en-US" sz="2000" spc="-1" strike="noStrike">
              <a:solidFill>
                <a:srgbClr val="ffffff"/>
              </a:solidFill>
              <a:latin typeface="Verdana"/>
            </a:endParaRPr>
          </a:p>
          <a:p>
            <a:pPr lvl="1" marL="743040" indent="-285840">
              <a:spcBef>
                <a:spcPts val="499"/>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Verdana"/>
              </a:rPr>
              <a:t>Low-doses of the diuretic chlorthalidone compared to placebo reduced the risk of stroke in elderly patients with isolated systolic hypertens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LLHAT (2000)</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 high-risk patients, the diuretic chlorthalidone compared to the </a:t>
            </a:r>
            <a:r>
              <a:rPr b="1" lang="en-US" sz="2000" spc="-1" strike="noStrike">
                <a:solidFill>
                  <a:srgbClr val="ffffff"/>
                </a:solidFill>
                <a:latin typeface="Symbol"/>
                <a:ea typeface="Symbol"/>
              </a:rPr>
              <a:t></a:t>
            </a:r>
            <a:r>
              <a:rPr b="1" lang="en-US" sz="2000" spc="-1" strike="noStrike">
                <a:solidFill>
                  <a:srgbClr val="ffffff"/>
                </a:solidFill>
                <a:latin typeface="Verdana"/>
              </a:rPr>
              <a:t>-andrenergic blocker doxazosin yielded equal risk of coronary heart disease death and non-fatal myocardial infarction, but significantly reduced the risk of combined cardiovascular disease events, in particular congestive heart failure </a:t>
            </a:r>
            <a:endParaRPr b="0" lang="en-US" sz="2000" spc="-1" strike="noStrike">
              <a:solidFill>
                <a:srgbClr val="ffffff"/>
              </a:solidFill>
              <a:latin typeface="Verdana"/>
            </a:endParaRPr>
          </a:p>
        </p:txBody>
      </p:sp>
      <p:sp>
        <p:nvSpPr>
          <p:cNvPr id="154"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Old and New Antihypertensive Therapy and Diabetes: Important Findings of 4 Major Studies</a:t>
            </a:r>
            <a:endParaRPr b="1" lang="en-US" sz="2400" spc="-1" strike="noStrike">
              <a:solidFill>
                <a:srgbClr val="f5d759"/>
              </a:solidFill>
              <a:latin typeface="Verdana"/>
            </a:endParaRPr>
          </a:p>
        </p:txBody>
      </p:sp>
      <p:sp>
        <p:nvSpPr>
          <p:cNvPr id="156" name="PlaceHolder 2"/>
          <p:cNvSpPr>
            <a:spLocks noGrp="1"/>
          </p:cNvSpPr>
          <p:nvPr>
            <p:ph/>
          </p:nvPr>
        </p:nvSpPr>
        <p:spPr>
          <a:xfrm>
            <a:off x="571680" y="1447920"/>
            <a:ext cx="9144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OP-2 (1999)</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ACE inhibitors, enalapril and lisinopril, and the calcium channel blockers (CCBs), felodipine and isradipine, were not superior to diuretics and beta-blockers in treating cardiac outcome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SIGHT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nifedipine was not superior to the diuretic combination HCTZ + amiloride in preventing overall cardiovascular or cerebrovascular complication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NORDIL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diltiazem was not superior to treatment based on diuretics and/or beta-blockers in preventing the primary combined endpoint of all stroke, myocardial infarction, and other cardiovascular death</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ARIC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 hypertensive patients, the use of beta-blockers appeared to increase the risk of developing diabetes</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iazide diuretics, ACE inhibitors, and CCBs did not pose an increased risk</a:t>
            </a:r>
            <a:endParaRPr b="0" lang="en-US" sz="1800" spc="-1" strike="noStrike">
              <a:solidFill>
                <a:srgbClr val="ffffff"/>
              </a:solidFill>
              <a:latin typeface="Verdana"/>
            </a:endParaRPr>
          </a:p>
        </p:txBody>
      </p:sp>
      <p:sp>
        <p:nvSpPr>
          <p:cNvPr id="157"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Old and New Antihypertensive Therapy and Diabetes: Important Findings of 4 Major Studies</a:t>
            </a:r>
            <a:endParaRPr b="1" lang="en-US" sz="2400" spc="-1" strike="noStrike">
              <a:solidFill>
                <a:srgbClr val="f5d759"/>
              </a:solidFill>
              <a:latin typeface="Verdana"/>
            </a:endParaRPr>
          </a:p>
        </p:txBody>
      </p:sp>
      <p:sp>
        <p:nvSpPr>
          <p:cNvPr id="159" name="PlaceHolder 2"/>
          <p:cNvSpPr>
            <a:spLocks noGrp="1"/>
          </p:cNvSpPr>
          <p:nvPr>
            <p:ph/>
          </p:nvPr>
        </p:nvSpPr>
        <p:spPr>
          <a:xfrm>
            <a:off x="571680" y="1447920"/>
            <a:ext cx="9144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STOP-2 (1999)</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ACE inhibitors, enalapril and lisinopril, and the calcium channel blockers (CCBs), felodipine and isradipine, were not superior to diuretics and beta-blockers in treating cardiac outcomes</a:t>
            </a:r>
            <a:endParaRPr b="0" lang="en-US" sz="1800" spc="-1" strike="noStrike">
              <a:solidFill>
                <a:srgbClr val="ffffff"/>
              </a:solidFill>
              <a:latin typeface="Verdana"/>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SIGHT (2000)</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CCB nifedipine was not superior to the diuretic combination HCTZ + amiloride in preventing overall cardiovascular or cerebrovascular complication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NORDIL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diltiazem was not superior to treatment based on diuretics and/or beta-blockers in preventing the primary combined endpoint of all stroke, myocardial infarction, and other cardiovascular death</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ARIC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 hypertensive patients, the use of beta-blockers appeared to increase the risk of developing diabetes</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iazide diuretics, ACE inhibitors, and CCBs did not pose an increased risk</a:t>
            </a:r>
            <a:endParaRPr b="0" lang="en-US" sz="1800" spc="-1" strike="noStrike">
              <a:solidFill>
                <a:srgbClr val="ffffff"/>
              </a:solidFill>
              <a:latin typeface="Verdana"/>
            </a:endParaRPr>
          </a:p>
        </p:txBody>
      </p:sp>
      <p:sp>
        <p:nvSpPr>
          <p:cNvPr id="160"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Old and New Antihypertensive Therapy and Diabetes: Important Findings of 4 Major Studies</a:t>
            </a:r>
            <a:endParaRPr b="1" lang="en-US" sz="2400" spc="-1" strike="noStrike">
              <a:solidFill>
                <a:srgbClr val="f5d759"/>
              </a:solidFill>
              <a:latin typeface="Verdana"/>
            </a:endParaRPr>
          </a:p>
        </p:txBody>
      </p:sp>
      <p:sp>
        <p:nvSpPr>
          <p:cNvPr id="162" name="PlaceHolder 2"/>
          <p:cNvSpPr>
            <a:spLocks noGrp="1"/>
          </p:cNvSpPr>
          <p:nvPr>
            <p:ph/>
          </p:nvPr>
        </p:nvSpPr>
        <p:spPr>
          <a:xfrm>
            <a:off x="571680" y="1447920"/>
            <a:ext cx="9144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STOP-2 (1999)</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ACE inhibitors, enalapril and lisinopril, and the calcium channel blockers (CCBs), felodipine and isradipine, were not superior to diuretics and beta-blockers in treating cardiac outcome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SIGHT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nifedipine was not superior to the diuretic combination HCTZ + amiloride in preventing overall cardiovascular or cerebrovascular complications</a:t>
            </a:r>
            <a:endParaRPr b="0" lang="en-US" sz="1800" spc="-1" strike="noStrike">
              <a:solidFill>
                <a:srgbClr val="ffffff"/>
              </a:solidFill>
              <a:latin typeface="Verdana"/>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RDIL (2000)</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CCB diltiazem was not superior to treatment based on diuretics and/or beta-blockers in preventing the primary combined endpoint of all stroke, myocardial infarction, and other cardiovascular death</a:t>
            </a:r>
            <a:endParaRPr b="0" lang="en-US" sz="1800" spc="-1" strike="noStrike">
              <a:solidFill>
                <a:srgbClr val="ffffff"/>
              </a:solidFill>
              <a:latin typeface="Verdana"/>
            </a:endParaRPr>
          </a:p>
          <a:p>
            <a:pPr marL="343080" indent="-343080">
              <a:lnSpc>
                <a:spcPct val="8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ARIC (2000)</a:t>
            </a:r>
            <a:endParaRPr b="0" lang="en-US" sz="1800" spc="-1" strike="noStrike">
              <a:solidFill>
                <a:srgbClr val="ffffff"/>
              </a:solidFill>
              <a:latin typeface="Verdana"/>
            </a:endParaRPr>
          </a:p>
          <a:p>
            <a:pPr lvl="1" marL="743040" indent="-285840">
              <a:lnSpc>
                <a:spcPct val="8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 hypertensive patients, the use of beta-blockers appeared to increase the risk of developing diabetes</a:t>
            </a:r>
            <a:endParaRPr b="0" lang="en-US" sz="1800" spc="-1" strike="noStrike">
              <a:solidFill>
                <a:srgbClr val="ffffff"/>
              </a:solidFill>
              <a:latin typeface="Verdana"/>
            </a:endParaRPr>
          </a:p>
          <a:p>
            <a:pPr lvl="1" marL="743040" indent="-285840">
              <a:lnSpc>
                <a:spcPct val="8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iazide diuretics, ACE inhibitors, and CCBs did not pose an increased risk</a:t>
            </a:r>
            <a:endParaRPr b="0" lang="en-US" sz="1800" spc="-1" strike="noStrike">
              <a:solidFill>
                <a:srgbClr val="ffffff"/>
              </a:solidFill>
              <a:latin typeface="Verdana"/>
            </a:endParaRPr>
          </a:p>
        </p:txBody>
      </p:sp>
      <p:sp>
        <p:nvSpPr>
          <p:cNvPr id="163"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Old and New Antihypertensive Therapy and Diabetes: Important Findings of 4 Major Studies</a:t>
            </a:r>
            <a:endParaRPr b="1" lang="en-US" sz="2400" spc="-1" strike="noStrike">
              <a:solidFill>
                <a:srgbClr val="f5d759"/>
              </a:solidFill>
              <a:latin typeface="Verdana"/>
            </a:endParaRPr>
          </a:p>
        </p:txBody>
      </p:sp>
      <p:sp>
        <p:nvSpPr>
          <p:cNvPr id="165" name="PlaceHolder 2"/>
          <p:cNvSpPr>
            <a:spLocks noGrp="1"/>
          </p:cNvSpPr>
          <p:nvPr>
            <p:ph/>
          </p:nvPr>
        </p:nvSpPr>
        <p:spPr>
          <a:xfrm>
            <a:off x="571680" y="1447920"/>
            <a:ext cx="9144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STOP-2 (1999)</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ACE inhibitors, enalapril and lisinopril, and the calcium channel blockers (CCBs), felodipine and isradipine, were not superior to diuretics and beta-blockers in treating cardiac outcome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INSIGHT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nifedipine was not superior to the diuretic combination HCTZ + amiloride in preventing overall cardiovascular or cerebrovascular complications</a:t>
            </a:r>
            <a:endParaRPr b="0" lang="en-US" sz="1800" spc="-1" strike="noStrike">
              <a:solidFill>
                <a:srgbClr val="ffffff"/>
              </a:solidFill>
              <a:latin typeface="Verdana"/>
            </a:endParaRPr>
          </a:p>
          <a:p>
            <a:pPr marL="343080" indent="-34308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NORDIL (2000)</a:t>
            </a:r>
            <a:endParaRPr b="0" lang="en-US" sz="1800" spc="-1" strike="noStrike">
              <a:solidFill>
                <a:srgbClr val="ffffff"/>
              </a:solidFill>
              <a:latin typeface="Verdana"/>
            </a:endParaRPr>
          </a:p>
          <a:p>
            <a:pPr lvl="1" marL="743040" indent="-285840">
              <a:lnSpc>
                <a:spcPct val="90000"/>
              </a:lnSpc>
              <a:spcBef>
                <a:spcPts val="451"/>
              </a:spcBef>
              <a:buClr>
                <a:srgbClr val="33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Verdana"/>
              </a:rPr>
              <a:t>The CCB diltiazem was not superior to treatment based on diuretics and/or beta-blockers in preventing the primary combined endpoint of all stroke, myocardial infarction, and other cardiovascular death</a:t>
            </a:r>
            <a:endParaRPr b="0" lang="en-US" sz="1800" spc="-1" strike="noStrike">
              <a:solidFill>
                <a:srgbClr val="ffffff"/>
              </a:solidFill>
              <a:latin typeface="Verdana"/>
            </a:endParaRPr>
          </a:p>
          <a:p>
            <a:pPr marL="343080" indent="-3430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RIC (2000)</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 hypertensive patients, the use of beta-blockers appeared to increase the risk of developing diabetes</a:t>
            </a:r>
            <a:endParaRPr b="0" lang="en-US" sz="18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iazide diuretics, ACE inhibitors, and CCBs did not pose an increased risk</a:t>
            </a:r>
            <a:endParaRPr b="0" lang="en-US" sz="1800" spc="-1" strike="noStrike">
              <a:solidFill>
                <a:srgbClr val="ffffff"/>
              </a:solidFill>
              <a:latin typeface="Verdana"/>
            </a:endParaRPr>
          </a:p>
        </p:txBody>
      </p:sp>
      <p:sp>
        <p:nvSpPr>
          <p:cNvPr id="166"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28240"/>
            <a:ext cx="967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d759"/>
                </a:solidFill>
                <a:latin typeface="Verdana"/>
              </a:rPr>
              <a:t>Benefit of Beta-Blockers in Diabetes:</a:t>
            </a:r>
            <a:br>
              <a:rPr sz="2400"/>
            </a:br>
            <a:r>
              <a:rPr b="1" lang="en-US" sz="2400" spc="-1" strike="noStrike">
                <a:solidFill>
                  <a:srgbClr val="f5d759"/>
                </a:solidFill>
                <a:latin typeface="Verdana"/>
              </a:rPr>
              <a:t>Important Findings of 1 Major Clinical Trial</a:t>
            </a:r>
            <a:endParaRPr b="1" lang="en-US" sz="2400" spc="-1" strike="noStrike">
              <a:solidFill>
                <a:srgbClr val="f5d759"/>
              </a:solidFill>
              <a:latin typeface="Verdana"/>
            </a:endParaRPr>
          </a:p>
        </p:txBody>
      </p:sp>
      <p:sp>
        <p:nvSpPr>
          <p:cNvPr id="168" name="PlaceHolder 2"/>
          <p:cNvSpPr>
            <a:spLocks noGrp="1"/>
          </p:cNvSpPr>
          <p:nvPr>
            <p:ph/>
          </p:nvPr>
        </p:nvSpPr>
        <p:spPr>
          <a:xfrm>
            <a:off x="771120" y="1447920"/>
            <a:ext cx="8744040" cy="44956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KPDS (1998)</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ptopril and atenolol were equally effective in reducing blood pressure to a mean of 144/83 mmHg and 143/81 mmHg, respectively, and had a similar effect on diabetic complications</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69" name=""/>
          <p:cNvSpPr/>
          <p:nvPr/>
        </p:nvSpPr>
        <p:spPr>
          <a:xfrm>
            <a:off x="3697200" y="4800600"/>
            <a:ext cx="6307200" cy="752400"/>
          </a:xfrm>
          <a:custGeom>
            <a:avLst/>
            <a:gdLst/>
            <a:ahLst/>
            <a:rect l="l" t="t" r="r" b="b"/>
            <a:pathLst>
              <a:path w="5024" h="474">
                <a:moveTo>
                  <a:pt x="0" y="470"/>
                </a:moveTo>
                <a:lnTo>
                  <a:pt x="4143" y="474"/>
                </a:lnTo>
                <a:lnTo>
                  <a:pt x="5024" y="0"/>
                </a:lnTo>
                <a:lnTo>
                  <a:pt x="1023" y="9"/>
                </a:lnTo>
                <a:lnTo>
                  <a:pt x="0" y="470"/>
                </a:lnTo>
                <a:close/>
              </a:path>
            </a:pathLst>
          </a:custGeom>
          <a:gradFill rotWithShape="0">
            <a:gsLst>
              <a:gs pos="0">
                <a:srgbClr val="0033c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rot="5400000">
            <a:off x="5598720" y="392040"/>
            <a:ext cx="3279600" cy="5181480"/>
          </a:xfrm>
          <a:custGeom>
            <a:avLst/>
            <a:gdLst>
              <a:gd name="textAreaLeft" fmla="*/ 159840 w 3279600"/>
              <a:gd name="textAreaRight" fmla="*/ 3119760 w 3279600"/>
              <a:gd name="textAreaTop" fmla="*/ 159840 h 5181480"/>
              <a:gd name="textAreaBottom" fmla="*/ 5021640 h 5181480"/>
            </a:gdLst>
            <a:ahLst/>
            <a:rect l="textAreaLeft" t="textAreaTop" r="textAreaRight" b="textAreaBottom"/>
            <a:pathLst>
              <a:path w="21600" h="34125">
                <a:moveTo>
                  <a:pt x="3600" y="0"/>
                </a:moveTo>
                <a:arcTo wR="3600" hR="3600" stAng="16200000" swAng="-5400000"/>
                <a:lnTo>
                  <a:pt x="0" y="30525"/>
                </a:lnTo>
                <a:arcTo wR="3600" hR="3600" stAng="10800000" swAng="-5400000"/>
                <a:lnTo>
                  <a:pt x="18000" y="34125"/>
                </a:lnTo>
                <a:arcTo wR="3600" hR="3600" stAng="5400000" swAng="-5400000"/>
                <a:lnTo>
                  <a:pt x="21600" y="3600"/>
                </a:lnTo>
                <a:arcTo wR="3600" hR="3600" stAng="0" swAng="-5400000"/>
                <a:close/>
              </a:path>
            </a:pathLst>
          </a:custGeom>
          <a:gradFill rotWithShape="0">
            <a:gsLst>
              <a:gs pos="0">
                <a:srgbClr val="000099"/>
              </a:gs>
              <a:gs pos="100000">
                <a:srgbClr val="00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71" name=""/>
          <p:cNvGraphicFramePr/>
          <p:nvPr/>
        </p:nvGraphicFramePr>
        <p:xfrm>
          <a:off x="3270240" y="914400"/>
          <a:ext cx="6810480" cy="4619520"/>
        </p:xfrm>
        <a:graphic>
          <a:graphicData uri="http://schemas.openxmlformats.org/presentationml/2006/ole">
            <p:oleObj r:id="rId1" spid="">
              <p:embed/>
              <p:pic>
                <p:nvPicPr>
                  <p:cNvPr id="172" name="" descr=""/>
                  <p:cNvPicPr/>
                  <p:nvPr/>
                </p:nvPicPr>
                <p:blipFill>
                  <a:blip r:embed="rId2"/>
                  <a:stretch/>
                </p:blipFill>
                <p:spPr>
                  <a:xfrm>
                    <a:off x="3270240" y="914400"/>
                    <a:ext cx="6810480" cy="4619520"/>
                  </a:xfrm>
                  <a:prstGeom prst="rect">
                    <a:avLst/>
                  </a:prstGeom>
                  <a:ln w="0">
                    <a:noFill/>
                  </a:ln>
                </p:spPr>
              </p:pic>
            </p:oleObj>
          </a:graphicData>
        </a:graphic>
      </p:graphicFrame>
      <p:sp>
        <p:nvSpPr>
          <p:cNvPr id="173" name=""/>
          <p:cNvSpPr/>
          <p:nvPr/>
        </p:nvSpPr>
        <p:spPr>
          <a:xfrm rot="16209600">
            <a:off x="1753560" y="535680"/>
            <a:ext cx="729000" cy="3017880"/>
          </a:xfrm>
          <a:prstGeom prst="rect">
            <a:avLst/>
          </a:prstGeom>
          <a:noFill/>
          <a:ln w="0">
            <a:noFill/>
          </a:ln>
        </p:spPr>
        <p:style>
          <a:lnRef idx="0"/>
          <a:fillRef idx="0"/>
          <a:effectRef idx="0"/>
          <a:fontRef idx="minor"/>
        </p:style>
        <p:txBody>
          <a:bodyPr lIns="90000" rIns="90000" tIns="46800" bIns="46800" anchor="b" vert="eaVe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merican Indians/</a:t>
            </a:r>
            <a:br>
              <a:rPr sz="2000"/>
            </a:br>
            <a:r>
              <a:rPr b="1" lang="en-US" sz="2000" spc="-1" strike="noStrike">
                <a:solidFill>
                  <a:srgbClr val="ffffff"/>
                </a:solidFill>
                <a:latin typeface="Verdana"/>
              </a:rPr>
              <a:t>Alaska Natives</a:t>
            </a:r>
            <a:endParaRPr b="0" lang="en-US" sz="2000" spc="-1" strike="noStrike">
              <a:solidFill>
                <a:srgbClr val="ffffff"/>
              </a:solidFill>
              <a:latin typeface="Times New Roman"/>
            </a:endParaRPr>
          </a:p>
        </p:txBody>
      </p:sp>
      <p:sp>
        <p:nvSpPr>
          <p:cNvPr id="174"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d759"/>
                </a:solidFill>
                <a:latin typeface="Verdana"/>
              </a:rPr>
              <a:t>Age-Adjusted Prevalence of Diabetes* </a:t>
            </a:r>
            <a:br>
              <a:rPr sz="2800"/>
            </a:br>
            <a:r>
              <a:rPr b="1" lang="en-US" sz="2800" spc="-1" strike="noStrike">
                <a:solidFill>
                  <a:srgbClr val="f5d759"/>
                </a:solidFill>
                <a:latin typeface="Verdana"/>
              </a:rPr>
              <a:t>by Race/Ethnicity in the US</a:t>
            </a:r>
            <a:endParaRPr b="1" lang="en-US" sz="2800" spc="-1" strike="noStrike">
              <a:solidFill>
                <a:srgbClr val="f5d759"/>
              </a:solidFill>
              <a:latin typeface="Verdana"/>
            </a:endParaRPr>
          </a:p>
        </p:txBody>
      </p:sp>
      <p:sp>
        <p:nvSpPr>
          <p:cNvPr id="175" name=""/>
          <p:cNvSpPr/>
          <p:nvPr/>
        </p:nvSpPr>
        <p:spPr>
          <a:xfrm>
            <a:off x="5334120" y="5459400"/>
            <a:ext cx="24573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cent</a:t>
            </a:r>
            <a:endParaRPr b="0" lang="en-US" sz="1800" spc="-1" strike="noStrike">
              <a:solidFill>
                <a:srgbClr val="ffffff"/>
              </a:solidFill>
              <a:latin typeface="Times New Roman"/>
            </a:endParaRPr>
          </a:p>
        </p:txBody>
      </p:sp>
      <p:sp>
        <p:nvSpPr>
          <p:cNvPr id="176" name=""/>
          <p:cNvSpPr/>
          <p:nvPr/>
        </p:nvSpPr>
        <p:spPr>
          <a:xfrm rot="16209600">
            <a:off x="1755360" y="2211120"/>
            <a:ext cx="729000" cy="3021120"/>
          </a:xfrm>
          <a:prstGeom prst="rect">
            <a:avLst/>
          </a:prstGeom>
          <a:noFill/>
          <a:ln w="0">
            <a:noFill/>
          </a:ln>
        </p:spPr>
        <p:style>
          <a:lnRef idx="0"/>
          <a:fillRef idx="0"/>
          <a:effectRef idx="0"/>
          <a:fontRef idx="minor"/>
        </p:style>
        <p:txBody>
          <a:bodyPr lIns="90000" rIns="90000" tIns="46800" bIns="46800" anchor="b" vert="eaVe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ispanic/Latino</a:t>
            </a:r>
            <a:br>
              <a:rPr sz="2000"/>
            </a:br>
            <a:r>
              <a:rPr b="1" lang="en-US" sz="2000" spc="-1" strike="noStrike">
                <a:solidFill>
                  <a:srgbClr val="ffffff"/>
                </a:solidFill>
                <a:latin typeface="Verdana"/>
              </a:rPr>
              <a:t>Americans</a:t>
            </a:r>
            <a:endParaRPr b="0" lang="en-US" sz="2000" spc="-1" strike="noStrike">
              <a:solidFill>
                <a:srgbClr val="ffffff"/>
              </a:solidFill>
              <a:latin typeface="Times New Roman"/>
            </a:endParaRPr>
          </a:p>
        </p:txBody>
      </p:sp>
      <p:sp>
        <p:nvSpPr>
          <p:cNvPr id="177" name=""/>
          <p:cNvSpPr/>
          <p:nvPr/>
        </p:nvSpPr>
        <p:spPr>
          <a:xfrm rot="16209600">
            <a:off x="1971000" y="1384920"/>
            <a:ext cx="454680" cy="3025800"/>
          </a:xfrm>
          <a:prstGeom prst="rect">
            <a:avLst/>
          </a:prstGeom>
          <a:noFill/>
          <a:ln w="0">
            <a:noFill/>
          </a:ln>
        </p:spPr>
        <p:style>
          <a:lnRef idx="0"/>
          <a:fillRef idx="0"/>
          <a:effectRef idx="0"/>
          <a:fontRef idx="minor"/>
        </p:style>
        <p:txBody>
          <a:bodyPr lIns="90000" rIns="90000" tIns="46800" bIns="46800" anchor="b" vert="eaVe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n-Hispanic Blacks</a:t>
            </a:r>
            <a:endParaRPr b="0" lang="en-US" sz="2000" spc="-1" strike="noStrike">
              <a:solidFill>
                <a:srgbClr val="ffffff"/>
              </a:solidFill>
              <a:latin typeface="Times New Roman"/>
            </a:endParaRPr>
          </a:p>
        </p:txBody>
      </p:sp>
      <p:sp>
        <p:nvSpPr>
          <p:cNvPr id="178" name=""/>
          <p:cNvSpPr/>
          <p:nvPr/>
        </p:nvSpPr>
        <p:spPr>
          <a:xfrm flipH="1">
            <a:off x="645840" y="3324240"/>
            <a:ext cx="308268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645840" y="2492280"/>
            <a:ext cx="308268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645840" y="4149720"/>
            <a:ext cx="3082680" cy="0"/>
          </a:xfrm>
          <a:prstGeom prst="line">
            <a:avLst/>
          </a:prstGeom>
          <a:ln w="936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rot="16209600">
            <a:off x="1896120" y="3211920"/>
            <a:ext cx="454680" cy="3025800"/>
          </a:xfrm>
          <a:prstGeom prst="rect">
            <a:avLst/>
          </a:prstGeom>
          <a:noFill/>
          <a:ln w="0">
            <a:noFill/>
          </a:ln>
        </p:spPr>
        <p:style>
          <a:lnRef idx="0"/>
          <a:fillRef idx="0"/>
          <a:effectRef idx="0"/>
          <a:fontRef idx="minor"/>
        </p:style>
        <p:txBody>
          <a:bodyPr lIns="90000" rIns="90000" tIns="46800" bIns="46800" anchor="b" vert="eaVe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n-Hispanic Whites</a:t>
            </a:r>
            <a:endParaRPr b="0" lang="en-US" sz="2000" spc="-1" strike="noStrike">
              <a:solidFill>
                <a:srgbClr val="ffffff"/>
              </a:solidFill>
              <a:latin typeface="Times New Roman"/>
            </a:endParaRPr>
          </a:p>
        </p:txBody>
      </p:sp>
      <p:sp>
        <p:nvSpPr>
          <p:cNvPr id="182" name=""/>
          <p:cNvSpPr/>
          <p:nvPr/>
        </p:nvSpPr>
        <p:spPr>
          <a:xfrm>
            <a:off x="7010280" y="640080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
        <p:nvSpPr>
          <p:cNvPr id="184" name=""/>
          <p:cNvSpPr/>
          <p:nvPr/>
        </p:nvSpPr>
        <p:spPr>
          <a:xfrm>
            <a:off x="514440" y="5486400"/>
            <a:ext cx="356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e697"/>
                </a:solidFill>
                <a:latin typeface="Verdana"/>
              </a:rPr>
              <a:t>*In people 20+ years old</a:t>
            </a:r>
            <a:endParaRPr b="0" lang="en-US" sz="1600" spc="-1" strike="noStrike">
              <a:solidFill>
                <a:srgbClr val="ffffff"/>
              </a:solidFill>
              <a:latin typeface="Times New Roman"/>
            </a:endParaRPr>
          </a:p>
        </p:txBody>
      </p:sp>
      <p:sp>
        <p:nvSpPr>
          <p:cNvPr id="185" name=""/>
          <p:cNvSpPr/>
          <p:nvPr/>
        </p:nvSpPr>
        <p:spPr>
          <a:xfrm>
            <a:off x="533520" y="6477120"/>
            <a:ext cx="5790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CDC. National Diabetes Fact Sheet. 2002.</a:t>
            </a:r>
            <a:endParaRPr b="0" lang="en-US" sz="1400" spc="-1" strike="noStrike">
              <a:solidFill>
                <a:srgbClr val="ffffff"/>
              </a:solidFill>
              <a:latin typeface="Times New Roman"/>
            </a:endParaRPr>
          </a:p>
        </p:txBody>
      </p:sp>
      <p:sp>
        <p:nvSpPr>
          <p:cNvPr id="186" name=""/>
          <p:cNvSpPr/>
          <p:nvPr/>
        </p:nvSpPr>
        <p:spPr>
          <a:xfrm>
            <a:off x="533520" y="5796000"/>
            <a:ext cx="9296280" cy="7333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697"/>
                </a:solidFill>
                <a:latin typeface="Verdana"/>
              </a:rPr>
              <a:t>Sources: 1997-1999 National Health Interview Survey and 1988-1994 National Health and Nutrition Examination Survey (NHANES) estimates projected to year 2000. 1998 outpatient database of the Indian Health Service</a:t>
            </a:r>
            <a:endParaRPr b="0" lang="en-US" sz="1400" spc="-1" strike="noStrike">
              <a:solidFill>
                <a:srgbClr val="ffffff"/>
              </a:solidFill>
              <a:latin typeface="Times New Roman"/>
            </a:endParaRPr>
          </a:p>
        </p:txBody>
      </p:sp>
      <p:sp>
        <p:nvSpPr>
          <p:cNvPr id="187" name=""/>
          <p:cNvSpPr/>
          <p:nvPr/>
        </p:nvSpPr>
        <p:spPr>
          <a:xfrm>
            <a:off x="8381880" y="1752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a:t>
            </a:r>
            <a:endParaRPr b="0" lang="en-US" sz="2400" spc="-1" strike="noStrike">
              <a:solidFill>
                <a:srgbClr val="ffffff"/>
              </a:solidFill>
              <a:latin typeface="Times New Roman"/>
            </a:endParaRPr>
          </a:p>
        </p:txBody>
      </p:sp>
      <p:sp>
        <p:nvSpPr>
          <p:cNvPr id="188" name=""/>
          <p:cNvSpPr/>
          <p:nvPr/>
        </p:nvSpPr>
        <p:spPr>
          <a:xfrm>
            <a:off x="7467480" y="2590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a:t>
            </a:r>
            <a:endParaRPr b="0" lang="en-US" sz="2400" spc="-1" strike="noStrike">
              <a:solidFill>
                <a:srgbClr val="ffffff"/>
              </a:solidFill>
              <a:latin typeface="Times New Roman"/>
            </a:endParaRPr>
          </a:p>
        </p:txBody>
      </p:sp>
      <p:sp>
        <p:nvSpPr>
          <p:cNvPr id="189" name=""/>
          <p:cNvSpPr/>
          <p:nvPr/>
        </p:nvSpPr>
        <p:spPr>
          <a:xfrm>
            <a:off x="7162920" y="3429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4%</a:t>
            </a:r>
            <a:endParaRPr b="0" lang="en-US" sz="2400" spc="-1" strike="noStrike">
              <a:solidFill>
                <a:srgbClr val="ffffff"/>
              </a:solidFill>
              <a:latin typeface="Times New Roman"/>
            </a:endParaRPr>
          </a:p>
        </p:txBody>
      </p:sp>
      <p:sp>
        <p:nvSpPr>
          <p:cNvPr id="190" name=""/>
          <p:cNvSpPr/>
          <p:nvPr/>
        </p:nvSpPr>
        <p:spPr>
          <a:xfrm>
            <a:off x="5715000" y="4343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Risk Factors for </a:t>
            </a:r>
            <a:br>
              <a:rPr sz="3200"/>
            </a:br>
            <a:r>
              <a:rPr b="1" lang="en-US" sz="3200" spc="-1" strike="noStrike">
                <a:solidFill>
                  <a:srgbClr val="f5d759"/>
                </a:solidFill>
                <a:latin typeface="Verdana"/>
              </a:rPr>
              <a:t>Progression of Renal Disease</a:t>
            </a:r>
            <a:endParaRPr b="1" lang="en-US" sz="3200" spc="-1" strike="noStrike">
              <a:solidFill>
                <a:srgbClr val="f5d759"/>
              </a:solidFill>
              <a:latin typeface="Verdana"/>
            </a:endParaRPr>
          </a:p>
        </p:txBody>
      </p:sp>
      <p:graphicFrame>
        <p:nvGraphicFramePr>
          <p:cNvPr id="87" name=""/>
          <p:cNvGraphicFramePr/>
          <p:nvPr/>
        </p:nvGraphicFramePr>
        <p:xfrm>
          <a:off x="762120" y="1676520"/>
          <a:ext cx="8743680" cy="4114800"/>
        </p:xfrm>
        <a:graphic>
          <a:graphicData uri="http://schemas.openxmlformats.org/drawingml/2006/table">
            <a:tbl>
              <a:tblPr/>
              <a:tblGrid>
                <a:gridCol w="4678200"/>
                <a:gridCol w="4065480"/>
              </a:tblGrid>
              <a:tr h="53100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 be modified</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gradFill rotWithShape="0">
                      <a:gsLst>
                        <a:gs pos="0">
                          <a:srgbClr val="ff9900"/>
                        </a:gs>
                        <a:gs pos="50000">
                          <a:srgbClr val="fee6c3"/>
                        </a:gs>
                        <a:gs pos="100000">
                          <a:srgbClr val="ff9900"/>
                        </a:gs>
                      </a:gsLst>
                      <a:lin ang="5400000"/>
                    </a:gra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nnot be modified</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gradFill rotWithShape="0">
                      <a:gsLst>
                        <a:gs pos="0">
                          <a:srgbClr val="ff9900"/>
                        </a:gs>
                        <a:gs pos="50000">
                          <a:srgbClr val="fee6c3"/>
                        </a:gs>
                        <a:gs pos="100000">
                          <a:srgbClr val="ff9900"/>
                        </a:gs>
                      </a:gsLst>
                      <a:lin ang="5400000"/>
                    </a:grad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ypertension</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ge</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lbuminuria/Proteinuria</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thnicity</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yslipidemia</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nder</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moglobin A</a:t>
                      </a:r>
                      <a:r>
                        <a:rPr b="1" lang="en-US" sz="2000" spc="-1" strike="noStrike" baseline="-25000">
                          <a:solidFill>
                            <a:srgbClr val="ffffff"/>
                          </a:solidFill>
                          <a:latin typeface="Verdana"/>
                        </a:rPr>
                        <a:t>1C</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22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moking</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emia</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511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a:t>
                      </a:r>
                      <a:r>
                        <a:rPr b="1" lang="en-US" sz="1600" spc="-1" strike="noStrike">
                          <a:solidFill>
                            <a:srgbClr val="ffffff"/>
                          </a:solidFill>
                          <a:latin typeface="Verdana"/>
                          <a:ea typeface="Tahoma"/>
                        </a:rPr>
                        <a:t>•</a:t>
                      </a:r>
                      <a:r>
                        <a:rPr b="1" lang="en-US" sz="2000" spc="-1" strike="noStrike">
                          <a:solidFill>
                            <a:srgbClr val="ffffff"/>
                          </a:solidFill>
                          <a:latin typeface="Verdana"/>
                          <a:ea typeface="Tahoma"/>
                        </a:rPr>
                        <a:t>P0</a:t>
                      </a:r>
                      <a:r>
                        <a:rPr b="1" lang="en-US" sz="2000" spc="-1" strike="noStrike" baseline="-25000">
                          <a:solidFill>
                            <a:srgbClr val="ffffff"/>
                          </a:solidFill>
                          <a:latin typeface="Verdana"/>
                          <a:ea typeface="Tahoma"/>
                        </a:rPr>
                        <a:t>4</a:t>
                      </a:r>
                      <a:endParaRPr b="0" lang="en-US" sz="20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
        <p:nvSpPr>
          <p:cNvPr id="88"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91" name=""/>
          <p:cNvSpPr/>
          <p:nvPr/>
        </p:nvSpPr>
        <p:spPr>
          <a:xfrm>
            <a:off x="6134040" y="1359000"/>
            <a:ext cx="2949480" cy="1612800"/>
          </a:xfrm>
          <a:prstGeom prst="roundRect">
            <a:avLst>
              <a:gd name="adj" fmla="val 16667"/>
            </a:avLst>
          </a:prstGeom>
          <a:gradFill rotWithShape="0">
            <a:gsLst>
              <a:gs pos="0">
                <a:srgbClr val="000066"/>
              </a:gs>
              <a:gs pos="100000">
                <a:srgbClr val="0023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447920" y="1359000"/>
            <a:ext cx="2949480" cy="1612800"/>
          </a:xfrm>
          <a:prstGeom prst="roundRect">
            <a:avLst>
              <a:gd name="adj" fmla="val 16667"/>
            </a:avLst>
          </a:prstGeom>
          <a:gradFill rotWithShape="0">
            <a:gsLst>
              <a:gs pos="0">
                <a:srgbClr val="000066"/>
              </a:gs>
              <a:gs pos="100000">
                <a:srgbClr val="0023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778040" y="1359000"/>
            <a:ext cx="2457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697"/>
                </a:solidFill>
                <a:latin typeface="Verdana"/>
              </a:rPr>
              <a:t>NHANES III*</a:t>
            </a: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697"/>
                </a:solidFill>
                <a:latin typeface="Verdana"/>
              </a:rPr>
              <a:t>(n=1,026)</a:t>
            </a:r>
            <a:endParaRPr b="0" lang="en-US" sz="2000" spc="-1" strike="noStrike">
              <a:solidFill>
                <a:srgbClr val="ffffff"/>
              </a:solidFill>
              <a:latin typeface="Times New Roman"/>
            </a:endParaRPr>
          </a:p>
        </p:txBody>
      </p:sp>
      <p:sp>
        <p:nvSpPr>
          <p:cNvPr id="194" name=""/>
          <p:cNvSpPr/>
          <p:nvPr/>
        </p:nvSpPr>
        <p:spPr>
          <a:xfrm>
            <a:off x="6326280" y="1359000"/>
            <a:ext cx="2457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697"/>
                </a:solidFill>
                <a:latin typeface="Verdana"/>
              </a:rPr>
              <a:t>BRFSS</a:t>
            </a:r>
            <a:r>
              <a:rPr b="1" lang="en-US" sz="2000" spc="-1" strike="noStrike" baseline="30000">
                <a:solidFill>
                  <a:srgbClr val="f9e697"/>
                </a:solidFill>
                <a:latin typeface="Verdana"/>
              </a:rPr>
              <a:t>†</a:t>
            </a: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697"/>
                </a:solidFill>
                <a:latin typeface="Verdana"/>
              </a:rPr>
              <a:t>(n=3,059)</a:t>
            </a:r>
            <a:endParaRPr b="0" lang="en-US" sz="2000" spc="-1" strike="noStrike">
              <a:solidFill>
                <a:srgbClr val="ffffff"/>
              </a:solidFill>
              <a:latin typeface="Times New Roman"/>
            </a:endParaRPr>
          </a:p>
        </p:txBody>
      </p:sp>
      <p:sp>
        <p:nvSpPr>
          <p:cNvPr id="195" name=""/>
          <p:cNvSpPr/>
          <p:nvPr/>
        </p:nvSpPr>
        <p:spPr>
          <a:xfrm>
            <a:off x="971640" y="4195800"/>
            <a:ext cx="3886200" cy="76212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427720" y="4195800"/>
            <a:ext cx="3886200" cy="76212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97" name=""/>
          <p:cNvGraphicFramePr/>
          <p:nvPr/>
        </p:nvGraphicFramePr>
        <p:xfrm>
          <a:off x="771480" y="1523880"/>
          <a:ext cx="4334040" cy="4114800"/>
        </p:xfrm>
        <a:graphic>
          <a:graphicData uri="http://schemas.openxmlformats.org/presentationml/2006/ole">
            <p:oleObj r:id="rId1" spid="">
              <p:embed/>
              <p:pic>
                <p:nvPicPr>
                  <p:cNvPr id="198" name="" descr=""/>
                  <p:cNvPicPr/>
                  <p:nvPr/>
                </p:nvPicPr>
                <p:blipFill>
                  <a:blip r:embed="rId2"/>
                  <a:stretch/>
                </p:blipFill>
                <p:spPr>
                  <a:xfrm>
                    <a:off x="771480" y="1523880"/>
                    <a:ext cx="4334040" cy="4114800"/>
                  </a:xfrm>
                  <a:prstGeom prst="rect">
                    <a:avLst/>
                  </a:prstGeom>
                  <a:ln w="0">
                    <a:noFill/>
                  </a:ln>
                </p:spPr>
              </p:pic>
            </p:oleObj>
          </a:graphicData>
        </a:graphic>
      </p:graphicFrame>
      <p:graphicFrame>
        <p:nvGraphicFramePr>
          <p:cNvPr id="199" name=""/>
          <p:cNvGraphicFramePr/>
          <p:nvPr/>
        </p:nvGraphicFramePr>
        <p:xfrm>
          <a:off x="5191200" y="1523880"/>
          <a:ext cx="4333680" cy="4114800"/>
        </p:xfrm>
        <a:graphic>
          <a:graphicData uri="http://schemas.openxmlformats.org/presentationml/2006/ole">
            <p:oleObj r:id="rId3" spid="">
              <p:embed/>
              <p:pic>
                <p:nvPicPr>
                  <p:cNvPr id="200" name="" descr=""/>
                  <p:cNvPicPr/>
                  <p:nvPr/>
                </p:nvPicPr>
                <p:blipFill>
                  <a:blip r:embed="rId4"/>
                  <a:stretch/>
                </p:blipFill>
                <p:spPr>
                  <a:xfrm>
                    <a:off x="5191200" y="1523880"/>
                    <a:ext cx="4333680" cy="4114800"/>
                  </a:xfrm>
                  <a:prstGeom prst="rect">
                    <a:avLst/>
                  </a:prstGeom>
                  <a:ln w="0">
                    <a:noFill/>
                  </a:ln>
                </p:spPr>
              </p:pic>
            </p:oleObj>
          </a:graphicData>
        </a:graphic>
      </p:graphicFrame>
      <p:sp>
        <p:nvSpPr>
          <p:cNvPr id="201"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d759"/>
                </a:solidFill>
                <a:latin typeface="Verdana"/>
              </a:rPr>
              <a:t>Distribution by Ethnicity of Persons </a:t>
            </a:r>
            <a:br>
              <a:rPr sz="2800"/>
            </a:br>
            <a:r>
              <a:rPr b="1" lang="en-US" sz="2800" spc="-1" strike="noStrike">
                <a:solidFill>
                  <a:srgbClr val="f5d759"/>
                </a:solidFill>
                <a:latin typeface="Verdana"/>
              </a:rPr>
              <a:t>With Self-Reported Diabetes</a:t>
            </a:r>
            <a:endParaRPr b="1" lang="en-US" sz="2800" spc="-1" strike="noStrike">
              <a:solidFill>
                <a:srgbClr val="f5d759"/>
              </a:solidFill>
              <a:latin typeface="Verdana"/>
            </a:endParaRPr>
          </a:p>
        </p:txBody>
      </p:sp>
      <p:sp>
        <p:nvSpPr>
          <p:cNvPr id="202" name=""/>
          <p:cNvSpPr/>
          <p:nvPr/>
        </p:nvSpPr>
        <p:spPr>
          <a:xfrm>
            <a:off x="2133720" y="52196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2133720" y="5600880"/>
            <a:ext cx="2286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181480" y="5219640"/>
            <a:ext cx="228600" cy="2286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286000" y="5130720"/>
            <a:ext cx="28195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Hispanic White</a:t>
            </a:r>
            <a:endParaRPr b="0" lang="en-US" sz="1800" spc="-1" strike="noStrike">
              <a:solidFill>
                <a:srgbClr val="ffffff"/>
              </a:solidFill>
              <a:latin typeface="Times New Roman"/>
            </a:endParaRPr>
          </a:p>
        </p:txBody>
      </p:sp>
      <p:sp>
        <p:nvSpPr>
          <p:cNvPr id="206" name=""/>
          <p:cNvSpPr/>
          <p:nvPr/>
        </p:nvSpPr>
        <p:spPr>
          <a:xfrm>
            <a:off x="2158920" y="5511960"/>
            <a:ext cx="4419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ispanic or Mexican American</a:t>
            </a:r>
            <a:endParaRPr b="0" lang="en-US" sz="1800" spc="-1" strike="noStrike">
              <a:solidFill>
                <a:srgbClr val="ffffff"/>
              </a:solidFill>
              <a:latin typeface="Times New Roman"/>
            </a:endParaRPr>
          </a:p>
        </p:txBody>
      </p:sp>
      <p:sp>
        <p:nvSpPr>
          <p:cNvPr id="207" name=""/>
          <p:cNvSpPr/>
          <p:nvPr/>
        </p:nvSpPr>
        <p:spPr>
          <a:xfrm>
            <a:off x="6705720" y="6400800"/>
            <a:ext cx="31240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
        <p:nvSpPr>
          <p:cNvPr id="208" name=""/>
          <p:cNvSpPr/>
          <p:nvPr/>
        </p:nvSpPr>
        <p:spPr>
          <a:xfrm>
            <a:off x="533520" y="6477120"/>
            <a:ext cx="5790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Saaddine JB, et al. Ann Intern Med. 2002;136:565-574.</a:t>
            </a:r>
            <a:endParaRPr b="0" lang="en-US" sz="1400" spc="-1" strike="noStrike">
              <a:solidFill>
                <a:srgbClr val="ffffff"/>
              </a:solidFill>
              <a:latin typeface="Times New Roman"/>
            </a:endParaRPr>
          </a:p>
        </p:txBody>
      </p:sp>
      <p:sp>
        <p:nvSpPr>
          <p:cNvPr id="209" name=""/>
          <p:cNvSpPr/>
          <p:nvPr/>
        </p:nvSpPr>
        <p:spPr>
          <a:xfrm>
            <a:off x="552600" y="5959440"/>
            <a:ext cx="904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697"/>
                </a:solidFill>
                <a:latin typeface="Verdana"/>
              </a:rPr>
              <a:t>*NHANES III=Third US National Health and Nutrition Examination Survey (1988-199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9e697"/>
                </a:solidFill>
                <a:latin typeface="Verdana"/>
              </a:rPr>
              <a:t>†</a:t>
            </a:r>
            <a:r>
              <a:rPr b="1" lang="en-US" sz="1400" spc="-1" strike="noStrike">
                <a:solidFill>
                  <a:srgbClr val="f9e697"/>
                </a:solidFill>
                <a:latin typeface="Verdana"/>
              </a:rPr>
              <a:t>BRFSS=Behavioral Risk Factors Surveillance System (1995)</a:t>
            </a:r>
            <a:endParaRPr b="0" lang="en-US" sz="1400" spc="-1" strike="noStrike">
              <a:solidFill>
                <a:srgbClr val="ffffff"/>
              </a:solidFill>
              <a:latin typeface="Times New Roman"/>
            </a:endParaRPr>
          </a:p>
        </p:txBody>
      </p:sp>
      <p:sp>
        <p:nvSpPr>
          <p:cNvPr id="210" name=""/>
          <p:cNvSpPr/>
          <p:nvPr/>
        </p:nvSpPr>
        <p:spPr>
          <a:xfrm>
            <a:off x="3124080" y="3276720"/>
            <a:ext cx="1295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1.5 %</a:t>
            </a:r>
            <a:endParaRPr b="0" lang="en-US" sz="1800" spc="-1" strike="noStrike">
              <a:solidFill>
                <a:srgbClr val="ffffff"/>
              </a:solidFill>
              <a:latin typeface="Times New Roman"/>
            </a:endParaRPr>
          </a:p>
        </p:txBody>
      </p:sp>
      <p:sp>
        <p:nvSpPr>
          <p:cNvPr id="211" name=""/>
          <p:cNvSpPr/>
          <p:nvPr/>
        </p:nvSpPr>
        <p:spPr>
          <a:xfrm>
            <a:off x="1219320" y="3352680"/>
            <a:ext cx="12952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6 %</a:t>
            </a:r>
            <a:endParaRPr b="0" lang="en-US" sz="1800" spc="-1" strike="noStrike">
              <a:solidFill>
                <a:srgbClr val="ffffff"/>
              </a:solidFill>
              <a:latin typeface="Times New Roman"/>
            </a:endParaRPr>
          </a:p>
        </p:txBody>
      </p:sp>
      <p:sp>
        <p:nvSpPr>
          <p:cNvPr id="212" name=""/>
          <p:cNvSpPr/>
          <p:nvPr/>
        </p:nvSpPr>
        <p:spPr>
          <a:xfrm>
            <a:off x="5638680" y="2819520"/>
            <a:ext cx="1295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2 %</a:t>
            </a:r>
            <a:endParaRPr b="0" lang="en-US" sz="1800" spc="-1" strike="noStrike">
              <a:solidFill>
                <a:srgbClr val="ffffff"/>
              </a:solidFill>
              <a:latin typeface="Times New Roman"/>
            </a:endParaRPr>
          </a:p>
        </p:txBody>
      </p:sp>
      <p:sp>
        <p:nvSpPr>
          <p:cNvPr id="213" name=""/>
          <p:cNvSpPr/>
          <p:nvPr/>
        </p:nvSpPr>
        <p:spPr>
          <a:xfrm>
            <a:off x="7620120" y="3276720"/>
            <a:ext cx="12952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9.4 %</a:t>
            </a:r>
            <a:endParaRPr b="0" lang="en-US" sz="1800" spc="-1" strike="noStrike">
              <a:solidFill>
                <a:srgbClr val="ffffff"/>
              </a:solidFill>
              <a:latin typeface="Times New Roman"/>
            </a:endParaRPr>
          </a:p>
        </p:txBody>
      </p:sp>
      <p:sp>
        <p:nvSpPr>
          <p:cNvPr id="214" name=""/>
          <p:cNvSpPr/>
          <p:nvPr/>
        </p:nvSpPr>
        <p:spPr>
          <a:xfrm>
            <a:off x="5740560" y="3416400"/>
            <a:ext cx="12952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5.6 %</a:t>
            </a:r>
            <a:endParaRPr b="0" lang="en-US" sz="1800" spc="-1" strike="noStrike">
              <a:solidFill>
                <a:srgbClr val="ffffff"/>
              </a:solidFill>
              <a:latin typeface="Times New Roman"/>
            </a:endParaRPr>
          </a:p>
        </p:txBody>
      </p:sp>
      <p:sp>
        <p:nvSpPr>
          <p:cNvPr id="215" name=""/>
          <p:cNvSpPr/>
          <p:nvPr/>
        </p:nvSpPr>
        <p:spPr>
          <a:xfrm>
            <a:off x="228600" y="2590920"/>
            <a:ext cx="12952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6.2 %</a:t>
            </a:r>
            <a:endParaRPr b="0" lang="en-US" sz="1800" spc="-1" strike="noStrike">
              <a:solidFill>
                <a:srgbClr val="ffffff"/>
              </a:solidFill>
              <a:latin typeface="Times New Roman"/>
            </a:endParaRPr>
          </a:p>
        </p:txBody>
      </p:sp>
      <p:sp>
        <p:nvSpPr>
          <p:cNvPr id="216" name=""/>
          <p:cNvSpPr/>
          <p:nvPr/>
        </p:nvSpPr>
        <p:spPr>
          <a:xfrm>
            <a:off x="709560" y="2138400"/>
            <a:ext cx="12952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6.4 %</a:t>
            </a:r>
            <a:endParaRPr b="0" lang="en-US" sz="1800" spc="-1" strike="noStrike">
              <a:solidFill>
                <a:srgbClr val="ffffff"/>
              </a:solidFill>
              <a:latin typeface="Times New Roman"/>
            </a:endParaRPr>
          </a:p>
        </p:txBody>
      </p:sp>
      <p:sp>
        <p:nvSpPr>
          <p:cNvPr id="217" name=""/>
          <p:cNvSpPr/>
          <p:nvPr/>
        </p:nvSpPr>
        <p:spPr>
          <a:xfrm>
            <a:off x="5334120" y="5130720"/>
            <a:ext cx="28191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Hispanic Black</a:t>
            </a:r>
            <a:endParaRPr b="0" lang="en-US" sz="1800" spc="-1" strike="noStrike">
              <a:solidFill>
                <a:srgbClr val="ffffff"/>
              </a:solidFill>
              <a:latin typeface="Times New Roman"/>
            </a:endParaRPr>
          </a:p>
        </p:txBody>
      </p:sp>
      <p:sp>
        <p:nvSpPr>
          <p:cNvPr id="218" name=""/>
          <p:cNvSpPr/>
          <p:nvPr/>
        </p:nvSpPr>
        <p:spPr>
          <a:xfrm>
            <a:off x="5181480" y="2057400"/>
            <a:ext cx="1295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 %</a:t>
            </a:r>
            <a:endParaRPr b="0" lang="en-US" sz="1800" spc="-1" strike="noStrike">
              <a:solidFill>
                <a:srgbClr val="ffffff"/>
              </a:solidFill>
              <a:latin typeface="Times New Roman"/>
            </a:endParaRPr>
          </a:p>
        </p:txBody>
      </p:sp>
      <p:sp>
        <p:nvSpPr>
          <p:cNvPr id="219" name=""/>
          <p:cNvSpPr/>
          <p:nvPr/>
        </p:nvSpPr>
        <p:spPr>
          <a:xfrm>
            <a:off x="6553080" y="5600880"/>
            <a:ext cx="228600" cy="2286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705720" y="5511960"/>
            <a:ext cx="1066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ther</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Persons Initiating Treatment for </a:t>
            </a:r>
            <a:br>
              <a:rPr sz="3200"/>
            </a:br>
            <a:r>
              <a:rPr b="1" lang="en-US" sz="3200" spc="-1" strike="noStrike">
                <a:solidFill>
                  <a:srgbClr val="f5d759"/>
                </a:solidFill>
                <a:latin typeface="Verdana"/>
              </a:rPr>
              <a:t>ESRD Related to Diabetes in the US</a:t>
            </a:r>
            <a:endParaRPr b="1" lang="en-US" sz="3200" spc="-1" strike="noStrike">
              <a:solidFill>
                <a:srgbClr val="f5d759"/>
              </a:solidFill>
              <a:latin typeface="Verdana"/>
            </a:endParaRPr>
          </a:p>
        </p:txBody>
      </p:sp>
      <p:graphicFrame>
        <p:nvGraphicFramePr>
          <p:cNvPr id="90" name=""/>
          <p:cNvGraphicFramePr/>
          <p:nvPr/>
        </p:nvGraphicFramePr>
        <p:xfrm>
          <a:off x="923760" y="1935000"/>
          <a:ext cx="8744040" cy="3899160"/>
        </p:xfrm>
        <a:graphic>
          <a:graphicData uri="http://schemas.openxmlformats.org/presentationml/2006/ole">
            <p:oleObj r:id="rId1" spid="">
              <p:embed/>
              <p:pic>
                <p:nvPicPr>
                  <p:cNvPr id="91" name="" descr=""/>
                  <p:cNvPicPr/>
                  <p:nvPr/>
                </p:nvPicPr>
                <p:blipFill>
                  <a:blip r:embed="rId2"/>
                  <a:stretch/>
                </p:blipFill>
                <p:spPr>
                  <a:xfrm>
                    <a:off x="923760" y="1935000"/>
                    <a:ext cx="8744040" cy="3899160"/>
                  </a:xfrm>
                  <a:prstGeom prst="rect">
                    <a:avLst/>
                  </a:prstGeom>
                  <a:ln w="0">
                    <a:noFill/>
                  </a:ln>
                </p:spPr>
              </p:pic>
            </p:oleObj>
          </a:graphicData>
        </a:graphic>
      </p:graphicFrame>
      <p:sp>
        <p:nvSpPr>
          <p:cNvPr id="92" name=""/>
          <p:cNvSpPr/>
          <p:nvPr/>
        </p:nvSpPr>
        <p:spPr>
          <a:xfrm>
            <a:off x="533520" y="640080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CDC Diabetes Surveillance, 1997.</a:t>
            </a:r>
            <a:endParaRPr b="0" lang="en-US" sz="1400" spc="-1" strike="noStrike">
              <a:solidFill>
                <a:srgbClr val="ffffff"/>
              </a:solidFill>
              <a:latin typeface="Times New Roman"/>
            </a:endParaRPr>
          </a:p>
        </p:txBody>
      </p:sp>
      <p:sp>
        <p:nvSpPr>
          <p:cNvPr id="93"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graphicFrame>
        <p:nvGraphicFramePr>
          <p:cNvPr id="95" name=""/>
          <p:cNvGraphicFramePr/>
          <p:nvPr/>
        </p:nvGraphicFramePr>
        <p:xfrm>
          <a:off x="320760" y="2003400"/>
          <a:ext cx="4674960" cy="4219560"/>
        </p:xfrm>
        <a:graphic>
          <a:graphicData uri="http://schemas.openxmlformats.org/presentationml/2006/ole">
            <p:oleObj r:id="rId1" spid="">
              <p:embed/>
              <p:pic>
                <p:nvPicPr>
                  <p:cNvPr id="96" name="" descr=""/>
                  <p:cNvPicPr/>
                  <p:nvPr/>
                </p:nvPicPr>
                <p:blipFill>
                  <a:blip r:embed="rId2"/>
                  <a:stretch/>
                </p:blipFill>
                <p:spPr>
                  <a:xfrm>
                    <a:off x="320760" y="2003400"/>
                    <a:ext cx="4674960" cy="4219560"/>
                  </a:xfrm>
                  <a:prstGeom prst="rect">
                    <a:avLst/>
                  </a:prstGeom>
                  <a:ln w="0">
                    <a:noFill/>
                  </a:ln>
                </p:spPr>
              </p:pic>
            </p:oleObj>
          </a:graphicData>
        </a:graphic>
      </p:graphicFrame>
      <p:graphicFrame>
        <p:nvGraphicFramePr>
          <p:cNvPr id="97" name=""/>
          <p:cNvGraphicFramePr/>
          <p:nvPr/>
        </p:nvGraphicFramePr>
        <p:xfrm>
          <a:off x="5105520" y="1797120"/>
          <a:ext cx="4773600" cy="4575240"/>
        </p:xfrm>
        <a:graphic>
          <a:graphicData uri="http://schemas.openxmlformats.org/presentationml/2006/ole">
            <p:oleObj r:id="rId3" spid="">
              <p:embed/>
              <p:pic>
                <p:nvPicPr>
                  <p:cNvPr id="98" name="" descr=""/>
                  <p:cNvPicPr/>
                  <p:nvPr/>
                </p:nvPicPr>
                <p:blipFill>
                  <a:blip r:embed="rId4"/>
                  <a:stretch/>
                </p:blipFill>
                <p:spPr>
                  <a:xfrm>
                    <a:off x="5105520" y="1797120"/>
                    <a:ext cx="4773600" cy="4575240"/>
                  </a:xfrm>
                  <a:prstGeom prst="rect">
                    <a:avLst/>
                  </a:prstGeom>
                  <a:ln w="0">
                    <a:noFill/>
                  </a:ln>
                </p:spPr>
              </p:pic>
            </p:oleObj>
          </a:graphicData>
        </a:graphic>
      </p:graphicFrame>
      <p:sp>
        <p:nvSpPr>
          <p:cNvPr id="99" name=""/>
          <p:cNvSpPr/>
          <p:nvPr/>
        </p:nvSpPr>
        <p:spPr>
          <a:xfrm>
            <a:off x="533520" y="6188040"/>
            <a:ext cx="4800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Amos A, McCarty D, Zimmet 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Diabetes Medicine. 1997;14[Suppl5]:S1-85. </a:t>
            </a:r>
            <a:endParaRPr b="0" lang="en-US" sz="1400" spc="-1" strike="noStrike">
              <a:solidFill>
                <a:srgbClr val="ffffff"/>
              </a:solidFill>
              <a:latin typeface="Times New Roman"/>
            </a:endParaRPr>
          </a:p>
        </p:txBody>
      </p:sp>
      <p:sp>
        <p:nvSpPr>
          <p:cNvPr id="100" name=""/>
          <p:cNvSpPr/>
          <p:nvPr/>
        </p:nvSpPr>
        <p:spPr>
          <a:xfrm>
            <a:off x="1910160" y="144792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ype I Diabetes</a:t>
            </a:r>
            <a:endParaRPr b="0" lang="en-US" sz="2400" spc="-1" strike="noStrike">
              <a:solidFill>
                <a:srgbClr val="ffffff"/>
              </a:solidFill>
              <a:latin typeface="Times New Roman"/>
            </a:endParaRPr>
          </a:p>
        </p:txBody>
      </p:sp>
      <p:sp>
        <p:nvSpPr>
          <p:cNvPr id="101" name=""/>
          <p:cNvSpPr/>
          <p:nvPr/>
        </p:nvSpPr>
        <p:spPr>
          <a:xfrm>
            <a:off x="6547320" y="1447920"/>
            <a:ext cx="26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ype II Diabetes</a:t>
            </a:r>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Global Estimates and Projections</a:t>
            </a:r>
            <a:br>
              <a:rPr sz="3200"/>
            </a:br>
            <a:r>
              <a:rPr b="1" lang="en-US" sz="3200" spc="-1" strike="noStrike">
                <a:solidFill>
                  <a:srgbClr val="f5d759"/>
                </a:solidFill>
                <a:latin typeface="Verdana"/>
              </a:rPr>
              <a:t>for Incidence of Diabetes Mellitus</a:t>
            </a:r>
            <a:endParaRPr b="1" lang="en-US" sz="3200" spc="-1" strike="noStrike">
              <a:solidFill>
                <a:srgbClr val="f5d759"/>
              </a:solidFill>
              <a:latin typeface="Verdana"/>
            </a:endParaRPr>
          </a:p>
        </p:txBody>
      </p:sp>
      <p:sp>
        <p:nvSpPr>
          <p:cNvPr id="103"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05" name=""/>
          <p:cNvSpPr/>
          <p:nvPr/>
        </p:nvSpPr>
        <p:spPr>
          <a:xfrm>
            <a:off x="1522440" y="5715000"/>
            <a:ext cx="1276560" cy="33300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MyriaMM_400 RG 600 NO"/>
              </a:rPr>
              <a:t>* p &lt;0.0001</a:t>
            </a:r>
            <a:endParaRPr b="0" lang="en-US" sz="1600" spc="-1" strike="noStrike">
              <a:solidFill>
                <a:srgbClr val="ffffff"/>
              </a:solidFill>
              <a:latin typeface="Times New Roman"/>
            </a:endParaRPr>
          </a:p>
        </p:txBody>
      </p:sp>
      <p:sp>
        <p:nvSpPr>
          <p:cNvPr id="106" name=""/>
          <p:cNvSpPr/>
          <p:nvPr/>
        </p:nvSpPr>
        <p:spPr>
          <a:xfrm>
            <a:off x="533520" y="6188040"/>
            <a:ext cx="4962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United States Renal Data System (USRDS) 2000 Annual Data Report • WWW.USRDS.ORG</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Odds Ratio For ESRD By Race</a:t>
            </a:r>
            <a:br>
              <a:rPr sz="2800"/>
            </a:br>
            <a:r>
              <a:rPr b="1" lang="en-US" sz="2000" spc="-1" strike="noStrike">
                <a:solidFill>
                  <a:srgbClr val="ff9900"/>
                </a:solidFill>
                <a:latin typeface="Verdana"/>
              </a:rPr>
              <a:t>Racial differences in ESRD in the USA from 1990 to 1998</a:t>
            </a:r>
            <a:endParaRPr b="1" lang="en-US" sz="2000" spc="-1" strike="noStrike">
              <a:solidFill>
                <a:srgbClr val="f5d759"/>
              </a:solidFill>
              <a:latin typeface="Verdana"/>
            </a:endParaRPr>
          </a:p>
        </p:txBody>
      </p:sp>
      <p:grpSp>
        <p:nvGrpSpPr>
          <p:cNvPr id="108" name=""/>
          <p:cNvGrpSpPr/>
          <p:nvPr/>
        </p:nvGrpSpPr>
        <p:grpSpPr>
          <a:xfrm>
            <a:off x="2060640" y="1828800"/>
            <a:ext cx="6468840" cy="4114800"/>
            <a:chOff x="2060640" y="1828800"/>
            <a:chExt cx="6468840" cy="4114800"/>
          </a:xfrm>
        </p:grpSpPr>
        <p:graphicFrame>
          <p:nvGraphicFramePr>
            <p:cNvPr id="109" name=""/>
            <p:cNvGraphicFramePr/>
            <p:nvPr/>
          </p:nvGraphicFramePr>
          <p:xfrm>
            <a:off x="2060640" y="1828800"/>
            <a:ext cx="6468840" cy="4114800"/>
          </p:xfrm>
          <a:graphic>
            <a:graphicData uri="http://schemas.openxmlformats.org/presentationml/2006/ole">
              <p:oleObj r:id="rId1" spid="">
                <p:embed/>
                <p:pic>
                  <p:nvPicPr>
                    <p:cNvPr id="110" name="" descr=""/>
                    <p:cNvPicPr/>
                    <p:nvPr/>
                  </p:nvPicPr>
                  <p:blipFill>
                    <a:blip r:embed="rId2"/>
                    <a:stretch/>
                  </p:blipFill>
                  <p:spPr>
                    <a:xfrm>
                      <a:off x="2060640" y="1828800"/>
                      <a:ext cx="6468840" cy="4114800"/>
                    </a:xfrm>
                    <a:prstGeom prst="rect">
                      <a:avLst/>
                    </a:prstGeom>
                    <a:ln w="0">
                      <a:noFill/>
                    </a:ln>
                  </p:spPr>
                </p:pic>
              </p:oleObj>
            </a:graphicData>
          </a:graphic>
        </p:graphicFrame>
        <p:sp>
          <p:nvSpPr>
            <p:cNvPr id="111" name=""/>
            <p:cNvSpPr/>
            <p:nvPr/>
          </p:nvSpPr>
          <p:spPr>
            <a:xfrm>
              <a:off x="2819520" y="4495680"/>
              <a:ext cx="1371600" cy="272160"/>
            </a:xfrm>
            <a:prstGeom prst="rect">
              <a:avLst/>
            </a:prstGeom>
            <a:noFill/>
            <a:ln w="0">
              <a:noFill/>
            </a:ln>
          </p:spPr>
          <p:style>
            <a:lnRef idx="0"/>
            <a:fillRef idx="0"/>
            <a:effectRef idx="0"/>
            <a:fontRef idx="minor"/>
          </p:style>
          <p:txBody>
            <a:bodyPr lIns="89280" rIns="89280" tIns="44640" bIns="44640" anchor="t">
              <a:spAutoFit/>
            </a:bodyPr>
            <a:p>
              <a:pPr algn="ctr">
                <a:lnSpc>
                  <a:spcPct val="100000"/>
                </a:lnSpc>
                <a:spcBef>
                  <a:spcPts val="75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200" spc="-1" strike="noStrike">
                  <a:solidFill>
                    <a:srgbClr val="000000"/>
                  </a:solidFill>
                  <a:latin typeface="Verdana"/>
                </a:rPr>
                <a:t>reference</a:t>
              </a:r>
              <a:endParaRPr b="0" lang="en-US" sz="1200" spc="-1" strike="noStrike">
                <a:solidFill>
                  <a:srgbClr val="ffffff"/>
                </a:solidFill>
                <a:latin typeface="Times New Roman"/>
              </a:endParaRPr>
            </a:p>
          </p:txBody>
        </p:sp>
        <p:sp>
          <p:nvSpPr>
            <p:cNvPr id="112" name=""/>
            <p:cNvSpPr/>
            <p:nvPr/>
          </p:nvSpPr>
          <p:spPr>
            <a:xfrm>
              <a:off x="4964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Times New Roman"/>
              </a:endParaRPr>
            </a:p>
          </p:txBody>
        </p:sp>
        <p:sp>
          <p:nvSpPr>
            <p:cNvPr id="113" name=""/>
            <p:cNvSpPr/>
            <p:nvPr/>
          </p:nvSpPr>
          <p:spPr>
            <a:xfrm>
              <a:off x="6336000" y="2514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Times New Roman"/>
              </a:endParaRPr>
            </a:p>
          </p:txBody>
        </p:sp>
        <p:sp>
          <p:nvSpPr>
            <p:cNvPr id="114" name=""/>
            <p:cNvSpPr/>
            <p:nvPr/>
          </p:nvSpPr>
          <p:spPr>
            <a:xfrm>
              <a:off x="7696080" y="3733920"/>
              <a:ext cx="34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Times New Roman"/>
              </a:endParaRPr>
            </a:p>
          </p:txBody>
        </p:sp>
        <p:sp>
          <p:nvSpPr>
            <p:cNvPr id="115" name=""/>
            <p:cNvSpPr/>
            <p:nvPr/>
          </p:nvSpPr>
          <p:spPr>
            <a:xfrm>
              <a:off x="3048120" y="4486320"/>
              <a:ext cx="4952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18" name=""/>
          <p:cNvSpPr/>
          <p:nvPr/>
        </p:nvSpPr>
        <p:spPr>
          <a:xfrm>
            <a:off x="609480" y="130320"/>
            <a:ext cx="9372600" cy="1266840"/>
          </a:xfrm>
          <a:prstGeom prst="rect">
            <a:avLst/>
          </a:prstGeom>
          <a:noFill/>
          <a:ln w="0">
            <a:noFill/>
          </a:ln>
          <a:effectLst>
            <a:outerShdw dist="153753" dir="2700000" blurRad="0" rotWithShape="0">
              <a:srgbClr val="000000"/>
            </a:outerShdw>
          </a:effectLst>
        </p:spPr>
        <p:style>
          <a:lnRef idx="0"/>
          <a:fillRef idx="0"/>
          <a:effectRef idx="0"/>
          <a:fontRef idx="minor"/>
        </p:style>
        <p:txBody>
          <a:bodyPr lIns="89280" rIns="89280" tIns="44640" bIns="44640" anchor="b">
            <a:noAutofit/>
          </a:bodyPr>
          <a:p>
            <a:pPr>
              <a:lnSpc>
                <a:spcPct val="9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762120" y="15192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d759"/>
                </a:solidFill>
                <a:latin typeface="Verdana"/>
              </a:rPr>
              <a:t>Crude Incidence Rates of </a:t>
            </a:r>
            <a:br>
              <a:rPr sz="2800"/>
            </a:br>
            <a:r>
              <a:rPr b="1" lang="en-US" sz="2800" spc="-1" strike="noStrike">
                <a:solidFill>
                  <a:srgbClr val="f5d759"/>
                </a:solidFill>
                <a:latin typeface="Verdana"/>
              </a:rPr>
              <a:t>End Stage Renal Disease, By Race</a:t>
            </a:r>
            <a:br>
              <a:rPr sz="2000"/>
            </a:br>
            <a:r>
              <a:rPr b="1" lang="en-US" sz="2000" spc="-1" strike="noStrike">
                <a:solidFill>
                  <a:srgbClr val="ff9900"/>
                </a:solidFill>
                <a:latin typeface="Verdana"/>
              </a:rPr>
              <a:t>Racial differences in ESRD in the USA from 1990 to 1998</a:t>
            </a:r>
            <a:r>
              <a:rPr b="1" lang="en-US" sz="2000" spc="-1" strike="noStrike">
                <a:solidFill>
                  <a:srgbClr val="f5d759"/>
                </a:solidFill>
                <a:latin typeface="Verdana"/>
              </a:rPr>
              <a:t> </a:t>
            </a:r>
            <a:endParaRPr b="1" lang="en-US" sz="2000" spc="-1" strike="noStrike">
              <a:solidFill>
                <a:srgbClr val="f5d759"/>
              </a:solidFill>
              <a:latin typeface="Verdana"/>
            </a:endParaRPr>
          </a:p>
        </p:txBody>
      </p:sp>
      <p:graphicFrame>
        <p:nvGraphicFramePr>
          <p:cNvPr id="120" name=""/>
          <p:cNvGraphicFramePr/>
          <p:nvPr/>
        </p:nvGraphicFramePr>
        <p:xfrm>
          <a:off x="380880" y="1600200"/>
          <a:ext cx="9448920" cy="4446720"/>
        </p:xfrm>
        <a:graphic>
          <a:graphicData uri="http://schemas.openxmlformats.org/presentationml/2006/ole">
            <p:oleObj r:id="rId1" spid="">
              <p:embed/>
              <p:pic>
                <p:nvPicPr>
                  <p:cNvPr id="121" name="" descr=""/>
                  <p:cNvPicPr/>
                  <p:nvPr/>
                </p:nvPicPr>
                <p:blipFill>
                  <a:blip r:embed="rId2"/>
                  <a:stretch/>
                </p:blipFill>
                <p:spPr>
                  <a:xfrm>
                    <a:off x="380880" y="1600200"/>
                    <a:ext cx="9448920" cy="4446720"/>
                  </a:xfrm>
                  <a:prstGeom prst="rect">
                    <a:avLst/>
                  </a:prstGeom>
                  <a:ln w="0">
                    <a:noFill/>
                  </a:ln>
                </p:spPr>
              </p:pic>
            </p:oleObj>
          </a:graphicData>
        </a:graphic>
      </p:graphicFrame>
      <p:sp>
        <p:nvSpPr>
          <p:cNvPr id="122" name=""/>
          <p:cNvSpPr/>
          <p:nvPr/>
        </p:nvSpPr>
        <p:spPr>
          <a:xfrm>
            <a:off x="533520" y="6188040"/>
            <a:ext cx="4962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United States Renal Data System (USRDS) 2000 Annual Data Report • WWW.USRDS.ORG</a:t>
            </a:r>
            <a:endParaRPr b="0" lang="en-US" sz="1400" spc="-1" strike="noStrike">
              <a:solidFill>
                <a:srgbClr val="ffffff"/>
              </a:solidFill>
              <a:latin typeface="Times New Roman"/>
            </a:endParaRPr>
          </a:p>
        </p:txBody>
      </p:sp>
      <p:sp>
        <p:nvSpPr>
          <p:cNvPr id="123"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d759"/>
                </a:solidFill>
                <a:latin typeface="Verdana"/>
              </a:rPr>
              <a:t>Racial Distribution for Comorbidities </a:t>
            </a:r>
            <a:br>
              <a:rPr sz="2800"/>
            </a:br>
            <a:r>
              <a:rPr b="1" lang="en-US" sz="2800" spc="-1" strike="noStrike">
                <a:solidFill>
                  <a:srgbClr val="f5d759"/>
                </a:solidFill>
                <a:latin typeface="Verdana"/>
              </a:rPr>
              <a:t>In Dialysis Patients (1999)</a:t>
            </a:r>
            <a:endParaRPr b="1" lang="en-US" sz="2800" spc="-1" strike="noStrike">
              <a:solidFill>
                <a:srgbClr val="f5d759"/>
              </a:solidFill>
              <a:latin typeface="Verdana"/>
            </a:endParaRPr>
          </a:p>
        </p:txBody>
      </p:sp>
      <p:graphicFrame>
        <p:nvGraphicFramePr>
          <p:cNvPr id="126" name=""/>
          <p:cNvGraphicFramePr/>
          <p:nvPr/>
        </p:nvGraphicFramePr>
        <p:xfrm>
          <a:off x="771480" y="1371600"/>
          <a:ext cx="8744040" cy="4114800"/>
        </p:xfrm>
        <a:graphic>
          <a:graphicData uri="http://schemas.openxmlformats.org/presentationml/2006/ole">
            <p:oleObj r:id="rId1" spid="">
              <p:embed/>
              <p:pic>
                <p:nvPicPr>
                  <p:cNvPr id="127" name="" descr=""/>
                  <p:cNvPicPr/>
                  <p:nvPr/>
                </p:nvPicPr>
                <p:blipFill>
                  <a:blip r:embed="rId2"/>
                  <a:stretch/>
                </p:blipFill>
                <p:spPr>
                  <a:xfrm>
                    <a:off x="771480" y="1371600"/>
                    <a:ext cx="8744040" cy="4114800"/>
                  </a:xfrm>
                  <a:prstGeom prst="rect">
                    <a:avLst/>
                  </a:prstGeom>
                  <a:ln w="0">
                    <a:noFill/>
                  </a:ln>
                </p:spPr>
              </p:pic>
            </p:oleObj>
          </a:graphicData>
        </a:graphic>
      </p:graphicFrame>
      <p:sp>
        <p:nvSpPr>
          <p:cNvPr id="128" name=""/>
          <p:cNvSpPr/>
          <p:nvPr/>
        </p:nvSpPr>
        <p:spPr>
          <a:xfrm>
            <a:off x="533520" y="5562720"/>
            <a:ext cx="92199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Diabetes mellitus as a primary diagnosis or contributing diagnosi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iabetes mellitus that requires insulin treatment, which is a subset of the diabetes category.</a:t>
            </a:r>
            <a:endParaRPr b="0" lang="en-US" sz="1200" spc="-1" strike="noStrike">
              <a:solidFill>
                <a:srgbClr val="ffffff"/>
              </a:solidFill>
              <a:latin typeface="Times New Roman"/>
            </a:endParaRPr>
          </a:p>
        </p:txBody>
      </p:sp>
      <p:sp>
        <p:nvSpPr>
          <p:cNvPr id="129" name=""/>
          <p:cNvSpPr/>
          <p:nvPr/>
        </p:nvSpPr>
        <p:spPr>
          <a:xfrm>
            <a:off x="1628640" y="5791320"/>
            <a:ext cx="20808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533520" y="6188040"/>
            <a:ext cx="4962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ff"/>
                </a:solidFill>
                <a:latin typeface="Verdana"/>
              </a:rPr>
              <a:t>United States Renal Data System (USRDS) 2000 Annual Data Report • WWW.USRDS.ORG</a:t>
            </a:r>
            <a:endParaRPr b="0" lang="en-US" sz="1400" spc="-1" strike="noStrike">
              <a:solidFill>
                <a:srgbClr val="ffffff"/>
              </a:solidFill>
              <a:latin typeface="Times New Roman"/>
            </a:endParaRPr>
          </a:p>
        </p:txBody>
      </p:sp>
      <p:sp>
        <p:nvSpPr>
          <p:cNvPr id="131"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CV Mortality in General Population (GP) &amp; Dialysis Patients, By Race </a:t>
            </a:r>
            <a:endParaRPr b="1" lang="en-US" sz="3200" spc="-1" strike="noStrike">
              <a:solidFill>
                <a:srgbClr val="f5d759"/>
              </a:solidFill>
              <a:latin typeface="Verdana"/>
            </a:endParaRPr>
          </a:p>
        </p:txBody>
      </p:sp>
      <p:graphicFrame>
        <p:nvGraphicFramePr>
          <p:cNvPr id="134" name=""/>
          <p:cNvGraphicFramePr/>
          <p:nvPr/>
        </p:nvGraphicFramePr>
        <p:xfrm>
          <a:off x="1747800" y="1676520"/>
          <a:ext cx="7162920" cy="4370400"/>
        </p:xfrm>
        <a:graphic>
          <a:graphicData uri="http://schemas.openxmlformats.org/presentationml/2006/ole">
            <p:oleObj r:id="rId1" spid="">
              <p:embed/>
              <p:pic>
                <p:nvPicPr>
                  <p:cNvPr id="135" name="" descr=""/>
                  <p:cNvPicPr/>
                  <p:nvPr/>
                </p:nvPicPr>
                <p:blipFill>
                  <a:blip r:embed="rId2"/>
                  <a:stretch/>
                </p:blipFill>
                <p:spPr>
                  <a:xfrm>
                    <a:off x="1747800" y="1676520"/>
                    <a:ext cx="7162920" cy="4370400"/>
                  </a:xfrm>
                  <a:prstGeom prst="rect">
                    <a:avLst/>
                  </a:prstGeom>
                  <a:ln w="0">
                    <a:noFill/>
                  </a:ln>
                </p:spPr>
              </p:pic>
            </p:oleObj>
          </a:graphicData>
        </a:graphic>
      </p:graphicFrame>
      <p:sp>
        <p:nvSpPr>
          <p:cNvPr id="136" name=""/>
          <p:cNvSpPr/>
          <p:nvPr/>
        </p:nvSpPr>
        <p:spPr>
          <a:xfrm>
            <a:off x="533520" y="6404040"/>
            <a:ext cx="5715000" cy="302760"/>
          </a:xfrm>
          <a:prstGeom prst="rect">
            <a:avLst/>
          </a:prstGeom>
          <a:noFill/>
          <a:ln w="0">
            <a:noFill/>
          </a:ln>
        </p:spPr>
        <p:style>
          <a:lnRef idx="0"/>
          <a:fillRef idx="0"/>
          <a:effectRef idx="0"/>
          <a:fontRef idx="minor"/>
        </p:style>
        <p:txBody>
          <a:bodyPr lIns="89280" rIns="89280" tIns="44640" bIns="4464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400" spc="-1" strike="noStrike">
                <a:solidFill>
                  <a:srgbClr val="66ccff"/>
                </a:solidFill>
                <a:latin typeface="Verdana"/>
              </a:rPr>
              <a:t>Sarnak MJ, Levey AS. Semin Dial. 1999;12:69-76.</a:t>
            </a:r>
            <a:endParaRPr b="0" lang="en-US" sz="1400" spc="-1" strike="noStrike">
              <a:solidFill>
                <a:srgbClr val="ffffff"/>
              </a:solidFill>
              <a:latin typeface="Times New Roman"/>
            </a:endParaRPr>
          </a:p>
        </p:txBody>
      </p:sp>
      <p:sp>
        <p:nvSpPr>
          <p:cNvPr id="137" name=""/>
          <p:cNvSpPr/>
          <p:nvPr/>
        </p:nvSpPr>
        <p:spPr>
          <a:xfrm>
            <a:off x="533520" y="1371600"/>
            <a:ext cx="92199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267600" y="6248520"/>
            <a:ext cx="32572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4"/>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24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5d759"/>
                </a:solidFill>
                <a:latin typeface="Verdana"/>
              </a:rPr>
              <a:t>Renal Diseases in Hypertension</a:t>
            </a:r>
            <a:br>
              <a:rPr sz="3200"/>
            </a:br>
            <a:r>
              <a:rPr b="1" lang="en-US" sz="3200" spc="-1" strike="noStrike">
                <a:solidFill>
                  <a:srgbClr val="f5d759"/>
                </a:solidFill>
                <a:latin typeface="Verdana"/>
              </a:rPr>
              <a:t>Core Concepts of Treatment</a:t>
            </a:r>
            <a:endParaRPr b="1" lang="en-US" sz="3200" spc="-1" strike="noStrike">
              <a:solidFill>
                <a:srgbClr val="f5d759"/>
              </a:solidFill>
              <a:latin typeface="Verdana"/>
            </a:endParaRPr>
          </a:p>
        </p:txBody>
      </p:sp>
      <p:sp>
        <p:nvSpPr>
          <p:cNvPr id="140" name="PlaceHolder 2"/>
          <p:cNvSpPr>
            <a:spLocks noGrp="1"/>
          </p:cNvSpPr>
          <p:nvPr>
            <p:ph/>
          </p:nvPr>
        </p:nvSpPr>
        <p:spPr>
          <a:xfrm>
            <a:off x="771120" y="1676520"/>
            <a:ext cx="874404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ypertension is an independent variable that predicts long-term decline in renal fun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teinuria is also an independent variable that predicts long-term decline in renal fun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tion of blood pressure reduces both cardiovascular and renal risk</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tion of proteinuria may reduce both cardiovascular and renal risk</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ative renal hypoperfusion during initial stages of therapy for hypertension is associated with a transient limited rise in serum creatinine and is not a reason to stop therapy</a:t>
            </a:r>
            <a:endParaRPr b="0" lang="en-US" sz="2000" spc="-1" strike="noStrike">
              <a:solidFill>
                <a:srgbClr val="ffffff"/>
              </a:solidFill>
              <a:latin typeface="Verdana"/>
            </a:endParaRPr>
          </a:p>
        </p:txBody>
      </p:sp>
      <p:sp>
        <p:nvSpPr>
          <p:cNvPr id="141" name=""/>
          <p:cNvSpPr/>
          <p:nvPr/>
        </p:nvSpPr>
        <p:spPr>
          <a:xfrm>
            <a:off x="600120" y="1371600"/>
            <a:ext cx="92203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705720" y="6400800"/>
            <a:ext cx="281916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Verdana"/>
              </a:rPr>
              <a:t>www.hypertensiononline.org</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15:36:47Z</dcterms:created>
  <dc:creator>twolford</dc:creator>
  <dc:description/>
  <dc:language>en-US</dc:language>
  <cp:lastModifiedBy>SlideBuilder</cp:lastModifiedBy>
  <dcterms:modified xsi:type="dcterms:W3CDTF">2003-09-14T02:40:47Z</dcterms:modified>
  <cp:revision>256</cp:revision>
  <dc:subject/>
  <dc:title>PowerPoint Presentation</dc:title>
</cp:coreProperties>
</file>