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E5A3E-D141-4BBC-83AC-92440D779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0EDD7-D93B-4100-9267-03696E3E4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38383-F4AF-4542-96F2-A7A632668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98299-9487-4843-8774-8BAD65015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600D6-312B-4FCA-A5FC-CFBF440A9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171D7-D03F-4DFC-955F-2E0AED183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3B7F1-9E10-44AF-B5AC-7D3ACF95A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8F542-0AAB-430B-8207-6667D2204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28FE3-3473-4A32-A9D7-D9660E893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0BBFE-3A43-4A35-8C47-B62C02337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34842-C5E7-42A6-BD4D-7FABFD754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5806-EFB9-43DF-8A35-D64E64E18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D3657-13D0-4FBE-8BFF-83D9FB6B2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39607-D956-483E-8841-CE375A2DA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923AC-5A13-40B6-AAA4-5C4D33C92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DEC7B-46AA-4D90-B7B8-1EB08E3AE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0C92A-E315-42B2-A82D-893605D10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4C04-B890-4CE9-8540-7CAB0214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64460-0622-44E5-9784-C2825A84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A09C5-F8A0-4E21-B66C-59F6E941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64B4-7886-4FF7-95C5-4A1928E7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32FF-F469-493D-B420-C69F558D2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5E68-6434-4F5E-993A-ACA0AB78D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E18B-8D36-4F73-B213-361BB201B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71A5-C82A-4C0F-A799-9A8665847E6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C6DF-42B4-4862-846B-D590CB0825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The Assesment of the psychiatric patient</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Level III</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r M. Mathai- Department of psychiatry </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y of presenting illness</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Chronological order should inclu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Ons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atte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xcercerbating fac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Treatment and respon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Vegetative symptom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ast Psychiatric and Medical history</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ll major or chronic IIlnesses (physical and psychological) should inclu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missions, investigations and treaments if known, surgical procedur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mily history</a:t>
            </a:r>
            <a:br>
              <a:rPr sz="3200"/>
            </a:br>
            <a:endParaRPr b="1" lang="en-US" sz="32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ther, Father all siblings Alive or dead- grandparents if necesarry (may be presented in the form of a gen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formation on family to include- Name Age, sex, school, occupation, marital status, current health condition, major chronic illnesses psychiatric morbidity including substance abu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ersonal history</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egnancy and birth- wanted or unwanted, related problems, Mothering per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ilestones achieved- head support, sitting, standing without support, crawling, walking, speech, toilet training (dry during the day and at nigh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ersonal history-cont</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hildhood to puberty- school starting age, problems with separation, relating to other children and reaction to authority. History of school refusal or truancy. Performance and Finishing grades (Std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dolescence- puberty, menstraution in girls, masturbation and related feelings, rites of passage, early sexual relationships and initiation of sexual behaviour, peer group, school and achievements, extra curriculum, social activities, use of substances, Adolescence crisis, trouble with authority, change of school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inishing grades and further training</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ersonal history- cont</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rital history- Age at marriage, choice of partner, length of courting period, form of marriage,  living arrangements. Name and age and occupation of partner. Attitude of in-laws- support and conflict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atisfaction in marriage, communication and sex life. Birth of children and use of contraceptiv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ames of children, birth dates, schooling and heal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exual hist- Additional sexual history if a sexual disorder is apparent- Satisfaction in act and frequency, attitudes towards sex in general moral and religious (in females history of FGM in practicing communities may be relevan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ersonal history- cont</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ccupation- age at first employment, job changes, nature of current job, job satisfaction, relationship to employer and co-workers, absentis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sent life circumstances- financial, living conditions, social life and hobbies, political and religious belief system</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abits- Substance use and ab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rensic histor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remorbid personality- personality of patient before onset of illnes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ntal State Examination</a:t>
            </a: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Observation and Liste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General appearance- dress and grooming, gait, posture, facial expressions (tics, eye contact etc) and motor activities (restlessness, agitation, retarded, catatonic, stereotypes (purposeless repetitive) mannerisms (goal oriented), general state of awaren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apport and Speech</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stablishment of </a:t>
            </a:r>
            <a:r>
              <a:rPr b="1" lang="de-DE" sz="2400" spc="-1" strike="noStrike">
                <a:solidFill>
                  <a:srgbClr val="003366"/>
                </a:solidFill>
                <a:latin typeface="Arial"/>
              </a:rPr>
              <a:t>Rapport-</a:t>
            </a:r>
            <a:r>
              <a:rPr b="0" lang="de-DE" sz="2400" spc="-1" strike="noStrike">
                <a:solidFill>
                  <a:srgbClr val="003366"/>
                </a:solidFill>
                <a:latin typeface="Arial"/>
              </a:rPr>
              <a:t> willingness to communicate with each other with good eye contac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Speec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herenc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at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itc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volum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larit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bnormali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ntal State Examination- cont</a:t>
            </a:r>
            <a:endParaRPr b="1" lang="en-US" sz="32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3a. </a:t>
            </a:r>
            <a:r>
              <a:rPr b="0" lang="en-GB" sz="2800" spc="-1" strike="noStrike">
                <a:solidFill>
                  <a:srgbClr val="003366"/>
                </a:solidFill>
                <a:latin typeface="Arial"/>
              </a:rPr>
              <a:t>Mood- subjective expression of emotion: normal, elated, euphoric, anxiety, anger, depres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3b. Affect- objective expression of emotion- appropriate, inappropriate, sad, restricted, blunted, flat, labile, perplexed, suspici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ffect may be congruent or incongruent to moo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sychiatric assessment-tool of diagnosis, management, prognosis determination and follow-up of a psychiatric pati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st important tool the psychiatric health worker has- based on listening and obser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econdary tools include- psychometric tests, lab tests and other investig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ought- Process and Content</a:t>
            </a: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roc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low of ideas- rate: accelerated-racing, slowed down-retarded-mute, blocking, circumstantiality (tedious elaboration of details), perserveration (word or idea persists beyond the point of releva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ought interference- thought broadcast, insertion and withdrawa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quality of associations- refers to the relationship between one thought and the other- loosening of association, flight of ideas, word salad, neologisms, echolal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ought content</a:t>
            </a:r>
            <a:endParaRPr b="1" lang="en-US" sz="3600" spc="-1" strike="noStrike">
              <a:solidFill>
                <a:srgbClr val="006666"/>
              </a:solidFill>
              <a:latin typeface="Arial"/>
            </a:endParaRPr>
          </a:p>
        </p:txBody>
      </p:sp>
      <p:sp>
        <p:nvSpPr>
          <p:cNvPr id="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ought content- pre-occupations, obsessions, delusions (gradiose, paranoid/persecutory, morbid/nihilisitic), ideas of reference, phobias, somatic concerns, suicidal or homicidal ide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Arial"/>
              </a:rPr>
              <a:t>Disorders of </a:t>
            </a:r>
            <a:r>
              <a:rPr b="1" lang="en-GB" sz="3200" spc="-1" strike="noStrike">
                <a:solidFill>
                  <a:srgbClr val="006666"/>
                </a:solidFill>
                <a:latin typeface="Arial"/>
              </a:rPr>
              <a:t>Perception</a:t>
            </a:r>
            <a:br>
              <a:rPr sz="3200"/>
            </a:br>
            <a:endParaRPr b="1" lang="en-US" sz="3200" spc="-1" strike="noStrike">
              <a:solidFill>
                <a:srgbClr val="006666"/>
              </a:solidFill>
              <a:latin typeface="Arial"/>
            </a:endParaRPr>
          </a:p>
        </p:txBody>
      </p:sp>
      <p:sp>
        <p:nvSpPr>
          <p:cNvPr id="1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arely do patients volunteer disorders of perceptions and it is therefore important to enquire very specific for th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llu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allucinations- Vision, hearing/auditory, taste/gastatory, Sensory/tactile/somatic, smell,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personalisation- ‘as if not the normal self’, derealisation- as if world around him has chang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Cognitive functions</a:t>
            </a:r>
            <a:br>
              <a:rPr sz="3200"/>
            </a:br>
            <a:endParaRPr b="1" lang="en-US" sz="3200" spc="-1" strike="noStrike">
              <a:solidFill>
                <a:srgbClr val="006666"/>
              </a:solidFill>
              <a:latin typeface="Arial"/>
            </a:endParaRPr>
          </a:p>
        </p:txBody>
      </p:sp>
      <p:sp>
        <p:nvSpPr>
          <p:cNvPr id="14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ensorium- disturbances of conciousness. Mild clouding – stupor or com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rientation in time place and pers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ttention concentration- serial 7, or serial 3, spell WORLD backwards or days of week backward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emory- immediate (recall, recent and remo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lligence- general level of intelligenc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Judgement- understanding the consequences of behaviour- simple test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bstract thinking- interpret a common say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sight- awareness about his illness and its implic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ychiatric formulation</a:t>
            </a:r>
            <a:endParaRPr b="1" lang="en-US" sz="3600" spc="-1" strike="noStrike">
              <a:solidFill>
                <a:srgbClr val="006666"/>
              </a:solidFill>
              <a:latin typeface="Arial"/>
            </a:endParaRPr>
          </a:p>
        </p:txBody>
      </p:sp>
      <p:sp>
        <p:nvSpPr>
          <p:cNvPr id="1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ummarise all the significant findings- in history and MSE- to relate who the person is, why he/she is seeking help, the significant people and events in his life that have contributed to his psychological wellfare and the treatment that he may have received in the past and the outc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ositive findings and important negative finding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Multiaxial diagnosis</a:t>
            </a:r>
            <a:br>
              <a:rPr sz="3200"/>
            </a:br>
            <a:endParaRPr b="1" lang="en-US" sz="32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xis I- Clinical disorders. Other conditions that may be a focus of clinical atten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xis II- Personality disorders. Mental retard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xis III- General medical conditions- relevant to understanding and managemnt of pati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xis IV-Psychosocial and environmental problem- relevant to current illmness as stressors or contribute to Axis 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xis V- Global Assesment of Functioning- overall level of functioning- use GAF Scale- based on severity of symptoms and functioning. Lowest- 10-1, highest 100-91</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bal assesment of functioning</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oks at psychological social and occupational functioning and not impairment of functioning due to physical or environmental limitations</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ting based 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mptom severity</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ctioning</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tings should take the worst of the 2</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tings should be for current period</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F- scale: Within normality</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91: No symptoms. Superior functioning in a wide range of activities, has life‘s problems under control; positive qualities </a:t>
            </a:r>
            <a:r>
              <a:rPr b="0" i="1" lang="en-US" sz="2000" spc="-1" strike="noStrike">
                <a:solidFill>
                  <a:srgbClr val="003366"/>
                </a:solidFill>
                <a:latin typeface="Arial"/>
              </a:rPr>
              <a:t>(being sought by others)</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0-81: Absent or minimal symptoms. Good functioning in all areas, socially active and effective, generally satisfied with life, no more than every day problems or concerns</a:t>
            </a: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0-71: If present-Symptoms transient and expectable reactions to psychosocial stressors, no more than slight impairment in social occupational functioning </a:t>
            </a:r>
            <a:r>
              <a:rPr b="0" i="1" lang="en-US" sz="2000" spc="-1" strike="noStrike">
                <a:solidFill>
                  <a:srgbClr val="003366"/>
                </a:solidFill>
                <a:latin typeface="Arial"/>
              </a:rPr>
              <a:t>(e.g. falling behind in clas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F- Scale: Mild to Moderate</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70-61: mild symptoms </a:t>
            </a:r>
            <a:r>
              <a:rPr b="0" i="1" lang="en-US" sz="2400" spc="-1" strike="noStrike">
                <a:solidFill>
                  <a:srgbClr val="003366"/>
                </a:solidFill>
                <a:latin typeface="Arial"/>
              </a:rPr>
              <a:t>( e.g. depressed mood or insomnia)</a:t>
            </a:r>
            <a:r>
              <a:rPr b="0" lang="en-US" sz="2800" spc="-1" strike="noStrike">
                <a:solidFill>
                  <a:srgbClr val="003366"/>
                </a:solidFill>
                <a:latin typeface="Arial"/>
              </a:rPr>
              <a:t> or some difficult in social occupational or school functioning. Has meaningful interpersonal rel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51: moderate symptoms </a:t>
            </a:r>
            <a:r>
              <a:rPr b="0" i="1" lang="en-US" sz="2400" spc="-1" strike="noStrike">
                <a:solidFill>
                  <a:srgbClr val="003366"/>
                </a:solidFill>
                <a:latin typeface="Arial"/>
              </a:rPr>
              <a:t>(e.g. circumstantial speech, occ. panic attacks)</a:t>
            </a:r>
            <a:r>
              <a:rPr b="0" lang="en-US" sz="2800" spc="-1" strike="noStrike">
                <a:solidFill>
                  <a:srgbClr val="003366"/>
                </a:solidFill>
                <a:latin typeface="Arial"/>
              </a:rPr>
              <a:t> or moderate difficulty in social occupational or school functioning (e.g. few friends, conflicts with pe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F-Scale: Serious to Severe</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0-41: Serious symptoms </a:t>
            </a:r>
            <a:r>
              <a:rPr b="0" i="1" lang="en-US" sz="2000" spc="-1" strike="noStrike">
                <a:solidFill>
                  <a:srgbClr val="003366"/>
                </a:solidFill>
                <a:latin typeface="Arial"/>
              </a:rPr>
              <a:t>(e.g. suicidal ideations, obsessional rituals, frequent shop lifting)</a:t>
            </a:r>
            <a:r>
              <a:rPr b="0" lang="en-US" sz="2400" spc="-1" strike="noStrike">
                <a:solidFill>
                  <a:srgbClr val="003366"/>
                </a:solidFill>
                <a:latin typeface="Arial"/>
              </a:rPr>
              <a:t> OR serious impairments in social occupational or school functioning </a:t>
            </a:r>
            <a:r>
              <a:rPr b="0" i="1" lang="en-US" sz="2000" spc="-1" strike="noStrike">
                <a:solidFill>
                  <a:srgbClr val="003366"/>
                </a:solidFill>
                <a:latin typeface="Arial"/>
              </a:rPr>
              <a:t>(e.g.no friends, inability to keep job)</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31: Severe impairment in reality testing or communication </a:t>
            </a:r>
            <a:r>
              <a:rPr b="0" i="1" lang="en-US" sz="2400" spc="-1" strike="noStrike">
                <a:solidFill>
                  <a:srgbClr val="003366"/>
                </a:solidFill>
                <a:latin typeface="Arial"/>
              </a:rPr>
              <a:t>(e.g. speech illogical, obscure, irrelevant) </a:t>
            </a:r>
            <a:r>
              <a:rPr b="0" lang="en-US" sz="2400" spc="-1" strike="noStrike">
                <a:solidFill>
                  <a:srgbClr val="003366"/>
                </a:solidFill>
                <a:latin typeface="Arial"/>
              </a:rPr>
              <a:t>OR- major impairments in several areas such as work or school or family relations or judgement, thinking or moo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Important elements of a Psychiatric assesment</a:t>
            </a:r>
            <a:endParaRPr b="1" lang="en-US" sz="32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setting- space and pers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sychiatric inter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ental state examin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F- Scale  Psychotic level</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21: Behaviour considerably influenced by delusions or hallucinations or serious impairment in communication and judgement OR inability to function in almost all areas (</a:t>
            </a:r>
            <a:r>
              <a:rPr b="0" i="1" lang="en-US" sz="2000" spc="-1" strike="noStrike">
                <a:solidFill>
                  <a:srgbClr val="003366"/>
                </a:solidFill>
                <a:latin typeface="Arial"/>
              </a:rPr>
              <a:t>stays in bed the whole day, no job, no friend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1: Some danger of hurting self and others </a:t>
            </a:r>
            <a:r>
              <a:rPr b="0" i="1" lang="en-US" sz="2000" spc="-1" strike="noStrike">
                <a:solidFill>
                  <a:srgbClr val="003366"/>
                </a:solidFill>
                <a:latin typeface="Arial"/>
              </a:rPr>
              <a:t>(e.g. suicidal attempts, frequent violence, manic excitement)</a:t>
            </a:r>
            <a:r>
              <a:rPr b="0" lang="en-US" sz="2400" spc="-1" strike="noStrike">
                <a:solidFill>
                  <a:srgbClr val="003366"/>
                </a:solidFill>
                <a:latin typeface="Arial"/>
              </a:rPr>
              <a:t> or ocassionally fails to maintain minimal hygiene or gross impairment in communic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1: Persistent danger of hurting self and others, persistent inability to maintain minimal hygien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tting- refers to space and persons present during an inter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oom, furnishing, lighting, dress, sitting arrangement- should provide an atmosphere of privacy and confidenti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rsons present- Patient, Mental health, worker/s, accompanying pers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syhiatric Interview</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General attitu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sychiatric histo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llaborative hi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neral attitude</a:t>
            </a: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Geared towards establishing a good rappor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utual respect, understanding and acceptan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intaining eye contact withtout star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apacity to listen attentively and maintain concentration seeking clarification instead of assuming to know what patient mean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Giving patient space to express their feeling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mpathy- sensing the patients inner world of private personal meanings ‘as if’ it were your ow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voiding arguments, avoiding being judgemental or moralisti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Treating sensitive subjects with sensitivit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olerating silenc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aborative Histor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accompany the main history or collected at later dates depending on the circumsta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Psychiatric interview- Introduction</a:t>
            </a:r>
            <a:endParaRPr b="1" lang="en-US" sz="32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mographic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o is this person?- Name, age, sex, marital status, residence, religion, occu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did they get here?- Source of referral and circumstan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senting/chief complaints or Allegations</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did the patient or accompanying person seek help at this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the duration of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tails of problems, Precipitating factors and alleviating facto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20:05:24Z</dcterms:created>
  <dc:creator>Thoni</dc:creator>
  <dc:description/>
  <dc:language>en-US</dc:language>
  <cp:lastModifiedBy>Thoni</cp:lastModifiedBy>
  <dcterms:modified xsi:type="dcterms:W3CDTF">2012-01-18T07:08:08Z</dcterms:modified>
  <cp:revision>8</cp:revision>
  <dc:subject/>
  <dc:title>The Assesment of the psychiatric patient</dc:title>
</cp:coreProperties>
</file>